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6002000" cy="11314113"/>
  <p:notesSz cx="140970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36A3-F32B-46C3-929A-DBE4C3C1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CEB-A17D-45AF-AD4E-2C206DCE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857-1CD5-4D5F-B79E-3231FB4D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8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397880" y="326880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0024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798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397880" y="6815520"/>
            <a:ext cx="437940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27E0-0454-43A0-8A1E-459B0C906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75"/>
              </a:spcBef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240-165A-4A40-AA0E-D8241A93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D55-C9D6-4BCF-B2DE-187B3F68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0DF-8EF8-4ED9-8B98-D64F170B8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764-4DDB-4030-812A-AFFFC594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00240" y="1006200"/>
            <a:ext cx="13601520" cy="87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734A-41F2-43FE-A1D7-BF9AA3F8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C743-2A8B-4558-99A9-F04EED2D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169840" y="681552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699-5A03-4BCE-83F8-FF2709AC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002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8169840" y="3268800"/>
            <a:ext cx="66373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00240" y="6815520"/>
            <a:ext cx="13601520" cy="323856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/>
          </a:bodyPr>
          <a:p>
            <a:pPr indent="0">
              <a:spcBef>
                <a:spcPts val="1375"/>
              </a:spcBef>
              <a:buNone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17B4-ED66-4DCE-A794-0A4543B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00240" y="1006200"/>
            <a:ext cx="13601520" cy="18860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ctr">
            <a:noAutofit/>
          </a:bodyPr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7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00240" y="3268800"/>
            <a:ext cx="13601520" cy="678960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rmAutofit fontScale="96000"/>
          </a:bodyPr>
          <a:p>
            <a:pPr marL="561960" indent="-5619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17520" indent="-46728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2" marL="187308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22600" indent="-374760">
              <a:spcBef>
                <a:spcPts val="1375"/>
              </a:spcBef>
              <a:buClr>
                <a:srgbClr val="000000"/>
              </a:buClr>
              <a:buFont typeface="Times New Roman"/>
              <a:buChar char="–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4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5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  <a:p>
            <a:pPr lvl="6" marL="3370680" indent="-372960">
              <a:spcBef>
                <a:spcPts val="1375"/>
              </a:spcBef>
              <a:buClr>
                <a:srgbClr val="000000"/>
              </a:buClr>
              <a:buFont typeface="Times New Roman"/>
              <a:buChar char="»"/>
              <a:tabLst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0024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67320" y="10308960"/>
            <a:ext cx="506736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468160" y="10308960"/>
            <a:ext cx="3333600" cy="755640"/>
          </a:xfrm>
          <a:prstGeom prst="rect">
            <a:avLst/>
          </a:prstGeom>
          <a:noFill/>
          <a:ln w="0">
            <a:noFill/>
          </a:ln>
        </p:spPr>
        <p:txBody>
          <a:bodyPr lIns="156240" rIns="156240" tIns="78120" bIns="78120" anchor="t">
            <a:noAutofit/>
          </a:bodyPr>
          <a:lstStyle>
            <a:lvl1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60600"/>
                <a:tab algn="l" pos="3121200"/>
                <a:tab algn="l" pos="4681440"/>
                <a:tab algn="l" pos="6242040"/>
                <a:tab algn="l" pos="7802640"/>
                <a:tab algn="l" pos="9363240"/>
                <a:tab algn="l" pos="10923480"/>
              </a:tabLst>
            </a:pPr>
            <a:fld id="{9A8620B9-0609-4E8C-89C8-A6C72D1CF1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15011280" cy="10515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98600" y="524160"/>
            <a:ext cx="1633320" cy="2246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siliul Judeţean Vâlc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72400" y="919440"/>
            <a:ext cx="1504800" cy="2246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OLEGIUL DIRE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8515080" y="748800"/>
            <a:ext cx="10080" cy="17100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7562880" y="1285560"/>
            <a:ext cx="1905120" cy="346680"/>
          </a:xfrm>
          <a:prstGeom prst="rect">
            <a:avLst/>
          </a:prstGeom>
          <a:solidFill>
            <a:srgbClr val="ebeb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ţia Generală de Asistenţă Socială şi Protecţia Copilului - Vâlc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3" idx="2"/>
            <a:endCxn id="45" idx="0"/>
          </p:cNvCxnSpPr>
          <p:nvPr/>
        </p:nvCxnSpPr>
        <p:spPr>
          <a:xfrm flipH="1">
            <a:off x="8515440" y="1144080"/>
            <a:ext cx="9720" cy="14184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7" name=""/>
          <p:cNvSpPr/>
          <p:nvPr/>
        </p:nvSpPr>
        <p:spPr>
          <a:xfrm>
            <a:off x="7734240" y="1751400"/>
            <a:ext cx="1562040" cy="37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IRECTOR EXECUTIV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0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5" idx="2"/>
            <a:endCxn id="47" idx="0"/>
          </p:cNvCxnSpPr>
          <p:nvPr/>
        </p:nvCxnSpPr>
        <p:spPr>
          <a:xfrm flipH="1">
            <a:off x="8515080" y="1632240"/>
            <a:ext cx="720" cy="119520"/>
          </a:xfrm>
          <a:prstGeom prst="straightConnector1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5391000" y="903960"/>
            <a:ext cx="144792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DE EXPERTIZĂ persoane adult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1"/>
            <a:endCxn id="49" idx="0"/>
          </p:cNvCxnSpPr>
          <p:nvPr/>
        </p:nvCxnSpPr>
        <p:spPr>
          <a:xfrm flipV="1" rot="10800000">
            <a:off x="6114600" y="636120"/>
            <a:ext cx="1584000" cy="26784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0344240" y="919800"/>
            <a:ext cx="144756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MISIA PENTRU PROTECŢIA 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2" idx="3"/>
            <a:endCxn id="51" idx="0"/>
          </p:cNvCxnSpPr>
          <p:nvPr/>
        </p:nvCxnSpPr>
        <p:spPr>
          <a:xfrm>
            <a:off x="9331920" y="636480"/>
            <a:ext cx="1736280" cy="28368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3" name=""/>
          <p:cNvSpPr/>
          <p:nvPr/>
        </p:nvSpPr>
        <p:spPr>
          <a:xfrm>
            <a:off x="4724280" y="2479680"/>
            <a:ext cx="2133720" cy="4683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Protectie a Copilulu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877240" y="2440080"/>
            <a:ext cx="2286000" cy="5900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8000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de A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sistenţă Soci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Adjunct -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030200" y="2446920"/>
            <a:ext cx="1905120" cy="62100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006600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Directia Economic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- Director Executiv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Adjunct Economic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92976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. Resurse Uma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32064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udit inte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46328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Juridic Contenci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48826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Mass-Media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şi relaţii cu publicu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415840"/>
            <a:ext cx="1523880" cy="31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M - P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3047760" y="4267080"/>
            <a:ext cx="1943280" cy="57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 Secretariat Comisie pentru Protecti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piluluii si anchete zon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386064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, testare, pregătire, monitoriza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532116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protecţie de tip rezidenţ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8  / 1 / 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46288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 pentru îngrijire de tip famili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în domeniul protecţiei copilulu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60004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asitenţă şi sprijin pentru protecţia şi promovarea drepturilor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6686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 complexă a copilului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3" idx="2"/>
            <a:endCxn id="61" idx="3"/>
          </p:cNvCxnSpPr>
          <p:nvPr/>
        </p:nvCxnSpPr>
        <p:spPr>
          <a:xfrm rot="5400000">
            <a:off x="4588200" y="2378880"/>
            <a:ext cx="633600" cy="17719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3" idx="2"/>
            <a:endCxn id="62" idx="3"/>
          </p:cNvCxnSpPr>
          <p:nvPr/>
        </p:nvCxnSpPr>
        <p:spPr>
          <a:xfrm rot="5400000">
            <a:off x="4994640" y="2785320"/>
            <a:ext cx="633600" cy="95904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3" idx="2"/>
            <a:endCxn id="63" idx="3"/>
          </p:cNvCxnSpPr>
          <p:nvPr/>
        </p:nvCxnSpPr>
        <p:spPr>
          <a:xfrm flipH="1" rot="16200000">
            <a:off x="5725440" y="3013560"/>
            <a:ext cx="633600" cy="5022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3" idx="2"/>
            <a:endCxn id="64" idx="3"/>
          </p:cNvCxnSpPr>
          <p:nvPr/>
        </p:nvCxnSpPr>
        <p:spPr>
          <a:xfrm rot="5400000">
            <a:off x="5378760" y="3169440"/>
            <a:ext cx="633600" cy="19080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200400" y="5623200"/>
            <a:ext cx="182880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ti maternali profesionisti -</a:t>
            </a:r>
            <a:r>
              <a:rPr b="1" i="1" lang="en-US" sz="1000" spc="-1" strike="noStrike">
                <a:solidFill>
                  <a:srgbClr val="cc0000"/>
                </a:solidFill>
                <a:latin typeface="Arial Narrow"/>
              </a:rPr>
              <a:t> 415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ost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8120" y="5944320"/>
            <a:ext cx="19810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mpartimentul evaluare, testare, pregătire Asistenti Maternali Profesioni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34896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dopţie, post-adopţie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86200" y="6553800"/>
            <a:ext cx="1828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Plasament familial, consiliere, monitoriz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1504800" y="7562520"/>
            <a:ext cx="1371600" cy="41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4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54 /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573120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nchete sociale, consiliere pentru părinţi şi cop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5" idx="1"/>
            <a:endCxn id="76" idx="1"/>
          </p:cNvCxnSpPr>
          <p:nvPr/>
        </p:nvCxnSpPr>
        <p:spPr>
          <a:xfrm flipH="1" rot="16200000">
            <a:off x="6915960" y="5580720"/>
            <a:ext cx="30384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78" name=""/>
          <p:cNvSpPr/>
          <p:nvPr/>
        </p:nvSpPr>
        <p:spPr>
          <a:xfrm>
            <a:off x="7162920" y="5955120"/>
            <a:ext cx="24382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regătirea şi sprijinirea integrării-reintegrării copilului î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65" idx="1"/>
            <a:endCxn id="78" idx="1"/>
          </p:cNvCxnSpPr>
          <p:nvPr/>
        </p:nvCxnSpPr>
        <p:spPr>
          <a:xfrm flipH="1" rot="16200000">
            <a:off x="6804000" y="5692680"/>
            <a:ext cx="527760" cy="191160"/>
          </a:xfrm>
          <a:prstGeom prst="bentConnector2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162920" y="618048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nsiliere, intervenţie până la stabilirea unei măsuri de protecţ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162920" y="640440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Evaluare copil care a săvârşit faptă penală şi nu ră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6609240"/>
            <a:ext cx="2590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integrarea si sprijinirea copiilor repatria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65" idx="1"/>
            <a:endCxn id="80" idx="1"/>
          </p:cNvCxnSpPr>
          <p:nvPr/>
        </p:nvCxnSpPr>
        <p:spPr>
          <a:xfrm flipH="1" rot="16200000">
            <a:off x="6691320" y="5805360"/>
            <a:ext cx="753120" cy="191160"/>
          </a:xfrm>
          <a:prstGeom prst="bentConnector4">
            <a:avLst>
              <a:gd name="adj1" fmla="val 43998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65" idx="1"/>
            <a:endCxn id="81" idx="1"/>
          </p:cNvCxnSpPr>
          <p:nvPr/>
        </p:nvCxnSpPr>
        <p:spPr>
          <a:xfrm flipH="1" rot="16200000">
            <a:off x="6579360" y="5917320"/>
            <a:ext cx="977040" cy="191160"/>
          </a:xfrm>
          <a:prstGeom prst="bentConnector4">
            <a:avLst>
              <a:gd name="adj1" fmla="val 45374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65" idx="1"/>
            <a:endCxn id="82" idx="1"/>
          </p:cNvCxnSpPr>
          <p:nvPr/>
        </p:nvCxnSpPr>
        <p:spPr>
          <a:xfrm flipH="1" rot="16200000">
            <a:off x="6476760" y="6019920"/>
            <a:ext cx="1181880" cy="191160"/>
          </a:xfrm>
          <a:prstGeom prst="bentConnector4">
            <a:avLst>
              <a:gd name="adj1" fmla="val 46160"/>
              <a:gd name="adj2" fmla="val -18867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14001840" y="358704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economic şi financiar-contab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020920" y="412056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chiziţii publice şi aprovizion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01840" y="4652280"/>
            <a:ext cx="121896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tehnic ş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ministrati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3 / 1 / 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5" idx="3"/>
            <a:endCxn id="86" idx="3"/>
          </p:cNvCxnSpPr>
          <p:nvPr/>
        </p:nvCxnSpPr>
        <p:spPr>
          <a:xfrm>
            <a:off x="14935320" y="2757240"/>
            <a:ext cx="285840" cy="104868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55" idx="3"/>
            <a:endCxn id="87" idx="3"/>
          </p:cNvCxnSpPr>
          <p:nvPr/>
        </p:nvCxnSpPr>
        <p:spPr>
          <a:xfrm>
            <a:off x="14935320" y="2757240"/>
            <a:ext cx="304920" cy="1582200"/>
          </a:xfrm>
          <a:prstGeom prst="bentConnector3">
            <a:avLst>
              <a:gd name="adj1" fmla="val 1761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55" idx="3"/>
            <a:endCxn id="88" idx="3"/>
          </p:cNvCxnSpPr>
          <p:nvPr/>
        </p:nvCxnSpPr>
        <p:spPr>
          <a:xfrm>
            <a:off x="14935320" y="2757240"/>
            <a:ext cx="285840" cy="2113920"/>
          </a:xfrm>
          <a:prstGeom prst="bentConnector3">
            <a:avLst>
              <a:gd name="adj1" fmla="val 18121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 rot="16200000">
            <a:off x="200016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plasament nr. 5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61 / 1 / 6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2495520" y="7562880"/>
            <a:ext cx="1371600" cy="4190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socia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-Rm. Va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9 / 2 / 2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394344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tip rezidenţial pentru recuperarea copilului cu dizabilităţ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71 / 1 / 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4467240" y="7572240"/>
            <a:ext cx="1371600" cy="4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Pinocchio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36  / 1 /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49910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rezidential de recuperare a tinerilori cu afectiuni neuropsih.  Bă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9 / 1 / 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56959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de servicii comunit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m. Vâlc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86 / 3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381720" y="7486560"/>
            <a:ext cx="137160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 pentru copilul repatriat, delincvent şi din strad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00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/>
          <p:nvPr/>
        </p:nvCxnSpPr>
        <p:spPr>
          <a:xfrm rot="5400000">
            <a:off x="4893120" y="5698080"/>
            <a:ext cx="1564200" cy="1293120"/>
          </a:xfrm>
          <a:prstGeom prst="bentConnector3">
            <a:avLst>
              <a:gd name="adj1" fmla="val 83540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 rot="16200000">
            <a:off x="3352680" y="9296280"/>
            <a:ext cx="13716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sistenţă familială şi comunitară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4)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54380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pentru copilul cu dizabilităţ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35  / 1 3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9343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t. Copilul abuzat,neglijat,exploat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6 / 1 / 25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6210360" y="918216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 de zi de ingrijire si recuperare pentru copilul cu dizabilitat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22/ 1 / 21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7659720" y="911520"/>
            <a:ext cx="3215160" cy="1999440"/>
          </a:xfrm>
          <a:prstGeom prst="bentConnector3">
            <a:avLst>
              <a:gd name="adj1" fmla="val -6662"/>
            </a:avLst>
          </a:prstGeom>
          <a:ln w="0">
            <a:noFill/>
          </a:ln>
        </p:spPr>
      </p:cxnSp>
      <p:cxnSp>
        <p:nvCxnSpPr>
          <p:cNvPr id="105" name=""/>
          <p:cNvCxnSpPr>
            <a:stCxn id="54" idx="2"/>
          </p:cNvCxnSpPr>
          <p:nvPr/>
        </p:nvCxnSpPr>
        <p:spPr>
          <a:xfrm>
            <a:off x="10020240" y="3030120"/>
            <a:ext cx="2223360" cy="558000"/>
          </a:xfrm>
          <a:prstGeom prst="straightConnector1">
            <a:avLst/>
          </a:prstGeom>
          <a:ln w="0">
            <a:noFill/>
          </a:ln>
        </p:spPr>
      </p:cxnSp>
      <p:sp>
        <p:nvSpPr>
          <p:cNvPr id="106" name=""/>
          <p:cNvSpPr/>
          <p:nvPr/>
        </p:nvSpPr>
        <p:spPr>
          <a:xfrm rot="16200000">
            <a:off x="950580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ul protecţie de tip rezidenţial in domeniul asistentei sociale a persoanelor adul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10115280" y="4286160"/>
            <a:ext cx="1943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lternative de tip familial si prevenirea institutionalizar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Arial Narrow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114109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 antisaracie, prevenirea marginalizarii sociale  si promovarea incluziunii sociale a persoanelor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0725120" y="4286160"/>
            <a:ext cx="1943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evaluare  protectie speciala a persoanelor adulte- Secretariat Comisie de Expertiza Medical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10  / 1 /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08840" y="5549760"/>
            <a:ext cx="1843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1051560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tenta Lung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63  / 1  / 6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1101096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Zatr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98 / 1 / 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06240" y="7505640"/>
            <a:ext cx="13716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 Nr.1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4 / 1 / 8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137923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reabilitare neuropsihiatrica Maciu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86 / 1 /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030200" y="8644320"/>
            <a:ext cx="24382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Asistenţă socio-medicală de îngrijire la domiciliu = </a:t>
            </a:r>
            <a:r>
              <a:rPr b="1" i="1" lang="en-US" sz="800" spc="-1" strike="noStrike">
                <a:solidFill>
                  <a:srgbClr val="cc3300"/>
                </a:solidFill>
                <a:latin typeface="Arial Narrow"/>
              </a:rPr>
              <a:t>15 posturi  ce vor fi preluate de cele 5 primarii, conform proiectelor PHAREi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persoane vârstnice şi adulte cu afecţiuni cro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terapie ocupaţională şi integrare profesional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- socializare persoane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887200" y="616320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pecială şi asigurarea drepturilor legale a persoanelor cu handica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7200" y="6401160"/>
            <a:ext cx="2971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Monitorizare, pregătire, testare şi evaluare asistenţi person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9" idx="1"/>
            <a:endCxn id="117" idx="1"/>
          </p:cNvCxnSpPr>
          <p:nvPr/>
        </p:nvCxnSpPr>
        <p:spPr>
          <a:xfrm flipH="1" rot="16200000">
            <a:off x="11424240" y="5796720"/>
            <a:ext cx="735840" cy="190800"/>
          </a:xfrm>
          <a:prstGeom prst="bentConnector4">
            <a:avLst>
              <a:gd name="adj1" fmla="val 43857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09" idx="1"/>
            <a:endCxn id="118" idx="1"/>
          </p:cNvCxnSpPr>
          <p:nvPr/>
        </p:nvCxnSpPr>
        <p:spPr>
          <a:xfrm flipH="1" rot="16200000">
            <a:off x="11305080" y="5915880"/>
            <a:ext cx="973800" cy="190800"/>
          </a:xfrm>
          <a:prstGeom prst="bentConnector4">
            <a:avLst>
              <a:gd name="adj1" fmla="val 45340"/>
              <a:gd name="adj2" fmla="val -19281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12192120" y="5715360"/>
            <a:ext cx="1600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000000"/>
                </a:solidFill>
                <a:latin typeface="Arial Narrow"/>
              </a:rPr>
              <a:t>Asistenţă socială şi relaţii cu ONG-ur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8153280" y="4267080"/>
            <a:ext cx="1943280" cy="57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de interventie in regim de urgenta   - Telefonul copilului  si telefonul adultului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33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53" idx="2"/>
            <a:endCxn id="66" idx="3"/>
          </p:cNvCxnSpPr>
          <p:nvPr/>
        </p:nvCxnSpPr>
        <p:spPr>
          <a:xfrm flipH="1" rot="16200000">
            <a:off x="6408000" y="2331000"/>
            <a:ext cx="633600" cy="1867320"/>
          </a:xfrm>
          <a:prstGeom prst="bentConnector3">
            <a:avLst>
              <a:gd name="adj1" fmla="val 51222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7848720" y="10592280"/>
            <a:ext cx="198108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Consiliere pentru copil Abuzat,Neglijat, Exploata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10363680"/>
            <a:ext cx="27432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Recu perare medico-sociala a copilului Abuzat, Neglijat, Exploatat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6730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 Programe, Pproiecte, Strategii Integrare European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47" idx="1"/>
            <a:endCxn id="126" idx="1"/>
          </p:cNvCxnSpPr>
          <p:nvPr/>
        </p:nvCxnSpPr>
        <p:spPr>
          <a:xfrm flipV="1" rot="10800000">
            <a:off x="1218960" y="1939320"/>
            <a:ext cx="6515280" cy="1013040"/>
          </a:xfrm>
          <a:prstGeom prst="bentConnector3">
            <a:avLst>
              <a:gd name="adj1" fmla="val 103558"/>
            </a:avLst>
          </a:prstGeom>
          <a:ln w="1908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1219320" y="5794200"/>
            <a:ext cx="1523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v. Medico-soci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cc0000"/>
                </a:solidFill>
                <a:latin typeface="Times New Roman"/>
              </a:rPr>
              <a:t>8 / 1 / 7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60199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71629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 de primire in regim de urgenta a 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3300"/>
                </a:solidFill>
                <a:latin typeface="Times New Roman"/>
              </a:rPr>
              <a:t>15 / 1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914400" y="7467480"/>
            <a:ext cx="13716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erviciul de integrare socioprofesionala a  tinerilor din sistemul .de protect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1 /1 /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90295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entrul de zi pt.recuperare neuromotorie -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cc0000"/>
                </a:solidFill>
                <a:latin typeface="Times New Roman"/>
              </a:rPr>
              <a:t>15 / 1 / 14</a:t>
            </a: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1051560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3800" y="10134720"/>
            <a:ext cx="0" cy="5331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10667880"/>
            <a:ext cx="2286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29336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lex  familial 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44 / 1 / 4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73492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278136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asa “Materna”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Troi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5 / 1 /  14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21583200">
            <a:off x="11353320" y="944676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l de Ingrijire si asist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Milcoi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4 1 /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01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210680" y="6858000"/>
            <a:ext cx="4267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52520" y="57150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4495680"/>
            <a:ext cx="759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81480" y="4495680"/>
            <a:ext cx="0" cy="1600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028840" y="6095880"/>
            <a:ext cx="1522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34520" y="2133720"/>
            <a:ext cx="0" cy="152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791320" y="2286000"/>
            <a:ext cx="8229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209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61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286000"/>
            <a:ext cx="0" cy="1522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590920"/>
            <a:ext cx="0" cy="38862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505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11480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46483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51055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563868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6477120"/>
            <a:ext cx="22860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515600" y="5486400"/>
            <a:ext cx="0" cy="13716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797000" y="537120"/>
            <a:ext cx="9748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exa n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249520" y="761040"/>
            <a:ext cx="129528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Protectia Copilului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53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249520" y="2138400"/>
            <a:ext cx="1218960" cy="20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Total General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79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635040"/>
            <a:ext cx="2133720" cy="4374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ffffff"/>
              </a:gs>
            </a:gsLst>
            <a:lin ang="5400000"/>
          </a:gradFill>
          <a:ln w="19080">
            <a:solidFill>
              <a:srgbClr val="3333cc"/>
            </a:solidFill>
            <a:miter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GRA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.G.A.S.P.C. VALCEA-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6858000"/>
            <a:ext cx="8380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6386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2448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64771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210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8763120"/>
            <a:ext cx="1143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8763120"/>
            <a:ext cx="0" cy="152280"/>
          </a:xfrm>
          <a:prstGeom prst="line">
            <a:avLst/>
          </a:prstGeom>
          <a:ln w="1260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9082080"/>
            <a:ext cx="129564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9219960" y="6858000"/>
            <a:ext cx="990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5562720" y="922032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de consilier parinti / copii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cc"/>
                </a:solidFill>
                <a:latin typeface="Arial Narrow"/>
              </a:rPr>
              <a:t>( 3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8610480"/>
            <a:ext cx="19047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153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54380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3880" y="8610480"/>
            <a:ext cx="19051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3880" y="8610480"/>
            <a:ext cx="0" cy="4572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953880" y="9067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249520" y="1134360"/>
            <a:ext cx="129528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 AMP                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4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8551800"/>
            <a:ext cx="26668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care a savirsit o fapta penala si nu raspunde pen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. pt. copil repatri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Adapost temporar pt. copilul din strad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19320" y="8781120"/>
            <a:ext cx="14475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rezident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consiliere si orientare 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 si integrare socio-profesion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integrare/reintegrare familia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-Componenta de formare/dezvoltare a deprinderilor de viata independen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990360" y="8610480"/>
            <a:ext cx="609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861048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98298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95248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92962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9067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8915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13049280" y="7524720"/>
            <a:ext cx="1371600" cy="49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 reabilitare neuropsihicaNr.2 Babe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59 / 1 /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2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6200000">
            <a:off x="9486720" y="75816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persoane virstn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67 / 1 / 6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753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876312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2247840" y="94107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pentru victime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violentei in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3333cc"/>
                </a:solidFill>
                <a:latin typeface="Arial Narrow"/>
              </a:rPr>
              <a:t>( 10/ 1 / 9 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8458200"/>
            <a:ext cx="0" cy="1522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0400" y="86104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86104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200400" y="861048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86600" y="5562720"/>
            <a:ext cx="182880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36000" tIns="36000" bIns="360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563868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62920" y="5563080"/>
            <a:ext cx="228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rventie in regim de urgenta pentru famili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972800" y="10134360"/>
            <a:ext cx="220968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RESEDINTE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DUMITRU 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2962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420720" y="5562720"/>
            <a:ext cx="0" cy="22860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90720" y="2133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853452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criza si respi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79246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de primire in regim de urgenta pentru persoane adul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15  / 1  / 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448920" y="4952880"/>
            <a:ext cx="380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829800" y="4952880"/>
            <a:ext cx="0" cy="18288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781680"/>
            <a:ext cx="17524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1048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10280" y="8534520"/>
            <a:ext cx="15242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534520" y="85345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34520" y="88390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7848360" y="678168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3633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491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349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42072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6120" y="304812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296280" y="3276720"/>
            <a:ext cx="31244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3390840" y="7581960"/>
            <a:ext cx="13716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l de recuper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t.copil cu dizabilitati Gora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cc3300"/>
                </a:solidFill>
                <a:latin typeface="Arial Narrow"/>
              </a:rPr>
              <a:t>17 / 1 /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148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84582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203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6200000">
            <a:off x="9982080" y="7543800"/>
            <a:ext cx="13716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Bistri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21 / 1 /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74420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0120" y="3276720"/>
            <a:ext cx="14475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8610480" y="6781680"/>
            <a:ext cx="0" cy="1526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7848720" y="678168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24480" y="556272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9067680" y="3276720"/>
            <a:ext cx="0" cy="30456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19520" y="6858000"/>
            <a:ext cx="34290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6858000"/>
            <a:ext cx="1371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1987200"/>
            <a:ext cx="152388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erviciul de evaluare, monitorizare,  informatica in  domeniul asist.sociale si prot.copilulu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9 / 1 / 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6254280"/>
            <a:ext cx="152388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ompartimentul asistenţă,  protecţie si reintegrare tineri în dificult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Times New Roman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4495680"/>
            <a:ext cx="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4572000"/>
            <a:ext cx="76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4572000"/>
            <a:ext cx="0" cy="2057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5714640" y="64771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714640" y="662940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324480" y="5486400"/>
            <a:ext cx="0" cy="76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049120" y="5486400"/>
            <a:ext cx="0" cy="121932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049120" y="6705720"/>
            <a:ext cx="380988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392520" y="6705720"/>
            <a:ext cx="0" cy="190476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1538800">
            <a:off x="11353680" y="8837640"/>
            <a:ext cx="13701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3300"/>
                </a:solidFill>
                <a:latin typeface="Arial Narrow"/>
              </a:rPr>
              <a:t>***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recuperare s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reabilitare Govo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00"/>
                </a:solidFill>
                <a:latin typeface="Arial Narrow"/>
              </a:rPr>
              <a:t>24 /  1 / 2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030200" y="6858000"/>
            <a:ext cx="0" cy="2286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859000" y="6705720"/>
            <a:ext cx="3049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782680" y="861048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5087600" y="8610480"/>
            <a:ext cx="76320" cy="0"/>
          </a:xfrm>
          <a:prstGeom prst="line">
            <a:avLst/>
          </a:prstGeom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163920" y="6705720"/>
            <a:ext cx="22860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82080" y="9149760"/>
            <a:ext cx="1219320" cy="437400"/>
          </a:xfrm>
          <a:prstGeom prst="rect">
            <a:avLst/>
          </a:prstGeom>
          <a:solidFill>
            <a:srgbClr val="ffff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cc0000"/>
                </a:solidFill>
                <a:latin typeface="Arial Narrow"/>
              </a:rPr>
              <a:t>***Centrele Milcoiu  si Govora vor functiona dupa inchidrea centrului Pausest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1620440" y="7505640"/>
            <a:ext cx="1371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Centrul de Ingrijire si Asistenta Pausesti Maglas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76 /  1 / 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78120" y="68580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268080" y="8458200"/>
            <a:ext cx="0" cy="2286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268080" y="8686800"/>
            <a:ext cx="60984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877920" y="8686800"/>
            <a:ext cx="0" cy="91440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2725280" y="899172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725280" y="9601200"/>
            <a:ext cx="15264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877920" y="75924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parat Propriu     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877920" y="1292400"/>
            <a:ext cx="1218960" cy="48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Asistenta Sociala -Adulti  =  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67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249520" y="1680840"/>
            <a:ext cx="1218960" cy="34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otal posturi ingrijitori la domiciliu =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6T06:28:25Z</dcterms:created>
  <dc:creator>Win98</dc:creator>
  <dc:description/>
  <dc:language>en-US</dc:language>
  <cp:lastModifiedBy>Win98</cp:lastModifiedBy>
  <cp:lastPrinted>2007-05-22T09:28:48Z</cp:lastPrinted>
  <dcterms:modified xsi:type="dcterms:W3CDTF">2007-05-22T12:36:45Z</dcterms:modified>
  <cp:revision>153</cp:revision>
  <dc:subject/>
  <dc:title>No Slide Title</dc:title>
</cp:coreProperties>
</file>