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941-4200-459C-AD0C-4F2BCA2B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025-C85A-40A6-BC6D-C40892CA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F9C-2394-4CBE-B126-FA38C986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0D1-EC9A-4916-BCE3-A6C79F42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157D-66E9-40B4-B1ED-54E1317A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93A-FABA-45D0-94FD-B9719118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CD2-6E8E-43F6-9F45-43F4F181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56E-2BFB-4A5E-99E6-090A29AC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C5A-A155-4EC5-A733-FE034C46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DCF-2A9D-49C5-B1F9-77D1D10E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659-7CEF-4884-9B39-4C86A22C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B65-4259-4C2C-84AA-FDD91D3D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B0AD-148C-4F18-86A7-E9F203E6E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368520" y="765000"/>
            <a:ext cx="3168000" cy="2663640"/>
            <a:chOff x="3368520" y="765000"/>
            <a:chExt cx="3168000" cy="2663640"/>
          </a:xfrm>
        </p:grpSpPr>
        <p:sp>
          <p:nvSpPr>
            <p:cNvPr id="42" name=""/>
            <p:cNvSpPr/>
            <p:nvPr/>
          </p:nvSpPr>
          <p:spPr>
            <a:xfrm>
              <a:off x="3950280" y="1603800"/>
              <a:ext cx="1819080" cy="1257480"/>
            </a:xfrm>
            <a:prstGeom prst="rect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3368520" y="2826000"/>
              <a:ext cx="1242720" cy="60264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Go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5032800" y="2960280"/>
              <a:ext cx="1503720" cy="45792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ora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31280" y="765000"/>
              <a:ext cx="1671480" cy="2653200"/>
            </a:xfrm>
            <a:custGeom>
              <a:avLst/>
              <a:gdLst/>
              <a:ahLst/>
              <a:rect l="l" t="t" r="r" b="b"/>
              <a:pathLst>
                <a:path w="339" h="702">
                  <a:moveTo>
                    <a:pt x="132" y="178"/>
                  </a:moveTo>
                  <a:lnTo>
                    <a:pt x="0" y="437"/>
                  </a:lnTo>
                  <a:lnTo>
                    <a:pt x="220" y="438"/>
                  </a:lnTo>
                  <a:lnTo>
                    <a:pt x="151" y="582"/>
                  </a:lnTo>
                  <a:lnTo>
                    <a:pt x="190" y="581"/>
                  </a:lnTo>
                  <a:lnTo>
                    <a:pt x="162" y="636"/>
                  </a:lnTo>
                  <a:lnTo>
                    <a:pt x="160" y="635"/>
                  </a:lnTo>
                  <a:lnTo>
                    <a:pt x="156" y="606"/>
                  </a:lnTo>
                  <a:lnTo>
                    <a:pt x="125" y="606"/>
                  </a:lnTo>
                  <a:lnTo>
                    <a:pt x="150" y="702"/>
                  </a:lnTo>
                  <a:lnTo>
                    <a:pt x="339" y="364"/>
                  </a:lnTo>
                  <a:lnTo>
                    <a:pt x="119" y="364"/>
                  </a:lnTo>
                  <a:lnTo>
                    <a:pt x="210" y="176"/>
                  </a:lnTo>
                  <a:lnTo>
                    <a:pt x="264" y="177"/>
                  </a:lnTo>
                  <a:lnTo>
                    <a:pt x="252" y="135"/>
                  </a:lnTo>
                  <a:lnTo>
                    <a:pt x="190" y="136"/>
                  </a:lnTo>
                  <a:lnTo>
                    <a:pt x="207" y="106"/>
                  </a:lnTo>
                  <a:lnTo>
                    <a:pt x="246" y="106"/>
                  </a:lnTo>
                  <a:lnTo>
                    <a:pt x="244" y="78"/>
                  </a:lnTo>
                  <a:lnTo>
                    <a:pt x="220" y="77"/>
                  </a:lnTo>
                  <a:lnTo>
                    <a:pt x="231" y="54"/>
                  </a:lnTo>
                  <a:lnTo>
                    <a:pt x="264" y="56"/>
                  </a:lnTo>
                  <a:lnTo>
                    <a:pt x="281" y="18"/>
                  </a:lnTo>
                  <a:lnTo>
                    <a:pt x="227" y="20"/>
                  </a:lnTo>
                  <a:lnTo>
                    <a:pt x="223" y="0"/>
                  </a:lnTo>
                  <a:lnTo>
                    <a:pt x="97" y="178"/>
                  </a:lnTo>
                  <a:lnTo>
                    <a:pt x="132" y="17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3868920" y="802080"/>
              <a:ext cx="776520" cy="60048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C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5498640" y="847440"/>
              <a:ext cx="761760" cy="603000"/>
            </a:xfrm>
            <a:prstGeom prst="rect">
              <a:avLst/>
            </a:prstGeom>
          </p:spPr>
          <p:txBody>
            <a:bodyPr wrap="none" lIns="91080" rIns="9108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2600" dir="5400000" blurRad="0" rotWithShape="0">
                      <a:srgbClr val="000000"/>
                    </a:outerShdw>
                  </a:effectLst>
                  <a:latin typeface="Arial Black"/>
                </a:rPr>
                <a:t>T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600" dir="54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5931000"/>
            <a:ext cx="1295280" cy="86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6600" y="3862440"/>
            <a:ext cx="86407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PROGRAMUL DE RETEHNOLOGIZARE SI DEZVOLTARE LA CET GOV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39880" y="6311880"/>
            <a:ext cx="2374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Membru COGEN Rom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1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1942" name=""/>
            <p:cNvSpPr/>
            <p:nvPr/>
          </p:nvSpPr>
          <p:spPr>
            <a:xfrm>
              <a:off x="631800" y="333360"/>
              <a:ext cx="878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CONSUMUL DE CARBUNE IN URMATORII 20 A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1944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0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1951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953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1956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1957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8" name=""/>
            <p:cNvGrpSpPr/>
            <p:nvPr/>
          </p:nvGrpSpPr>
          <p:grpSpPr>
            <a:xfrm>
              <a:off x="1067040" y="1125360"/>
              <a:ext cx="8565840" cy="4287960"/>
              <a:chOff x="1067040" y="1125360"/>
              <a:chExt cx="8565840" cy="4287960"/>
            </a:xfrm>
          </p:grpSpPr>
          <p:sp>
            <p:nvSpPr>
              <p:cNvPr id="1959" name=""/>
              <p:cNvSpPr/>
              <p:nvPr/>
            </p:nvSpPr>
            <p:spPr>
              <a:xfrm>
                <a:off x="1830240" y="428148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830240" y="363060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830240" y="2968560"/>
                <a:ext cx="5720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830240" y="231624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830240" y="1654200"/>
                <a:ext cx="572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H="1" flipV="1">
                <a:off x="1829880" y="1341360"/>
                <a:ext cx="1800" cy="3603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79480" y="49449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79480" y="428148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79480" y="363060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79480" y="29685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79480" y="231624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79480" y="165420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830240" y="4944960"/>
                <a:ext cx="57150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183024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211464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239868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268272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V="1">
                <a:off x="297972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V="1">
                <a:off x="326376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354816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38322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41148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V="1">
                <a:off x="439884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V="1">
                <a:off x="469584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V="1">
                <a:off x="497988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526428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V="1">
                <a:off x="554832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V="1">
                <a:off x="5832360" y="4944960"/>
                <a:ext cx="180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V="1">
                <a:off x="611676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64008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669780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6981840" y="4944960"/>
                <a:ext cx="144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973160" y="1863720"/>
                <a:ext cx="5434200" cy="1833480"/>
              </a:xfrm>
              <a:custGeom>
                <a:avLst/>
                <a:gdLst/>
                <a:ahLst/>
                <a:rect l="l" t="t" r="r" b="b"/>
                <a:pathLst>
                  <a:path w="421" h="166">
                    <a:moveTo>
                      <a:pt x="0" y="53"/>
                    </a:moveTo>
                    <a:lnTo>
                      <a:pt x="22" y="53"/>
                    </a:lnTo>
                    <a:lnTo>
                      <a:pt x="44" y="166"/>
                    </a:lnTo>
                    <a:lnTo>
                      <a:pt x="67" y="140"/>
                    </a:lnTo>
                    <a:lnTo>
                      <a:pt x="89" y="0"/>
                    </a:lnTo>
                    <a:lnTo>
                      <a:pt x="111" y="0"/>
                    </a:lnTo>
                    <a:lnTo>
                      <a:pt x="133" y="0"/>
                    </a:lnTo>
                    <a:lnTo>
                      <a:pt x="155" y="0"/>
                    </a:lnTo>
                    <a:lnTo>
                      <a:pt x="177" y="0"/>
                    </a:lnTo>
                    <a:lnTo>
                      <a:pt x="199" y="0"/>
                    </a:lnTo>
                    <a:lnTo>
                      <a:pt x="222" y="0"/>
                    </a:lnTo>
                    <a:lnTo>
                      <a:pt x="244" y="0"/>
                    </a:lnTo>
                    <a:lnTo>
                      <a:pt x="266" y="0"/>
                    </a:lnTo>
                    <a:lnTo>
                      <a:pt x="288" y="0"/>
                    </a:lnTo>
                    <a:lnTo>
                      <a:pt x="310" y="0"/>
                    </a:lnTo>
                    <a:lnTo>
                      <a:pt x="332" y="0"/>
                    </a:lnTo>
                    <a:lnTo>
                      <a:pt x="354" y="0"/>
                    </a:lnTo>
                    <a:lnTo>
                      <a:pt x="377" y="0"/>
                    </a:lnTo>
                    <a:lnTo>
                      <a:pt x="399" y="0"/>
                    </a:lnTo>
                    <a:lnTo>
                      <a:pt x="421" y="0"/>
                    </a:ln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40160" y="4513320"/>
                <a:ext cx="4867200" cy="1440"/>
              </a:xfrm>
              <a:custGeom>
                <a:avLst/>
                <a:gdLst/>
                <a:ahLst/>
                <a:rect l="l" t="t" r="r" b="b"/>
                <a:pathLst>
                  <a:path w="377" h="0">
                    <a:moveTo>
                      <a:pt x="0" y="0"/>
                    </a:moveTo>
                    <a:lnTo>
                      <a:pt x="23" y="0"/>
                    </a:lnTo>
                    <a:lnTo>
                      <a:pt x="45" y="0"/>
                    </a:lnTo>
                    <a:lnTo>
                      <a:pt x="67" y="0"/>
                    </a:lnTo>
                    <a:lnTo>
                      <a:pt x="89" y="0"/>
                    </a:lnTo>
                    <a:lnTo>
                      <a:pt x="111" y="0"/>
                    </a:lnTo>
                    <a:lnTo>
                      <a:pt x="133" y="0"/>
                    </a:lnTo>
                    <a:lnTo>
                      <a:pt x="155" y="0"/>
                    </a:lnTo>
                    <a:lnTo>
                      <a:pt x="178" y="0"/>
                    </a:lnTo>
                    <a:lnTo>
                      <a:pt x="200" y="0"/>
                    </a:lnTo>
                    <a:lnTo>
                      <a:pt x="222" y="0"/>
                    </a:lnTo>
                    <a:lnTo>
                      <a:pt x="244" y="0"/>
                    </a:lnTo>
                    <a:lnTo>
                      <a:pt x="266" y="0"/>
                    </a:lnTo>
                    <a:lnTo>
                      <a:pt x="288" y="0"/>
                    </a:lnTo>
                    <a:lnTo>
                      <a:pt x="310" y="0"/>
                    </a:lnTo>
                    <a:lnTo>
                      <a:pt x="333" y="0"/>
                    </a:lnTo>
                    <a:lnTo>
                      <a:pt x="355" y="0"/>
                    </a:lnTo>
                    <a:lnTo>
                      <a:pt x="377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611000" y="48560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158120" y="4194000"/>
                <a:ext cx="506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5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067040" y="354168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1,0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067040" y="287964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1,5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067040" y="222876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,0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067040" y="1565280"/>
                <a:ext cx="623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,500,00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rot="18900000">
                <a:off x="154548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0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18900000">
                <a:off x="211392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09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rot="18900000">
                <a:off x="269496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rot="18900000">
                <a:off x="3263400" y="515916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rot="18900000">
                <a:off x="383004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rot="18900000">
                <a:off x="441108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7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rot="18900000">
                <a:off x="4979520" y="515916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19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rot="18900000">
                <a:off x="554760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2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rot="18900000">
                <a:off x="611604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2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rot="18900000">
                <a:off x="6697080" y="5159520"/>
                <a:ext cx="311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993300"/>
                    </a:solidFill>
                    <a:latin typeface="Arial"/>
                  </a:rPr>
                  <a:t>202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9" name=""/>
              <p:cNvGrpSpPr/>
              <p:nvPr/>
            </p:nvGrpSpPr>
            <p:grpSpPr>
              <a:xfrm>
                <a:off x="7905600" y="3645000"/>
                <a:ext cx="1580040" cy="444960"/>
                <a:chOff x="7905600" y="3645000"/>
                <a:chExt cx="1580040" cy="444960"/>
              </a:xfrm>
            </p:grpSpPr>
            <p:sp>
              <p:nvSpPr>
                <p:cNvPr id="2010" name=""/>
                <p:cNvSpPr/>
                <p:nvPr/>
              </p:nvSpPr>
              <p:spPr>
                <a:xfrm>
                  <a:off x="7905600" y="3744720"/>
                  <a:ext cx="309600" cy="1080"/>
                </a:xfrm>
                <a:prstGeom prst="line">
                  <a:avLst/>
                </a:prstGeom>
                <a:ln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8344800" y="3645000"/>
                  <a:ext cx="1140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993300"/>
                      </a:solidFill>
                      <a:latin typeface="Arial"/>
                    </a:rPr>
                    <a:t>Consum Ligni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7905600" y="3976560"/>
                  <a:ext cx="30960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8346240" y="3876480"/>
                  <a:ext cx="11192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onsum Huil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4" name=""/>
              <p:cNvSpPr/>
              <p:nvPr/>
            </p:nvSpPr>
            <p:spPr>
              <a:xfrm>
                <a:off x="7761240" y="3500280"/>
                <a:ext cx="1871640" cy="720720"/>
              </a:xfrm>
              <a:prstGeom prst="rect">
                <a:avLst/>
              </a:prstGeom>
              <a:noFill/>
              <a:ln w="158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639800" y="1125360"/>
                <a:ext cx="36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Arial"/>
                  </a:rPr>
                  <a:t>T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574040" y="4869000"/>
                <a:ext cx="203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Arial"/>
                  </a:rPr>
                  <a:t>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7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2018" name=""/>
            <p:cNvSpPr/>
            <p:nvPr/>
          </p:nvSpPr>
          <p:spPr>
            <a:xfrm>
              <a:off x="631800" y="333360"/>
              <a:ext cx="8785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MONITORIZARE EMISII DE CO</a:t>
              </a:r>
              <a:r>
                <a:rPr b="1" lang="en-US" sz="2200" spc="-1" strike="noStrike" baseline="-25000">
                  <a:solidFill>
                    <a:srgbClr val="9933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9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020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021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6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027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029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032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033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703440" y="981000"/>
              <a:ext cx="9073800" cy="5085000"/>
              <a:chOff x="703440" y="981000"/>
              <a:chExt cx="9073800" cy="5085000"/>
            </a:xfrm>
          </p:grpSpPr>
          <p:grpSp>
            <p:nvGrpSpPr>
              <p:cNvPr id="2035" name=""/>
              <p:cNvGrpSpPr/>
              <p:nvPr/>
            </p:nvGrpSpPr>
            <p:grpSpPr>
              <a:xfrm>
                <a:off x="703440" y="981000"/>
                <a:ext cx="9073800" cy="4318200"/>
                <a:chOff x="703440" y="981000"/>
                <a:chExt cx="9073800" cy="4318200"/>
              </a:xfrm>
            </p:grpSpPr>
            <p:sp>
              <p:nvSpPr>
                <p:cNvPr id="2036" name=""/>
                <p:cNvSpPr/>
                <p:nvPr/>
              </p:nvSpPr>
              <p:spPr>
                <a:xfrm>
                  <a:off x="6392880" y="3141720"/>
                  <a:ext cx="338436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misie CO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n “Planul National de Alocare” pentru CET Govor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6383160" y="2171880"/>
                  <a:ext cx="3024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zerva de alocare pentru instalatii no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,000,000 t pe 5 an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205000" y="2298600"/>
                  <a:ext cx="3956040" cy="95724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398600" y="443880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398600" y="385452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398600" y="326880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398600" y="2673360"/>
                  <a:ext cx="4816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398600" y="2087640"/>
                  <a:ext cx="481644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38360" y="2932200"/>
                  <a:ext cx="325440" cy="20923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441520" y="2932200"/>
                  <a:ext cx="325440" cy="20923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3243240" y="3213000"/>
                  <a:ext cx="326880" cy="18115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044960" y="3021120"/>
                  <a:ext cx="325440" cy="200340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848120" y="1974960"/>
                  <a:ext cx="325440" cy="3049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5651640" y="1974960"/>
                  <a:ext cx="325440" cy="30495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1398600" y="1341000"/>
                  <a:ext cx="3240" cy="3683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1349280" y="502452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1349280" y="443880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1349280" y="385452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1349280" y="326880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1349280" y="267336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1349280" y="2087640"/>
                  <a:ext cx="4932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1349280" y="1503360"/>
                  <a:ext cx="4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1395360" y="5024520"/>
                  <a:ext cx="4915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1398600" y="5024160"/>
                  <a:ext cx="32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201760" y="5024160"/>
                  <a:ext cx="180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3005280" y="5024160"/>
                  <a:ext cx="14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3807000" y="5024160"/>
                  <a:ext cx="288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610160" y="5024160"/>
                  <a:ext cx="32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5411880" y="5024160"/>
                  <a:ext cx="1440" cy="4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6161040" y="4989600"/>
                  <a:ext cx="3240" cy="79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1187640" y="493380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790920" y="4348080"/>
                  <a:ext cx="456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703440" y="376380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0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703440" y="31780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5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703440" y="258300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0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703440" y="199692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5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703440" y="14144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,0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162324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242640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322992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03308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83480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1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5636520" y="5146560"/>
                  <a:ext cx="281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1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1384200" y="3267000"/>
                  <a:ext cx="50817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2205000" y="2289240"/>
                  <a:ext cx="40305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2205000" y="2288880"/>
                  <a:ext cx="0" cy="27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161040" y="2288880"/>
                  <a:ext cx="0" cy="27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1495800" y="27716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78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735800" y="18064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6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5527800" y="18064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,60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6105600" y="2295360"/>
                  <a:ext cx="360360" cy="0"/>
                </a:xfrm>
                <a:prstGeom prst="line">
                  <a:avLst/>
                </a:prstGeom>
                <a:ln w="2556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920880" y="981000"/>
                  <a:ext cx="115236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one CO</a:t>
                  </a:r>
                  <a:r>
                    <a:rPr b="1" lang="en-US" sz="12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/a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6321600" y="4869000"/>
                  <a:ext cx="431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3934080" y="28526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71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2359080" y="277164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78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108600" y="3059280"/>
                  <a:ext cx="561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,540,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2" name=""/>
              <p:cNvSpPr/>
              <p:nvPr/>
            </p:nvSpPr>
            <p:spPr>
              <a:xfrm>
                <a:off x="5600880" y="5516640"/>
                <a:ext cx="39607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t certificate emisii 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cca 25 EUR/to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enalitati lipsa drepturi de emisii 100 EUR/to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3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2094" name=""/>
            <p:cNvSpPr/>
            <p:nvPr/>
          </p:nvSpPr>
          <p:spPr>
            <a:xfrm>
              <a:off x="631800" y="333360"/>
              <a:ext cx="878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CERTIFICATE VERZ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5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096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097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02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103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4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105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108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109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0" name=""/>
            <p:cNvGrpSpPr/>
            <p:nvPr/>
          </p:nvGrpSpPr>
          <p:grpSpPr>
            <a:xfrm>
              <a:off x="1279080" y="1380960"/>
              <a:ext cx="8249760" cy="4569480"/>
              <a:chOff x="1279080" y="1380960"/>
              <a:chExt cx="8249760" cy="4569480"/>
            </a:xfrm>
          </p:grpSpPr>
          <p:grpSp>
            <p:nvGrpSpPr>
              <p:cNvPr id="2111" name=""/>
              <p:cNvGrpSpPr/>
              <p:nvPr/>
            </p:nvGrpSpPr>
            <p:grpSpPr>
              <a:xfrm>
                <a:off x="6896160" y="2997360"/>
                <a:ext cx="2632680" cy="500760"/>
                <a:chOff x="6896160" y="2997360"/>
                <a:chExt cx="2632680" cy="500760"/>
              </a:xfrm>
            </p:grpSpPr>
            <p:sp>
              <p:nvSpPr>
                <p:cNvPr id="2112" name=""/>
                <p:cNvSpPr/>
                <p:nvPr/>
              </p:nvSpPr>
              <p:spPr>
                <a:xfrm>
                  <a:off x="6896160" y="3090960"/>
                  <a:ext cx="347760" cy="8568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6896160" y="3394080"/>
                  <a:ext cx="361800" cy="18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7029360" y="335772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6" y="0"/>
                      </a:moveTo>
                      <a:lnTo>
                        <a:pt x="51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7362360" y="3284640"/>
                  <a:ext cx="2166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ERTIFICATE VERZI (CV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7363800" y="2997360"/>
                  <a:ext cx="16221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ERGIE LIVR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1279080" y="1380960"/>
                <a:ext cx="6147000" cy="4569480"/>
                <a:chOff x="1279080" y="1380960"/>
                <a:chExt cx="6147000" cy="456948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1924200" y="4397400"/>
                  <a:ext cx="309240" cy="123660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687760" y="4397400"/>
                  <a:ext cx="295200" cy="123660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3438360" y="4216320"/>
                  <a:ext cx="308160" cy="141768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4202280" y="4216320"/>
                  <a:ext cx="295200" cy="141768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4951440" y="3549600"/>
                  <a:ext cx="307800" cy="208440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5715000" y="2216160"/>
                  <a:ext cx="295200" cy="341784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1697040" y="1668600"/>
                  <a:ext cx="1440" cy="39654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1643040" y="563400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1643040" y="525780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1643040" y="487044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1643040" y="449424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1643040" y="411948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1643040" y="374328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1643040" y="3355920"/>
                  <a:ext cx="108000" cy="180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1643040" y="297972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1643040" y="260352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1643040" y="221616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1643040" y="1839960"/>
                  <a:ext cx="108000" cy="14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1697040" y="5634000"/>
                  <a:ext cx="45403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V="1">
                  <a:off x="1697040" y="5584320"/>
                  <a:ext cx="1440" cy="9684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V="1">
                  <a:off x="2460600" y="5584320"/>
                  <a:ext cx="144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V="1">
                  <a:off x="3209760" y="5584320"/>
                  <a:ext cx="180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V="1">
                  <a:off x="3973680" y="5584320"/>
                  <a:ext cx="144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flipV="1">
                  <a:off x="4724280" y="5584320"/>
                  <a:ext cx="180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V="1">
                  <a:off x="5487840" y="5584320"/>
                  <a:ext cx="1800" cy="96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V="1">
                  <a:off x="6237360" y="5584320"/>
                  <a:ext cx="1440" cy="968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6237360" y="1839960"/>
                  <a:ext cx="1440" cy="37940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6184800" y="563400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6184800" y="516096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6184800" y="468792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6184800" y="421632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6184800" y="374328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6184800" y="3259080"/>
                  <a:ext cx="106560" cy="180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6184800" y="278604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6184800" y="231300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6184800" y="1839960"/>
                  <a:ext cx="106560" cy="1440"/>
                </a:xfrm>
                <a:prstGeom prst="line">
                  <a:avLst/>
                </a:prstGeom>
                <a:ln w="1260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2071800" y="2082960"/>
                  <a:ext cx="3790800" cy="3430440"/>
                </a:xfrm>
                <a:custGeom>
                  <a:avLst/>
                  <a:gdLst/>
                  <a:ahLst/>
                  <a:rect l="l" t="t" r="r" b="b"/>
                  <a:pathLst>
                    <a:path w="283" h="283">
                      <a:moveTo>
                        <a:pt x="0" y="283"/>
                      </a:moveTo>
                      <a:lnTo>
                        <a:pt x="57" y="264"/>
                      </a:lnTo>
                      <a:lnTo>
                        <a:pt x="113" y="240"/>
                      </a:lnTo>
                      <a:lnTo>
                        <a:pt x="170" y="219"/>
                      </a:lnTo>
                      <a:lnTo>
                        <a:pt x="226" y="156"/>
                      </a:lnTo>
                      <a:lnTo>
                        <a:pt x="283" y="0"/>
                      </a:lnTo>
                    </a:path>
                  </a:pathLst>
                </a:custGeom>
                <a:noFill/>
                <a:ln w="3816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2031840" y="5477040"/>
                  <a:ext cx="81000" cy="71280"/>
                </a:xfrm>
                <a:custGeom>
                  <a:avLst/>
                  <a:gdLst/>
                  <a:ahLst/>
                  <a:rect l="l" t="t" r="r" b="b"/>
                  <a:pathLst>
                    <a:path w="51" h="45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5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2795760" y="5246640"/>
                  <a:ext cx="80640" cy="71640"/>
                </a:xfrm>
                <a:custGeom>
                  <a:avLst/>
                  <a:gdLst/>
                  <a:ahLst/>
                  <a:rect l="l" t="t" r="r" b="b"/>
                  <a:pathLst>
                    <a:path w="51" h="45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5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544920" y="495468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6" y="0"/>
                      </a:moveTo>
                      <a:lnTo>
                        <a:pt x="51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4308480" y="470052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6" y="0"/>
                      </a:moveTo>
                      <a:lnTo>
                        <a:pt x="51" y="23"/>
                      </a:lnTo>
                      <a:lnTo>
                        <a:pt x="26" y="46"/>
                      </a:lnTo>
                      <a:lnTo>
                        <a:pt x="0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5059440" y="393696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6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5823000" y="2046240"/>
                  <a:ext cx="81000" cy="73080"/>
                </a:xfrm>
                <a:custGeom>
                  <a:avLst/>
                  <a:gdLst/>
                  <a:ahLst/>
                  <a:rect l="l" t="t" r="r" b="b"/>
                  <a:pathLst>
                    <a:path w="51" h="46">
                      <a:moveTo>
                        <a:pt x="25" y="0"/>
                      </a:moveTo>
                      <a:lnTo>
                        <a:pt x="51" y="23"/>
                      </a:lnTo>
                      <a:lnTo>
                        <a:pt x="25" y="46"/>
                      </a:lnTo>
                      <a:lnTo>
                        <a:pt x="0" y="2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1260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1469160" y="55371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1374840" y="51609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1374840" y="47736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1374840" y="43974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1374840" y="40226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1279080" y="364644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1279080" y="325908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1279080" y="288288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1279080" y="250668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6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1279080" y="211932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1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1279080" y="1743120"/>
                  <a:ext cx="25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993300"/>
                      </a:solidFill>
                      <a:latin typeface="Arial"/>
                    </a:rPr>
                    <a:t>2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187704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6371640" y="55371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6371640" y="506412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6371640" y="45910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6371640" y="41194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6371640" y="364644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6371280" y="316224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6371280" y="268920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6371280" y="221616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6371280" y="1743120"/>
                  <a:ext cx="198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263592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342792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21848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93920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5731560" y="57675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1554120" y="1380960"/>
                  <a:ext cx="844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993300"/>
                      </a:solidFill>
                      <a:latin typeface="Arial"/>
                    </a:rPr>
                    <a:t>MW livrat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5899680" y="1528920"/>
                  <a:ext cx="15264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"/>
                    </a:rPr>
                    <a:t>MW energie verd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9" name=""/>
              <p:cNvGrpSpPr/>
              <p:nvPr/>
            </p:nvGrpSpPr>
            <p:grpSpPr>
              <a:xfrm>
                <a:off x="7323480" y="4076640"/>
                <a:ext cx="1549080" cy="1067760"/>
                <a:chOff x="7323480" y="4076640"/>
                <a:chExt cx="1549080" cy="1067760"/>
              </a:xfrm>
            </p:grpSpPr>
            <p:sp>
              <p:nvSpPr>
                <p:cNvPr id="2190" name=""/>
                <p:cNvSpPr/>
                <p:nvPr/>
              </p:nvSpPr>
              <p:spPr>
                <a:xfrm>
                  <a:off x="7367760" y="4076640"/>
                  <a:ext cx="131904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et 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4 – 42 EUR/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7323480" y="4717800"/>
                  <a:ext cx="1549080" cy="42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enalitati lipsa 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3 – 84 EUR/C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2" name=""/>
          <p:cNvGrpSpPr/>
          <p:nvPr/>
        </p:nvGrpSpPr>
        <p:grpSpPr>
          <a:xfrm>
            <a:off x="-9360" y="333360"/>
            <a:ext cx="9905040" cy="7117920"/>
            <a:chOff x="-9360" y="333360"/>
            <a:chExt cx="9905040" cy="7117920"/>
          </a:xfrm>
        </p:grpSpPr>
        <p:sp>
          <p:nvSpPr>
            <p:cNvPr id="2193" name=""/>
            <p:cNvSpPr/>
            <p:nvPr/>
          </p:nvSpPr>
          <p:spPr>
            <a:xfrm>
              <a:off x="631800" y="333360"/>
              <a:ext cx="878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EVALUARE COSTUR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195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196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1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202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3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204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207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208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9" name=""/>
            <p:cNvGrpSpPr/>
            <p:nvPr/>
          </p:nvGrpSpPr>
          <p:grpSpPr>
            <a:xfrm>
              <a:off x="488880" y="981000"/>
              <a:ext cx="8921880" cy="4824360"/>
              <a:chOff x="488880" y="981000"/>
              <a:chExt cx="8921880" cy="4824360"/>
            </a:xfrm>
          </p:grpSpPr>
          <p:sp>
            <p:nvSpPr>
              <p:cNvPr id="2210" name=""/>
              <p:cNvSpPr/>
              <p:nvPr/>
            </p:nvSpPr>
            <p:spPr>
              <a:xfrm>
                <a:off x="495360" y="5318280"/>
                <a:ext cx="95400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8267760" y="501480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788160" y="501480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1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14920" y="501480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449360" y="501480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te cheltuiel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95360" y="501480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8267760" y="471168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788160" y="471168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614920" y="471168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449360" y="471168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iectare, consultanta Management proie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95360" y="471168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8267760" y="440856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788160" y="440856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614920" y="440856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449360" y="440856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abilitare sistem termofic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95360" y="440856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8267760" y="410544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788160" y="410544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614920" y="410544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449360" y="410544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 preparare AF termofic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95360" y="410544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8267760" y="380196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788160" y="380196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614920" y="380196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449360" y="380196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a statiei de tratare chim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95360" y="380196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8267760" y="349884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788160" y="349884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614920" y="349884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449360" y="349884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stemul de racire tehnolog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95360" y="349884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8267760" y="319572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788160" y="319572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614920" y="319572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449360" y="319572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 turbine existe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95360" y="319572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8267760" y="289260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788160" y="289260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614920" y="289260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449360" y="289260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alare turbine no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95360" y="289260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8267760" y="258912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788160" y="258912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614920" y="258912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449360" y="258912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ospodarie carbu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95360" y="258912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8267760" y="228600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788160" y="228600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5614920" y="228600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449360" y="228600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pozite de cenus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95360" y="228600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8267760" y="198288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6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788160" y="198288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614920" y="1982880"/>
                <a:ext cx="11732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6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449360" y="1982880"/>
                <a:ext cx="4165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lecrofiltre si desulfur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95360" y="1982880"/>
                <a:ext cx="954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8267760" y="1679400"/>
                <a:ext cx="1143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788160" y="1679400"/>
                <a:ext cx="14796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614920" y="1679400"/>
                <a:ext cx="117324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449360" y="1679400"/>
                <a:ext cx="4165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ernizare caza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95360" y="1679400"/>
                <a:ext cx="95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8267760" y="1376280"/>
                <a:ext cx="1143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di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788160" y="1376280"/>
                <a:ext cx="14796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 fontScale="98000"/>
              </a:bodyPr>
              <a:p>
                <a:pPr marL="335880" indent="-3358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icien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788160" y="981000"/>
                <a:ext cx="26226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meniu de aplicabilita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614920" y="981000"/>
                <a:ext cx="117324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lioane EU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449360" y="981000"/>
                <a:ext cx="416556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numire proie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95360" y="981000"/>
                <a:ext cx="95400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r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95360" y="9810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953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94107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95360" y="16794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4493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61492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788160" y="981000"/>
                <a:ext cx="0" cy="4337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267760" y="1376280"/>
                <a:ext cx="0" cy="39420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6788160" y="1376280"/>
                <a:ext cx="26226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95360" y="198288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95360" y="22860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95360" y="258912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495360" y="28926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495360" y="319572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95360" y="349884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95360" y="380196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95360" y="410544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95360" y="440856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495360" y="471168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495360" y="501480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95360" y="5318280"/>
                <a:ext cx="89154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673600" y="5373720"/>
                <a:ext cx="100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~ 1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040520" y="537372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~ 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8337600" y="537372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~ 6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488880" y="5373720"/>
                <a:ext cx="100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2" name=""/>
          <p:cNvGrpSpPr/>
          <p:nvPr/>
        </p:nvGrpSpPr>
        <p:grpSpPr>
          <a:xfrm>
            <a:off x="-9360" y="503280"/>
            <a:ext cx="9905040" cy="6948000"/>
            <a:chOff x="-9360" y="503280"/>
            <a:chExt cx="9905040" cy="6948000"/>
          </a:xfrm>
        </p:grpSpPr>
        <p:sp>
          <p:nvSpPr>
            <p:cNvPr id="2303" name=""/>
            <p:cNvSpPr/>
            <p:nvPr/>
          </p:nvSpPr>
          <p:spPr>
            <a:xfrm>
              <a:off x="163440" y="503280"/>
              <a:ext cx="8785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993300"/>
                  </a:solidFill>
                  <a:latin typeface="Arial"/>
                </a:rPr>
                <a:t>SCHEMA  DE  FINANTARE  PROIEC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4" name=""/>
            <p:cNvGrpSpPr/>
            <p:nvPr/>
          </p:nvGrpSpPr>
          <p:grpSpPr>
            <a:xfrm>
              <a:off x="-9360" y="1916280"/>
              <a:ext cx="9905040" cy="5535000"/>
              <a:chOff x="-9360" y="1916280"/>
              <a:chExt cx="9905040" cy="5535000"/>
            </a:xfrm>
          </p:grpSpPr>
          <p:sp>
            <p:nvSpPr>
              <p:cNvPr id="2305" name=""/>
              <p:cNvSpPr/>
              <p:nvPr/>
            </p:nvSpPr>
            <p:spPr>
              <a:xfrm>
                <a:off x="825840" y="1916280"/>
                <a:ext cx="3841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3300"/>
                    </a:solidFill>
                    <a:latin typeface="Arial"/>
                  </a:rPr>
                  <a:t>TOTAL INVESTITIE 150 mil EU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6" name=""/>
              <p:cNvGrpSpPr/>
              <p:nvPr/>
            </p:nvGrpSpPr>
            <p:grpSpPr>
              <a:xfrm>
                <a:off x="684360" y="2421000"/>
                <a:ext cx="3635280" cy="2795400"/>
                <a:chOff x="684360" y="2421000"/>
                <a:chExt cx="3635280" cy="279540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2714760" y="2421000"/>
                  <a:ext cx="1027080" cy="109692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88" y="95"/>
                      </a:moveTo>
                      <a:cubicBezTo>
                        <a:pt x="88" y="93"/>
                        <a:pt x="89" y="91"/>
                        <a:pt x="89" y="89"/>
                      </a:cubicBezTo>
                      <a:cubicBezTo>
                        <a:pt x="89" y="40"/>
                        <a:pt x="49" y="1"/>
                        <a:pt x="0" y="1"/>
                      </a:cubicBezTo>
                      <a:cubicBezTo>
                        <a:pt x="0" y="0"/>
                        <a:pt x="0" y="1"/>
                        <a:pt x="0" y="1"/>
                      </a:cubicBezTo>
                      <a:lnTo>
                        <a:pt x="0" y="89"/>
                      </a:lnTo>
                      <a:lnTo>
                        <a:pt x="88" y="95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2784600" y="3678120"/>
                  <a:ext cx="1015920" cy="371520"/>
                </a:xfrm>
                <a:custGeom>
                  <a:avLst/>
                  <a:gdLst/>
                  <a:ahLst/>
                  <a:rect l="l" t="t" r="r" b="b"/>
                  <a:pathLst>
                    <a:path w="88" h="32">
                      <a:moveTo>
                        <a:pt x="83" y="32"/>
                      </a:moveTo>
                      <a:cubicBezTo>
                        <a:pt x="86" y="23"/>
                        <a:pt x="88" y="15"/>
                        <a:pt x="88" y="6"/>
                      </a:cubicBez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9933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2714760" y="3805200"/>
                  <a:ext cx="958680" cy="960480"/>
                </a:xfrm>
                <a:custGeom>
                  <a:avLst/>
                  <a:gdLst/>
                  <a:ahLst/>
                  <a:rect l="l" t="t" r="r" b="b"/>
                  <a:pathLst>
                    <a:path w="83" h="83">
                      <a:moveTo>
                        <a:pt x="30" y="83"/>
                      </a:moveTo>
                      <a:cubicBezTo>
                        <a:pt x="54" y="75"/>
                        <a:pt x="73" y="56"/>
                        <a:pt x="83" y="32"/>
                      </a:cubicBezTo>
                      <a:lnTo>
                        <a:pt x="0" y="0"/>
                      </a:lnTo>
                      <a:lnTo>
                        <a:pt x="30" y="8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1814400" y="3876840"/>
                  <a:ext cx="1016280" cy="1015920"/>
                </a:xfrm>
                <a:custGeom>
                  <a:avLst/>
                  <a:gdLst/>
                  <a:ahLst/>
                  <a:rect l="l" t="t" r="r" b="b"/>
                  <a:pathLst>
                    <a:path w="88" h="88">
                      <a:moveTo>
                        <a:pt x="0" y="67"/>
                      </a:moveTo>
                      <a:cubicBezTo>
                        <a:pt x="16" y="81"/>
                        <a:pt x="37" y="88"/>
                        <a:pt x="58" y="88"/>
                      </a:cubicBezTo>
                      <a:cubicBezTo>
                        <a:pt x="68" y="88"/>
                        <a:pt x="78" y="87"/>
                        <a:pt x="88" y="83"/>
                      </a:cubicBezTo>
                      <a:lnTo>
                        <a:pt x="58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1317600" y="3759120"/>
                  <a:ext cx="993960" cy="774720"/>
                </a:xfrm>
                <a:custGeom>
                  <a:avLst/>
                  <a:gdLst/>
                  <a:ahLst/>
                  <a:rect l="l" t="t" r="r" b="b"/>
                  <a:pathLst>
                    <a:path w="86" h="67">
                      <a:moveTo>
                        <a:pt x="0" y="21"/>
                      </a:moveTo>
                      <a:cubicBezTo>
                        <a:pt x="4" y="39"/>
                        <a:pt x="14" y="55"/>
                        <a:pt x="28" y="67"/>
                      </a:cubicBezTo>
                      <a:lnTo>
                        <a:pt x="86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6600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1260360" y="3657600"/>
                  <a:ext cx="1016280" cy="241200"/>
                </a:xfrm>
                <a:custGeom>
                  <a:avLst/>
                  <a:gdLst/>
                  <a:ahLst/>
                  <a:rect l="l" t="t" r="r" b="b"/>
                  <a:pathLst>
                    <a:path w="88" h="21">
                      <a:moveTo>
                        <a:pt x="0" y="2"/>
                      </a:moveTo>
                      <a:cubicBezTo>
                        <a:pt x="0" y="9"/>
                        <a:pt x="1" y="15"/>
                        <a:pt x="2" y="21"/>
                      </a:cubicBezTo>
                      <a:lnTo>
                        <a:pt x="88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1317600" y="2433600"/>
                  <a:ext cx="1027080" cy="1038240"/>
                </a:xfrm>
                <a:custGeom>
                  <a:avLst/>
                  <a:gdLst/>
                  <a:ahLst/>
                  <a:rect l="l" t="t" r="r" b="b"/>
                  <a:pathLst>
                    <a:path w="89" h="90">
                      <a:moveTo>
                        <a:pt x="89" y="0"/>
                      </a:moveTo>
                      <a:cubicBezTo>
                        <a:pt x="40" y="0"/>
                        <a:pt x="1" y="39"/>
                        <a:pt x="1" y="88"/>
                      </a:cubicBezTo>
                      <a:cubicBezTo>
                        <a:pt x="0" y="89"/>
                        <a:pt x="1" y="90"/>
                        <a:pt x="1" y="90"/>
                      </a:cubicBezTo>
                      <a:lnTo>
                        <a:pt x="89" y="88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66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3710160" y="263700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6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3925800" y="3789360"/>
                  <a:ext cx="393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3565440" y="451008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3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2130480" y="494172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7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819000" y="4361040"/>
                  <a:ext cx="5842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0 %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684360" y="3718080"/>
                  <a:ext cx="393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757080" y="2709720"/>
                  <a:ext cx="5205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6 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1" name=""/>
              <p:cNvGrpSpPr/>
              <p:nvPr/>
            </p:nvGrpSpPr>
            <p:grpSpPr>
              <a:xfrm>
                <a:off x="4894200" y="2708280"/>
                <a:ext cx="3918240" cy="2232720"/>
                <a:chOff x="4894200" y="2708280"/>
                <a:chExt cx="3918240" cy="2232720"/>
              </a:xfrm>
            </p:grpSpPr>
            <p:sp>
              <p:nvSpPr>
                <p:cNvPr id="2322" name=""/>
                <p:cNvSpPr/>
                <p:nvPr/>
              </p:nvSpPr>
              <p:spPr>
                <a:xfrm>
                  <a:off x="4894200" y="2725560"/>
                  <a:ext cx="179280" cy="17964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5150160" y="2708280"/>
                  <a:ext cx="35744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mprumuturi pe termen lung (intre 5 si 15 ani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894200" y="3062160"/>
                  <a:ext cx="179280" cy="179640"/>
                </a:xfrm>
                <a:prstGeom prst="rect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5153040" y="3044880"/>
                  <a:ext cx="2760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mprumuturi pe termen scurt (1 an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4894200" y="3398760"/>
                  <a:ext cx="179280" cy="1796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5157720" y="3381480"/>
                  <a:ext cx="1878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arteneriat public priva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4894200" y="3733920"/>
                  <a:ext cx="179280" cy="1792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5154840" y="3718080"/>
                  <a:ext cx="2699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randuri pentru protectia mediulu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4894200" y="4070520"/>
                  <a:ext cx="179280" cy="17928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5153040" y="4054320"/>
                  <a:ext cx="30272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randuri pentru reabilitare termofica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4894200" y="4406760"/>
                  <a:ext cx="179280" cy="179640"/>
                </a:xfrm>
                <a:prstGeom prst="rect">
                  <a:avLst/>
                </a:prstGeom>
                <a:solidFill>
                  <a:srgbClr val="ff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5152680" y="4390920"/>
                  <a:ext cx="3659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randuri Guvernamentale pentru CET Govor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4894200" y="4743360"/>
                  <a:ext cx="179280" cy="179640"/>
                </a:xfrm>
                <a:prstGeom prst="rect">
                  <a:avLst/>
                </a:prstGeom>
                <a:solidFill>
                  <a:srgbClr val="00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5159520" y="4727520"/>
                  <a:ext cx="1431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fit si amortizar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6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grpSp>
              <p:nvGrpSpPr>
                <p:cNvPr id="2337" name=""/>
                <p:cNvGrpSpPr/>
                <p:nvPr/>
              </p:nvGrpSpPr>
              <p:grpSpPr>
                <a:xfrm>
                  <a:off x="-9360" y="6232680"/>
                  <a:ext cx="9905040" cy="1218600"/>
                  <a:chOff x="-9360" y="6232680"/>
                  <a:chExt cx="9905040" cy="1218600"/>
                </a:xfrm>
              </p:grpSpPr>
              <p:sp>
                <p:nvSpPr>
                  <p:cNvPr id="2338" name=""/>
                  <p:cNvSpPr/>
                  <p:nvPr/>
                </p:nvSpPr>
                <p:spPr>
                  <a:xfrm>
                    <a:off x="-9360" y="6232680"/>
                    <a:ext cx="9905040" cy="60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cff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2216160" y="6232680"/>
                    <a:ext cx="1093680" cy="1218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7560" y="6235560"/>
                    <a:ext cx="2779200" cy="609840"/>
                  </a:xfrm>
                  <a:prstGeom prst="rect">
                    <a:avLst/>
                  </a:pr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963360" y="6308640"/>
                    <a:ext cx="160272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200" spc="-1" strike="noStrike">
                        <a:solidFill>
                          <a:srgbClr val="339933"/>
                        </a:solidFill>
                        <a:latin typeface="Arial Black"/>
                      </a:rPr>
                      <a:t>CET Govora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8455680" y="6308640"/>
                    <a:ext cx="1311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339933"/>
                        </a:solidFill>
                        <a:latin typeface="Arial"/>
                      </a:rPr>
                      <a:t>Noiembrie 200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43" name=""/>
                  <p:cNvGrpSpPr/>
                  <p:nvPr/>
                </p:nvGrpSpPr>
                <p:grpSpPr>
                  <a:xfrm>
                    <a:off x="100440" y="6270480"/>
                    <a:ext cx="646920" cy="533520"/>
                    <a:chOff x="100440" y="6270480"/>
                    <a:chExt cx="646920" cy="533520"/>
                  </a:xfrm>
                </p:grpSpPr>
                <p:sp>
                  <p:nvSpPr>
                    <p:cNvPr id="2344" name=""/>
                    <p:cNvSpPr/>
                    <p:nvPr/>
                  </p:nvSpPr>
                  <p:spPr>
                    <a:xfrm>
                      <a:off x="219240" y="6438240"/>
                      <a:ext cx="371520" cy="251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8200"/>
                        </a:gs>
                        <a:gs pos="100000">
                          <a:srgbClr val="000082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0" dir="0" blurRad="0" rotWithShape="0">
                        <a:srgbClr val="8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5" name=""/>
                    <p:cNvSpPr txBox="1"/>
                    <p:nvPr/>
                  </p:nvSpPr>
                  <p:spPr>
                    <a:xfrm>
                      <a:off x="100440" y="6683400"/>
                      <a:ext cx="253800" cy="120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Go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2346" name=""/>
                    <p:cNvSpPr txBox="1"/>
                    <p:nvPr/>
                  </p:nvSpPr>
                  <p:spPr>
                    <a:xfrm>
                      <a:off x="440280" y="6710400"/>
                      <a:ext cx="307080" cy="91440"/>
                    </a:xfrm>
                    <a:prstGeom prst="rect">
                      <a:avLst/>
                    </a:prstGeom>
                  </p:spPr>
                  <p:txBody>
                    <a:bodyPr wrap="none" lIns="90000" rIns="90000" tIns="45000" bIns="450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ora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2347" name=""/>
                    <p:cNvSpPr/>
                    <p:nvPr/>
                  </p:nvSpPr>
                  <p:spPr>
                    <a:xfrm>
                      <a:off x="235800" y="6270480"/>
                      <a:ext cx="341640" cy="53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9" h="702">
                          <a:moveTo>
                            <a:pt x="132" y="178"/>
                          </a:moveTo>
                          <a:lnTo>
                            <a:pt x="0" y="437"/>
                          </a:lnTo>
                          <a:lnTo>
                            <a:pt x="220" y="438"/>
                          </a:lnTo>
                          <a:lnTo>
                            <a:pt x="151" y="582"/>
                          </a:lnTo>
                          <a:lnTo>
                            <a:pt x="190" y="581"/>
                          </a:lnTo>
                          <a:lnTo>
                            <a:pt x="162" y="636"/>
                          </a:lnTo>
                          <a:lnTo>
                            <a:pt x="160" y="635"/>
                          </a:lnTo>
                          <a:lnTo>
                            <a:pt x="156" y="606"/>
                          </a:lnTo>
                          <a:lnTo>
                            <a:pt x="125" y="606"/>
                          </a:lnTo>
                          <a:lnTo>
                            <a:pt x="150" y="702"/>
                          </a:lnTo>
                          <a:lnTo>
                            <a:pt x="339" y="364"/>
                          </a:lnTo>
                          <a:lnTo>
                            <a:pt x="119" y="364"/>
                          </a:lnTo>
                          <a:lnTo>
                            <a:pt x="210" y="176"/>
                          </a:lnTo>
                          <a:lnTo>
                            <a:pt x="264" y="177"/>
                          </a:lnTo>
                          <a:lnTo>
                            <a:pt x="252" y="135"/>
                          </a:lnTo>
                          <a:lnTo>
                            <a:pt x="190" y="136"/>
                          </a:lnTo>
                          <a:lnTo>
                            <a:pt x="207" y="106"/>
                          </a:lnTo>
                          <a:lnTo>
                            <a:pt x="246" y="106"/>
                          </a:lnTo>
                          <a:lnTo>
                            <a:pt x="244" y="78"/>
                          </a:lnTo>
                          <a:lnTo>
                            <a:pt x="220" y="77"/>
                          </a:lnTo>
                          <a:lnTo>
                            <a:pt x="231" y="54"/>
                          </a:lnTo>
                          <a:lnTo>
                            <a:pt x="264" y="56"/>
                          </a:lnTo>
                          <a:lnTo>
                            <a:pt x="281" y="18"/>
                          </a:lnTo>
                          <a:lnTo>
                            <a:pt x="227" y="20"/>
                          </a:lnTo>
                          <a:lnTo>
                            <a:pt x="223" y="0"/>
                          </a:lnTo>
                          <a:lnTo>
                            <a:pt x="97" y="178"/>
                          </a:lnTo>
                          <a:lnTo>
                            <a:pt x="132" y="178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round/>
                    </a:ln>
                    <a:effectLst>
                      <a:outerShdw dist="12600" dir="54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8" name=""/>
                    <p:cNvSpPr txBox="1"/>
                    <p:nvPr/>
                  </p:nvSpPr>
                  <p:spPr>
                    <a:xfrm>
                      <a:off x="202680" y="6277680"/>
                      <a:ext cx="158400" cy="12024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C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  <p:sp>
                  <p:nvSpPr>
                    <p:cNvPr id="2349" name=""/>
                    <p:cNvSpPr txBox="1"/>
                    <p:nvPr/>
                  </p:nvSpPr>
                  <p:spPr>
                    <a:xfrm>
                      <a:off x="535680" y="6287040"/>
                      <a:ext cx="155520" cy="1206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ffff00"/>
                          </a:solidFill>
                          <a:effectLst>
                            <a:outerShdw dist="12600" dir="5400000" blurRad="0" rotWithShape="0">
                              <a:srgbClr val="000000"/>
                            </a:outerShdw>
                          </a:effectLst>
                          <a:latin typeface="Arial Black"/>
                        </a:rPr>
                        <a:t>T</a:t>
                      </a:r>
                      <a:endPara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  <a:ea typeface="Arial Black"/>
                      </a:endParaRPr>
                    </a:p>
                  </p:txBody>
                </p:sp>
              </p:grpSp>
            </p:grpSp>
            <p:sp>
              <p:nvSpPr>
                <p:cNvPr id="2350" name=""/>
                <p:cNvSpPr/>
                <p:nvPr/>
              </p:nvSpPr>
              <p:spPr>
                <a:xfrm>
                  <a:off x="3475800" y="629136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1" name=""/>
          <p:cNvGrpSpPr/>
          <p:nvPr/>
        </p:nvGrpSpPr>
        <p:grpSpPr>
          <a:xfrm>
            <a:off x="-9360" y="2600280"/>
            <a:ext cx="9905040" cy="4851000"/>
            <a:chOff x="-9360" y="2600280"/>
            <a:chExt cx="9905040" cy="4851000"/>
          </a:xfrm>
        </p:grpSpPr>
        <p:grpSp>
          <p:nvGrpSpPr>
            <p:cNvPr id="2352" name=""/>
            <p:cNvGrpSpPr/>
            <p:nvPr/>
          </p:nvGrpSpPr>
          <p:grpSpPr>
            <a:xfrm>
              <a:off x="2822040" y="2600280"/>
              <a:ext cx="4347360" cy="1282680"/>
              <a:chOff x="2822040" y="2600280"/>
              <a:chExt cx="4347360" cy="1282680"/>
            </a:xfrm>
          </p:grpSpPr>
          <p:sp>
            <p:nvSpPr>
              <p:cNvPr id="2353" name=""/>
              <p:cNvSpPr/>
              <p:nvPr/>
            </p:nvSpPr>
            <p:spPr>
              <a:xfrm>
                <a:off x="2822040" y="2600280"/>
                <a:ext cx="434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00"/>
                    </a:solidFill>
                    <a:latin typeface="Arial"/>
                  </a:rPr>
                  <a:t>Va multumim pentru atentia acordata 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356640" y="3514680"/>
                <a:ext cx="348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00"/>
                    </a:solidFill>
                    <a:latin typeface="Arial"/>
                  </a:rPr>
                  <a:t>Director General Mihai BAL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5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2356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2357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2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2363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365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368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2369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549360"/>
            <a:ext cx="9905040" cy="6901920"/>
            <a:chOff x="-9360" y="549360"/>
            <a:chExt cx="9905040" cy="6901920"/>
          </a:xfrm>
        </p:grpSpPr>
        <p:sp>
          <p:nvSpPr>
            <p:cNvPr id="52" name=""/>
            <p:cNvSpPr/>
            <p:nvPr/>
          </p:nvSpPr>
          <p:spPr>
            <a:xfrm>
              <a:off x="776160" y="549360"/>
              <a:ext cx="864072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3300"/>
                  </a:solidFill>
                  <a:latin typeface="Arial"/>
                </a:rPr>
                <a:t>OBIECTIVE MAJOR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20880" y="1755720"/>
              <a:ext cx="8424720" cy="33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ACOPERIRE INTEGRALA PIATA LOCALA DE ENERGIE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FUNCTIONARE SIGURA SI EFICIENTA PENTRU URMATORII 20 DE ANI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RESPECTAREA NORMELOR DE MEDIU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0"/>
                </a:lnSpc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SATISFACTIE CLIENTI SI ANGAJAT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-9360" y="6232680"/>
              <a:ext cx="9905040" cy="1218600"/>
              <a:chOff x="-9360" y="6232680"/>
              <a:chExt cx="9905040" cy="121860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-9360" y="6232680"/>
                <a:ext cx="9905040" cy="1218600"/>
                <a:chOff x="-9360" y="6232680"/>
                <a:chExt cx="9905040" cy="121860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-9360" y="6232680"/>
                  <a:ext cx="9905040" cy="60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ff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216160" y="6232680"/>
                  <a:ext cx="109368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60" y="6235560"/>
                  <a:ext cx="2779200" cy="60984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963360" y="6308640"/>
                  <a:ext cx="16027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9933"/>
                      </a:solidFill>
                      <a:latin typeface="Arial Black"/>
                    </a:rPr>
                    <a:t>CET Govora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455680" y="6308640"/>
                  <a:ext cx="131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339933"/>
                      </a:solidFill>
                      <a:latin typeface="Arial"/>
                    </a:rPr>
                    <a:t>Noiembrie 200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" name=""/>
                <p:cNvGrpSpPr/>
                <p:nvPr/>
              </p:nvGrpSpPr>
              <p:grpSpPr>
                <a:xfrm>
                  <a:off x="100440" y="6270480"/>
                  <a:ext cx="646920" cy="533520"/>
                  <a:chOff x="100440" y="6270480"/>
                  <a:chExt cx="646920" cy="53352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219240" y="6438240"/>
                    <a:ext cx="371520" cy="25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8200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0" dir="0" blurRad="0" rotWithShape="0">
                      <a:srgbClr val="8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 txBox="1"/>
                  <p:nvPr/>
                </p:nvSpPr>
                <p:spPr>
                  <a:xfrm>
                    <a:off x="100440" y="6683400"/>
                    <a:ext cx="25380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Go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64" name=""/>
                  <p:cNvSpPr txBox="1"/>
                  <p:nvPr/>
                </p:nvSpPr>
                <p:spPr>
                  <a:xfrm>
                    <a:off x="440280" y="6710400"/>
                    <a:ext cx="307080" cy="91440"/>
                  </a:xfrm>
                  <a:prstGeom prst="rect">
                    <a:avLst/>
                  </a:prstGeom>
                </p:spPr>
                <p:txBody>
                  <a:bodyPr wrap="none" lIns="90000" rIns="90000" tIns="45000" bIns="450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ora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35800" y="6270480"/>
                    <a:ext cx="34164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702">
                        <a:moveTo>
                          <a:pt x="132" y="178"/>
                        </a:moveTo>
                        <a:lnTo>
                          <a:pt x="0" y="437"/>
                        </a:lnTo>
                        <a:lnTo>
                          <a:pt x="220" y="438"/>
                        </a:lnTo>
                        <a:lnTo>
                          <a:pt x="151" y="582"/>
                        </a:lnTo>
                        <a:lnTo>
                          <a:pt x="190" y="581"/>
                        </a:lnTo>
                        <a:lnTo>
                          <a:pt x="162" y="636"/>
                        </a:lnTo>
                        <a:lnTo>
                          <a:pt x="160" y="635"/>
                        </a:lnTo>
                        <a:lnTo>
                          <a:pt x="156" y="606"/>
                        </a:lnTo>
                        <a:lnTo>
                          <a:pt x="125" y="606"/>
                        </a:lnTo>
                        <a:lnTo>
                          <a:pt x="150" y="702"/>
                        </a:lnTo>
                        <a:lnTo>
                          <a:pt x="339" y="364"/>
                        </a:lnTo>
                        <a:lnTo>
                          <a:pt x="119" y="364"/>
                        </a:lnTo>
                        <a:lnTo>
                          <a:pt x="210" y="176"/>
                        </a:lnTo>
                        <a:lnTo>
                          <a:pt x="264" y="177"/>
                        </a:lnTo>
                        <a:lnTo>
                          <a:pt x="252" y="135"/>
                        </a:lnTo>
                        <a:lnTo>
                          <a:pt x="190" y="136"/>
                        </a:lnTo>
                        <a:lnTo>
                          <a:pt x="207" y="106"/>
                        </a:lnTo>
                        <a:lnTo>
                          <a:pt x="246" y="106"/>
                        </a:lnTo>
                        <a:lnTo>
                          <a:pt x="244" y="78"/>
                        </a:lnTo>
                        <a:lnTo>
                          <a:pt x="220" y="77"/>
                        </a:lnTo>
                        <a:lnTo>
                          <a:pt x="231" y="54"/>
                        </a:lnTo>
                        <a:lnTo>
                          <a:pt x="264" y="56"/>
                        </a:lnTo>
                        <a:lnTo>
                          <a:pt x="281" y="18"/>
                        </a:lnTo>
                        <a:lnTo>
                          <a:pt x="227" y="20"/>
                        </a:lnTo>
                        <a:lnTo>
                          <a:pt x="223" y="0"/>
                        </a:lnTo>
                        <a:lnTo>
                          <a:pt x="97" y="178"/>
                        </a:lnTo>
                        <a:lnTo>
                          <a:pt x="132" y="1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12600" dir="54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 txBox="1"/>
                  <p:nvPr/>
                </p:nvSpPr>
                <p:spPr>
                  <a:xfrm>
                    <a:off x="202680" y="6277680"/>
                    <a:ext cx="158400" cy="1202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C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67" name=""/>
                  <p:cNvSpPr txBox="1"/>
                  <p:nvPr/>
                </p:nvSpPr>
                <p:spPr>
                  <a:xfrm>
                    <a:off x="535680" y="6287040"/>
                    <a:ext cx="155520" cy="120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00"/>
                        </a:solidFill>
                        <a:effectLst>
                          <a:outerShdw dist="12600" dir="5400000" blurRad="0" rotWithShape="0">
                            <a:srgbClr val="000000"/>
                          </a:outerShdw>
                        </a:effectLst>
                        <a:latin typeface="Arial Black"/>
                      </a:rPr>
                      <a:t>T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00"/>
                      </a:solidFill>
                      <a:effectLst>
                        <a:outerShdw dist="12600" dir="5400000" blurRad="0" rotWithShape="0">
                          <a:srgbClr val="000000"/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</p:grpSp>
          </p:grpSp>
          <p:sp>
            <p:nvSpPr>
              <p:cNvPr id="68" name=""/>
              <p:cNvSpPr/>
              <p:nvPr/>
            </p:nvSpPr>
            <p:spPr>
              <a:xfrm>
                <a:off x="3475800" y="6291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00160" y="189000"/>
            <a:ext cx="9581400" cy="6153120"/>
            <a:chOff x="200160" y="189000"/>
            <a:chExt cx="9581400" cy="6153120"/>
          </a:xfrm>
        </p:grpSpPr>
        <p:sp>
          <p:nvSpPr>
            <p:cNvPr id="70" name=""/>
            <p:cNvSpPr/>
            <p:nvPr/>
          </p:nvSpPr>
          <p:spPr>
            <a:xfrm>
              <a:off x="272880" y="18900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ACTUALA (INAINTE DE PROGRAMUL DE DEZVOLTAR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200160" y="642960"/>
              <a:ext cx="9581400" cy="5699160"/>
              <a:chOff x="200160" y="642960"/>
              <a:chExt cx="9581400" cy="56991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2185920" y="2290680"/>
                <a:ext cx="531360" cy="805680"/>
                <a:chOff x="2185920" y="2290680"/>
                <a:chExt cx="531360" cy="80568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185920" y="2290680"/>
                  <a:ext cx="531360" cy="414000"/>
                  <a:chOff x="2185920" y="2290680"/>
                  <a:chExt cx="531360" cy="4140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18592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0500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2251080" y="2703240"/>
                  <a:ext cx="412560" cy="393120"/>
                  <a:chOff x="2251080" y="2703240"/>
                  <a:chExt cx="412560" cy="39312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>
                    <a:off x="245556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>
                    <a:off x="225396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225108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H="1">
                    <a:off x="244944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45880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" name=""/>
              <p:cNvSpPr/>
              <p:nvPr/>
            </p:nvSpPr>
            <p:spPr>
              <a:xfrm>
                <a:off x="1928880" y="3117960"/>
                <a:ext cx="7183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2174760" y="1079640"/>
                <a:ext cx="560160" cy="1217520"/>
                <a:chOff x="2174760" y="1079640"/>
                <a:chExt cx="560160" cy="121752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174760" y="16257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28600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519280" y="16257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3016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8600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63016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" name=""/>
                <p:cNvGrpSpPr/>
                <p:nvPr/>
              </p:nvGrpSpPr>
              <p:grpSpPr>
                <a:xfrm>
                  <a:off x="2174760" y="1241640"/>
                  <a:ext cx="216000" cy="215640"/>
                  <a:chOff x="2174760" y="1241640"/>
                  <a:chExt cx="216000" cy="21564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2174760" y="12416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H="1">
                    <a:off x="22204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2319120" y="12985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2519280" y="1241640"/>
                  <a:ext cx="215640" cy="215640"/>
                  <a:chOff x="2519280" y="1241640"/>
                  <a:chExt cx="215640" cy="21564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2519280" y="12416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H="1">
                    <a:off x="2565000" y="12985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26632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" name=""/>
                <p:cNvSpPr/>
                <p:nvPr/>
              </p:nvSpPr>
              <p:spPr>
                <a:xfrm>
                  <a:off x="228600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63016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 flipH="1">
                <a:off x="1280880" y="2109960"/>
                <a:ext cx="9126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911240" y="2109960"/>
                <a:ext cx="264960" cy="360360"/>
                <a:chOff x="1911240" y="2109960"/>
                <a:chExt cx="264960" cy="3603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917360" y="21099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1911240" y="24703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638520" y="2290680"/>
                <a:ext cx="531360" cy="805680"/>
                <a:chOff x="3638520" y="2290680"/>
                <a:chExt cx="531360" cy="80568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3638520" y="2290680"/>
                  <a:ext cx="531360" cy="414000"/>
                  <a:chOff x="3638520" y="2290680"/>
                  <a:chExt cx="531360" cy="41400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363852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65760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3703680" y="2703240"/>
                  <a:ext cx="412560" cy="393120"/>
                  <a:chOff x="3703680" y="2703240"/>
                  <a:chExt cx="412560" cy="39312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390816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H="1">
                    <a:off x="370656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70368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>
                    <a:off x="390204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391140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" name=""/>
              <p:cNvGrpSpPr/>
              <p:nvPr/>
            </p:nvGrpSpPr>
            <p:grpSpPr>
              <a:xfrm>
                <a:off x="3627360" y="1079640"/>
                <a:ext cx="560160" cy="1217520"/>
                <a:chOff x="3627360" y="1079640"/>
                <a:chExt cx="560160" cy="12175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627360" y="16257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73860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971880" y="16257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08276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3860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08276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3627360" y="1241640"/>
                  <a:ext cx="216000" cy="215640"/>
                  <a:chOff x="3627360" y="1241640"/>
                  <a:chExt cx="216000" cy="21564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3627360" y="12416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>
                    <a:off x="36730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3771720" y="12985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3971880" y="1241640"/>
                  <a:ext cx="215640" cy="215640"/>
                  <a:chOff x="3971880" y="1241640"/>
                  <a:chExt cx="215640" cy="21564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3971880" y="12416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H="1">
                    <a:off x="4017600" y="12985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411588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"/>
                <p:cNvSpPr/>
                <p:nvPr/>
              </p:nvSpPr>
              <p:spPr>
                <a:xfrm>
                  <a:off x="373860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08276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363840" y="2109960"/>
                <a:ext cx="264960" cy="360360"/>
                <a:chOff x="3363840" y="2109960"/>
                <a:chExt cx="264960" cy="3603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369960" y="21099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3363840" y="24703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 flipH="1">
                <a:off x="2342880" y="2109960"/>
                <a:ext cx="215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703240" y="2109960"/>
                <a:ext cx="934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782880" y="210996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143240" y="2109960"/>
                <a:ext cx="944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5354640" y="2290680"/>
                <a:ext cx="531360" cy="805680"/>
                <a:chOff x="5354640" y="2290680"/>
                <a:chExt cx="531360" cy="80568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5354640" y="2290680"/>
                  <a:ext cx="531360" cy="414000"/>
                  <a:chOff x="5354640" y="2290680"/>
                  <a:chExt cx="531360" cy="4140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535464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37372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5419800" y="2703240"/>
                  <a:ext cx="412560" cy="393120"/>
                  <a:chOff x="5419800" y="2703240"/>
                  <a:chExt cx="412560" cy="3931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562428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>
                    <a:off x="542268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41980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>
                    <a:off x="561816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62752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"/>
              <p:cNvGrpSpPr/>
              <p:nvPr/>
            </p:nvGrpSpPr>
            <p:grpSpPr>
              <a:xfrm>
                <a:off x="5343480" y="1079640"/>
                <a:ext cx="560160" cy="1217520"/>
                <a:chOff x="5343480" y="1079640"/>
                <a:chExt cx="560160" cy="12175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343480" y="16257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45472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688000" y="16257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798880" y="18939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45472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798880" y="14619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5343480" y="1241640"/>
                  <a:ext cx="216000" cy="215640"/>
                  <a:chOff x="5343480" y="1241640"/>
                  <a:chExt cx="216000" cy="21564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5343480" y="12416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>
                    <a:off x="538920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5487840" y="12985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688000" y="1241640"/>
                  <a:ext cx="215640" cy="215640"/>
                  <a:chOff x="5688000" y="1241640"/>
                  <a:chExt cx="215640" cy="2156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5688000" y="12416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>
                    <a:off x="5733720" y="12985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5832000" y="12985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"/>
                <p:cNvSpPr/>
                <p:nvPr/>
              </p:nvSpPr>
              <p:spPr>
                <a:xfrm>
                  <a:off x="545472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798880" y="1079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079960" y="2109960"/>
                <a:ext cx="264960" cy="360360"/>
                <a:chOff x="5079960" y="2109960"/>
                <a:chExt cx="264960" cy="3603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086080" y="21099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5079960" y="24703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 flipH="1">
                <a:off x="991800" y="10875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23880" y="900000"/>
                <a:ext cx="360360" cy="360360"/>
                <a:chOff x="623880" y="900000"/>
                <a:chExt cx="360360" cy="3603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96960" y="9730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3880" y="9000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589640" y="900000"/>
                <a:ext cx="360360" cy="360360"/>
                <a:chOff x="4589640" y="900000"/>
                <a:chExt cx="360360" cy="3603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662720" y="9730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589640" y="9000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3730680" y="10875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4983120" y="1087560"/>
                <a:ext cx="827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6859440" y="2290680"/>
                <a:ext cx="531360" cy="805680"/>
                <a:chOff x="6859440" y="2290680"/>
                <a:chExt cx="531360" cy="80568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6859440" y="2290680"/>
                  <a:ext cx="531360" cy="414000"/>
                  <a:chOff x="6859440" y="2290680"/>
                  <a:chExt cx="531360" cy="4140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685944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87852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924600" y="2703240"/>
                  <a:ext cx="412560" cy="393120"/>
                  <a:chOff x="6924600" y="2703240"/>
                  <a:chExt cx="412560" cy="3931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712908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>
                    <a:off x="692748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92460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>
                    <a:off x="712296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13232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7" name=""/>
              <p:cNvGrpSpPr/>
              <p:nvPr/>
            </p:nvGrpSpPr>
            <p:grpSpPr>
              <a:xfrm>
                <a:off x="8310600" y="2290680"/>
                <a:ext cx="531360" cy="805680"/>
                <a:chOff x="8310600" y="2290680"/>
                <a:chExt cx="531360" cy="80568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8310600" y="2290680"/>
                  <a:ext cx="531360" cy="414000"/>
                  <a:chOff x="8310600" y="2290680"/>
                  <a:chExt cx="531360" cy="4140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8310600" y="229068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8329680" y="232200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8375760" y="2703240"/>
                  <a:ext cx="412560" cy="393120"/>
                  <a:chOff x="8375760" y="2703240"/>
                  <a:chExt cx="412560" cy="39312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8580240" y="270324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>
                    <a:off x="8378640" y="281088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375760" y="290628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H="1">
                    <a:off x="8574120" y="290628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8583480" y="299016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7670880" y="1547640"/>
                <a:ext cx="360360" cy="360360"/>
                <a:chOff x="7670880" y="1547640"/>
                <a:chExt cx="360360" cy="3603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7743960" y="162072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670880" y="154764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7118280" y="17305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108920" y="170172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59720" y="170172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352160" y="4013280"/>
                <a:ext cx="8209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352160" y="4549680"/>
                <a:ext cx="8209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5280" y="28544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461960" y="37576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61960" y="42991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352160" y="5556240"/>
                <a:ext cx="8209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61960" y="529740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89240" y="62056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352160" y="6205680"/>
                <a:ext cx="2376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719160" y="6060960"/>
                <a:ext cx="359280" cy="269640"/>
                <a:chOff x="3719160" y="6060960"/>
                <a:chExt cx="359280" cy="2696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719520" y="6060960"/>
                  <a:ext cx="358920" cy="2696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3719160" y="606096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1461960" y="591804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8091000" y="17305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2880" y="1811160"/>
                <a:ext cx="935280" cy="3225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3916440" y="3036960"/>
                <a:ext cx="891720" cy="3133800"/>
                <a:chOff x="3916440" y="3036960"/>
                <a:chExt cx="891720" cy="31338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3916440" y="3036960"/>
                  <a:ext cx="891720" cy="3133800"/>
                  <a:chOff x="3916440" y="3036960"/>
                  <a:chExt cx="891720" cy="31338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V="1">
                    <a:off x="418932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3916440" y="3036960"/>
                    <a:ext cx="891720" cy="685440"/>
                    <a:chOff x="3916440" y="3036960"/>
                    <a:chExt cx="891720" cy="68544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48596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460188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4" name=""/>
                    <p:cNvGrpSpPr/>
                    <p:nvPr/>
                  </p:nvGrpSpPr>
                  <p:grpSpPr>
                    <a:xfrm>
                      <a:off x="3916440" y="3036960"/>
                      <a:ext cx="579600" cy="685440"/>
                      <a:chOff x="3916440" y="3036960"/>
                      <a:chExt cx="579600" cy="685440"/>
                    </a:xfrm>
                  </p:grpSpPr>
                  <p:grpSp>
                    <p:nvGrpSpPr>
                      <p:cNvPr id="225" name=""/>
                      <p:cNvGrpSpPr/>
                      <p:nvPr/>
                    </p:nvGrpSpPr>
                    <p:grpSpPr>
                      <a:xfrm>
                        <a:off x="3920760" y="3290760"/>
                        <a:ext cx="575280" cy="431640"/>
                        <a:chOff x="3920760" y="3290760"/>
                        <a:chExt cx="575280" cy="431640"/>
                      </a:xfrm>
                    </p:grpSpPr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 flipV="1">
                          <a:off x="392076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392076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>
                          <a:off x="392076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>
                          <a:off x="449604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391644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31" name=""/>
                  <p:cNvSpPr/>
                  <p:nvPr/>
                </p:nvSpPr>
                <p:spPr>
                  <a:xfrm>
                    <a:off x="400680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18932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V="1">
                    <a:off x="449892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49892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49892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49892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>
                  <a:off x="395460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5629320" y="3036960"/>
                <a:ext cx="891720" cy="3133800"/>
                <a:chOff x="5629320" y="3036960"/>
                <a:chExt cx="891720" cy="313380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5629320" y="3036960"/>
                  <a:ext cx="891720" cy="3133800"/>
                  <a:chOff x="5629320" y="3036960"/>
                  <a:chExt cx="891720" cy="31338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flipV="1">
                    <a:off x="590220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5629320" y="3036960"/>
                    <a:ext cx="891720" cy="685440"/>
                    <a:chOff x="5629320" y="3036960"/>
                    <a:chExt cx="891720" cy="68544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19884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631476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44" name=""/>
                    <p:cNvGrpSpPr/>
                    <p:nvPr/>
                  </p:nvGrpSpPr>
                  <p:grpSpPr>
                    <a:xfrm>
                      <a:off x="5629320" y="3036960"/>
                      <a:ext cx="579600" cy="685440"/>
                      <a:chOff x="5629320" y="3036960"/>
                      <a:chExt cx="579600" cy="685440"/>
                    </a:xfrm>
                  </p:grpSpPr>
                  <p:grpSp>
                    <p:nvGrpSpPr>
                      <p:cNvPr id="245" name=""/>
                      <p:cNvGrpSpPr/>
                      <p:nvPr/>
                    </p:nvGrpSpPr>
                    <p:grpSpPr>
                      <a:xfrm>
                        <a:off x="5633640" y="3290760"/>
                        <a:ext cx="575280" cy="431640"/>
                        <a:chOff x="5633640" y="3290760"/>
                        <a:chExt cx="575280" cy="431640"/>
                      </a:xfrm>
                    </p:grpSpPr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V="1">
                          <a:off x="563364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V="1">
                          <a:off x="563364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563364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620892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562932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51" name=""/>
                  <p:cNvSpPr/>
                  <p:nvPr/>
                </p:nvSpPr>
                <p:spPr>
                  <a:xfrm>
                    <a:off x="571968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590220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V="1">
                    <a:off x="621180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621180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21180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21180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>
                  <a:off x="567360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7128000" y="3036960"/>
                <a:ext cx="1194840" cy="3133800"/>
                <a:chOff x="7128000" y="3036960"/>
                <a:chExt cx="1194840" cy="31338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7128000" y="3036960"/>
                  <a:ext cx="1194840" cy="3133800"/>
                  <a:chOff x="7128000" y="3036960"/>
                  <a:chExt cx="1194840" cy="31338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V="1">
                    <a:off x="738216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7128000" y="3036960"/>
                    <a:ext cx="891720" cy="685440"/>
                    <a:chOff x="7128000" y="3036960"/>
                    <a:chExt cx="891720" cy="68544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69752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81344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4" name=""/>
                    <p:cNvGrpSpPr/>
                    <p:nvPr/>
                  </p:nvGrpSpPr>
                  <p:grpSpPr>
                    <a:xfrm>
                      <a:off x="7128000" y="3036960"/>
                      <a:ext cx="579600" cy="685440"/>
                      <a:chOff x="7128000" y="3036960"/>
                      <a:chExt cx="579600" cy="685440"/>
                    </a:xfrm>
                  </p:grpSpPr>
                  <p:grpSp>
                    <p:nvGrpSpPr>
                      <p:cNvPr id="265" name=""/>
                      <p:cNvGrpSpPr/>
                      <p:nvPr/>
                    </p:nvGrpSpPr>
                    <p:grpSpPr>
                      <a:xfrm>
                        <a:off x="7132320" y="3290760"/>
                        <a:ext cx="575280" cy="431640"/>
                        <a:chOff x="7132320" y="3290760"/>
                        <a:chExt cx="575280" cy="431640"/>
                      </a:xfrm>
                    </p:grpSpPr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 flipV="1">
                          <a:off x="713232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 flipV="1">
                          <a:off x="713232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>
                          <a:off x="713232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>
                          <a:off x="770760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712800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71" name=""/>
                  <p:cNvSpPr/>
                  <p:nvPr/>
                </p:nvSpPr>
                <p:spPr>
                  <a:xfrm>
                    <a:off x="721836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38216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755820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55820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55820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55820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7826400" y="3721320"/>
                    <a:ext cx="496440" cy="187200"/>
                    <a:chOff x="7826400" y="3721320"/>
                    <a:chExt cx="496440" cy="1872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826400" y="37213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9" name=""/>
                    <p:cNvGrpSpPr/>
                    <p:nvPr/>
                  </p:nvGrpSpPr>
                  <p:grpSpPr>
                    <a:xfrm>
                      <a:off x="7905600" y="3757680"/>
                      <a:ext cx="417240" cy="117360"/>
                      <a:chOff x="7905600" y="3757680"/>
                      <a:chExt cx="417240" cy="117360"/>
                    </a:xfrm>
                  </p:grpSpPr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7905600" y="37576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7909920" y="37609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 flipH="1">
                        <a:off x="7909920" y="38203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>
                        <a:off x="7909920" y="38750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84" name=""/>
                  <p:cNvSpPr/>
                  <p:nvPr/>
                </p:nvSpPr>
                <p:spPr>
                  <a:xfrm flipV="1">
                    <a:off x="7710480" y="37098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7705800" y="38293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>
                  <a:off x="718488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8586720" y="3036960"/>
                <a:ext cx="1194840" cy="3133800"/>
                <a:chOff x="8586720" y="3036960"/>
                <a:chExt cx="1194840" cy="3133800"/>
              </a:xfrm>
            </p:grpSpPr>
            <p:grpSp>
              <p:nvGrpSpPr>
                <p:cNvPr id="288" name=""/>
                <p:cNvGrpSpPr/>
                <p:nvPr/>
              </p:nvGrpSpPr>
              <p:grpSpPr>
                <a:xfrm>
                  <a:off x="8586720" y="3036960"/>
                  <a:ext cx="1194840" cy="3133800"/>
                  <a:chOff x="8586720" y="3036960"/>
                  <a:chExt cx="1194840" cy="313380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flipV="1">
                    <a:off x="8840880" y="36655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8586720" y="3036960"/>
                    <a:ext cx="891720" cy="685440"/>
                    <a:chOff x="8586720" y="3036960"/>
                    <a:chExt cx="891720" cy="68544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9156240" y="35038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9272160" y="34117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8586720" y="3036960"/>
                      <a:ext cx="579600" cy="685440"/>
                      <a:chOff x="8586720" y="3036960"/>
                      <a:chExt cx="579600" cy="685440"/>
                    </a:xfrm>
                  </p:grpSpPr>
                  <p:grpSp>
                    <p:nvGrpSpPr>
                      <p:cNvPr id="294" name=""/>
                      <p:cNvGrpSpPr/>
                      <p:nvPr/>
                    </p:nvGrpSpPr>
                    <p:grpSpPr>
                      <a:xfrm>
                        <a:off x="8591040" y="3290760"/>
                        <a:ext cx="575280" cy="431640"/>
                        <a:chOff x="8591040" y="3290760"/>
                        <a:chExt cx="575280" cy="431640"/>
                      </a:xfrm>
                    </p:grpSpPr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 flipV="1">
                          <a:off x="8591040" y="33991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 flipV="1">
                          <a:off x="8591040" y="32907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8591040" y="36140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9166320" y="32911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8586720" y="30369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0" name=""/>
                  <p:cNvSpPr/>
                  <p:nvPr/>
                </p:nvSpPr>
                <p:spPr>
                  <a:xfrm>
                    <a:off x="8677080" y="36226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884088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>
                    <a:off x="9016920" y="36842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9016920" y="40798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9016920" y="56293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9016920" y="46213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9285120" y="3721320"/>
                    <a:ext cx="496440" cy="187200"/>
                    <a:chOff x="9285120" y="3721320"/>
                    <a:chExt cx="496440" cy="18720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9285120" y="37213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9364320" y="3757680"/>
                      <a:ext cx="417240" cy="117360"/>
                      <a:chOff x="9364320" y="3757680"/>
                      <a:chExt cx="417240" cy="117360"/>
                    </a:xfrm>
                  </p:grpSpPr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9364320" y="37576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9368640" y="37609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 flipH="1">
                        <a:off x="9368640" y="38203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9368640" y="38750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3" name=""/>
                  <p:cNvSpPr/>
                  <p:nvPr/>
                </p:nvSpPr>
                <p:spPr>
                  <a:xfrm flipV="1">
                    <a:off x="9169200" y="37098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9164520" y="38293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5" name=""/>
                <p:cNvSpPr/>
                <p:nvPr/>
              </p:nvSpPr>
              <p:spPr>
                <a:xfrm>
                  <a:off x="8624880" y="33688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200160" y="1506600"/>
                <a:ext cx="187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Depozit zgura si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7520" y="6429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21240" y="642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583400" y="1316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99360" y="4559400"/>
                <a:ext cx="20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3249720" y="6083280"/>
                <a:ext cx="258480" cy="258840"/>
                <a:chOff x="3249720" y="6083280"/>
                <a:chExt cx="258480" cy="25884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249720" y="6083280"/>
                  <a:ext cx="258480" cy="25884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3297240" y="6214320"/>
                  <a:ext cx="155880" cy="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272880" y="166680"/>
            <a:ext cx="9566280" cy="6357600"/>
            <a:chOff x="272880" y="166680"/>
            <a:chExt cx="9566280" cy="6357600"/>
          </a:xfrm>
        </p:grpSpPr>
        <p:sp>
          <p:nvSpPr>
            <p:cNvPr id="325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93840" y="809640"/>
              <a:ext cx="9445320" cy="5714640"/>
              <a:chOff x="393840" y="809640"/>
              <a:chExt cx="9445320" cy="571464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2401920" y="2484360"/>
                <a:ext cx="531360" cy="805680"/>
                <a:chOff x="2401920" y="2484360"/>
                <a:chExt cx="531360" cy="805680"/>
              </a:xfrm>
            </p:grpSpPr>
            <p:grpSp>
              <p:nvGrpSpPr>
                <p:cNvPr id="328" name=""/>
                <p:cNvGrpSpPr/>
                <p:nvPr/>
              </p:nvGrpSpPr>
              <p:grpSpPr>
                <a:xfrm>
                  <a:off x="2401920" y="2484360"/>
                  <a:ext cx="531360" cy="414000"/>
                  <a:chOff x="2401920" y="2484360"/>
                  <a:chExt cx="531360" cy="4140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240192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242100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2467080" y="2896920"/>
                  <a:ext cx="412560" cy="393120"/>
                  <a:chOff x="2467080" y="2896920"/>
                  <a:chExt cx="412560" cy="39312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267156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246996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46708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>
                    <a:off x="266544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67480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7" name=""/>
              <p:cNvSpPr/>
              <p:nvPr/>
            </p:nvSpPr>
            <p:spPr>
              <a:xfrm>
                <a:off x="1208160" y="331164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2390760" y="1273320"/>
                <a:ext cx="560160" cy="1217520"/>
                <a:chOff x="2390760" y="1273320"/>
                <a:chExt cx="560160" cy="12175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390760" y="181944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50200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735280" y="181944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84616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50200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4616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2390760" y="1435320"/>
                  <a:ext cx="216000" cy="215640"/>
                  <a:chOff x="2390760" y="1435320"/>
                  <a:chExt cx="216000" cy="2156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2390760" y="143532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>
                    <a:off x="243648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535120" y="149220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735280" y="1435320"/>
                  <a:ext cx="215640" cy="215640"/>
                  <a:chOff x="2735280" y="1435320"/>
                  <a:chExt cx="215640" cy="2156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735280" y="143532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>
                    <a:off x="2781000" y="149220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87928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>
                  <a:off x="250200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84616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 flipH="1">
                <a:off x="1496880" y="2303640"/>
                <a:ext cx="9129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2127240" y="2303640"/>
                <a:ext cx="264960" cy="360360"/>
                <a:chOff x="2127240" y="2303640"/>
                <a:chExt cx="264960" cy="3603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133360" y="230364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2127240" y="266400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854520" y="2484360"/>
                <a:ext cx="531360" cy="805680"/>
                <a:chOff x="3854520" y="2484360"/>
                <a:chExt cx="531360" cy="805680"/>
              </a:xfrm>
            </p:grpSpPr>
            <p:grpSp>
              <p:nvGrpSpPr>
                <p:cNvPr id="360" name=""/>
                <p:cNvGrpSpPr/>
                <p:nvPr/>
              </p:nvGrpSpPr>
              <p:grpSpPr>
                <a:xfrm>
                  <a:off x="3854520" y="2484360"/>
                  <a:ext cx="531360" cy="414000"/>
                  <a:chOff x="3854520" y="2484360"/>
                  <a:chExt cx="531360" cy="4140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385452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87360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3919680" y="2896920"/>
                  <a:ext cx="412560" cy="393120"/>
                  <a:chOff x="3919680" y="2896920"/>
                  <a:chExt cx="412560" cy="3931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412416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>
                    <a:off x="392256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391968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>
                    <a:off x="411804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12740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9" name=""/>
              <p:cNvSpPr/>
              <p:nvPr/>
            </p:nvSpPr>
            <p:spPr>
              <a:xfrm>
                <a:off x="3843360" y="181944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954600" y="208764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87880" y="181944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299120" y="208764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954600" y="16556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99120" y="16556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843360" y="1434960"/>
                <a:ext cx="216000" cy="215640"/>
                <a:chOff x="3843360" y="1434960"/>
                <a:chExt cx="216000" cy="2156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843360" y="143496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3889080" y="149184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987720" y="149184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187880" y="1434960"/>
                <a:ext cx="216000" cy="215640"/>
                <a:chOff x="4187880" y="1434960"/>
                <a:chExt cx="216000" cy="2156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187880" y="143496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4233600" y="149184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332240" y="149184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3954600" y="12733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299120" y="12733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3579840" y="2303640"/>
                <a:ext cx="264960" cy="360360"/>
                <a:chOff x="3579840" y="2303640"/>
                <a:chExt cx="264960" cy="36036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585960" y="230364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>
                  <a:off x="3579840" y="266400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 flipH="1">
                <a:off x="2558880" y="230364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2919240" y="2303640"/>
                <a:ext cx="935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98880" y="230364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4359240" y="2303640"/>
                <a:ext cx="944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5570640" y="2484360"/>
                <a:ext cx="531360" cy="805680"/>
                <a:chOff x="5570640" y="2484360"/>
                <a:chExt cx="531360" cy="805680"/>
              </a:xfrm>
            </p:grpSpPr>
            <p:grpSp>
              <p:nvGrpSpPr>
                <p:cNvPr id="393" name=""/>
                <p:cNvGrpSpPr/>
                <p:nvPr/>
              </p:nvGrpSpPr>
              <p:grpSpPr>
                <a:xfrm>
                  <a:off x="5570640" y="2484360"/>
                  <a:ext cx="531360" cy="414000"/>
                  <a:chOff x="5570640" y="2484360"/>
                  <a:chExt cx="531360" cy="41400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557064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558972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5635800" y="2896920"/>
                  <a:ext cx="412560" cy="393120"/>
                  <a:chOff x="5635800" y="2896920"/>
                  <a:chExt cx="412560" cy="39312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584028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>
                    <a:off x="563868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563580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>
                    <a:off x="583416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584352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2" name=""/>
              <p:cNvGrpSpPr/>
              <p:nvPr/>
            </p:nvGrpSpPr>
            <p:grpSpPr>
              <a:xfrm>
                <a:off x="5559480" y="1273320"/>
                <a:ext cx="560160" cy="1217520"/>
                <a:chOff x="5559480" y="1273320"/>
                <a:chExt cx="560160" cy="12175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559480" y="181944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67072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904000" y="181944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014880" y="208764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7072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14880" y="16556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5559480" y="1435320"/>
                  <a:ext cx="216000" cy="215640"/>
                  <a:chOff x="5559480" y="1435320"/>
                  <a:chExt cx="216000" cy="2156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5559480" y="143532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560520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703840" y="149220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5904000" y="1435320"/>
                  <a:ext cx="215640" cy="215640"/>
                  <a:chOff x="5904000" y="1435320"/>
                  <a:chExt cx="215640" cy="2156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5904000" y="143532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5949720" y="149220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048000" y="149220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>
                  <a:off x="567072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014880" y="12733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295960" y="2303640"/>
                <a:ext cx="264960" cy="360360"/>
                <a:chOff x="5295960" y="2303640"/>
                <a:chExt cx="264960" cy="36036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302080" y="230364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>
                  <a:off x="5295960" y="266400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4805280" y="1093680"/>
                <a:ext cx="360360" cy="360360"/>
                <a:chOff x="4805280" y="1093680"/>
                <a:chExt cx="360360" cy="36036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4878360" y="116676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805280" y="109368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3946680" y="128124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5198760" y="128124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7075440" y="2484360"/>
                <a:ext cx="531360" cy="805680"/>
                <a:chOff x="7075440" y="2484360"/>
                <a:chExt cx="531360" cy="805680"/>
              </a:xfrm>
            </p:grpSpPr>
            <p:grpSp>
              <p:nvGrpSpPr>
                <p:cNvPr id="428" name=""/>
                <p:cNvGrpSpPr/>
                <p:nvPr/>
              </p:nvGrpSpPr>
              <p:grpSpPr>
                <a:xfrm>
                  <a:off x="7075440" y="2484360"/>
                  <a:ext cx="531360" cy="414000"/>
                  <a:chOff x="7075440" y="2484360"/>
                  <a:chExt cx="531360" cy="4140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707544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09452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7140600" y="2896920"/>
                  <a:ext cx="412560" cy="393120"/>
                  <a:chOff x="7140600" y="2896920"/>
                  <a:chExt cx="412560" cy="3931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734508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>
                    <a:off x="714348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714060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>
                    <a:off x="733896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34832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8526600" y="2484360"/>
                <a:ext cx="531360" cy="805680"/>
                <a:chOff x="8526600" y="2484360"/>
                <a:chExt cx="531360" cy="8056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8526600" y="2484360"/>
                  <a:ext cx="531360" cy="414000"/>
                  <a:chOff x="8526600" y="2484360"/>
                  <a:chExt cx="531360" cy="4140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8526600" y="248436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8545680" y="251568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8591760" y="2896920"/>
                  <a:ext cx="412560" cy="393120"/>
                  <a:chOff x="8591760" y="2896920"/>
                  <a:chExt cx="412560" cy="3931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8796240" y="289692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8594640" y="300456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591760" y="309996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>
                    <a:off x="8790120" y="309996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8799480" y="318384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7886880" y="1741320"/>
                <a:ext cx="360360" cy="360360"/>
                <a:chOff x="7886880" y="1741320"/>
                <a:chExt cx="360360" cy="3603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7959960" y="181440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886880" y="174132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7334280" y="192420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324560" y="189540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775720" y="1895400"/>
                <a:ext cx="0" cy="576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992160" y="4206960"/>
                <a:ext cx="8785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20880" y="4743360"/>
                <a:ext cx="8856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136520" y="304812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150920" y="3951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150920" y="449280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992160" y="5749920"/>
                <a:ext cx="87850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50920" y="54910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305240" y="6399360"/>
                <a:ext cx="5472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92160" y="6399360"/>
                <a:ext cx="2952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3935520" y="6254640"/>
                <a:ext cx="358560" cy="269640"/>
                <a:chOff x="3935520" y="6254640"/>
                <a:chExt cx="358560" cy="2696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935520" y="6254640"/>
                  <a:ext cx="358560" cy="2696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3935520" y="6254640"/>
                  <a:ext cx="358560" cy="2649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1150920" y="611172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8307000" y="192420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88880" y="2004840"/>
                <a:ext cx="935280" cy="32256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4132440" y="3230640"/>
                <a:ext cx="891720" cy="3133800"/>
                <a:chOff x="4132440" y="3230640"/>
                <a:chExt cx="891720" cy="313380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4132440" y="3230640"/>
                  <a:ext cx="891720" cy="3133800"/>
                  <a:chOff x="4132440" y="3230640"/>
                  <a:chExt cx="891720" cy="313380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flipV="1">
                    <a:off x="4405320" y="385920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4132440" y="3230640"/>
                    <a:ext cx="891720" cy="685440"/>
                    <a:chOff x="4132440" y="3230640"/>
                    <a:chExt cx="891720" cy="68544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701960" y="369756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817880" y="360540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74" name=""/>
                    <p:cNvGrpSpPr/>
                    <p:nvPr/>
                  </p:nvGrpSpPr>
                  <p:grpSpPr>
                    <a:xfrm>
                      <a:off x="4132440" y="3230640"/>
                      <a:ext cx="579600" cy="685440"/>
                      <a:chOff x="4132440" y="3230640"/>
                      <a:chExt cx="579600" cy="685440"/>
                    </a:xfrm>
                  </p:grpSpPr>
                  <p:grpSp>
                    <p:nvGrpSpPr>
                      <p:cNvPr id="475" name=""/>
                      <p:cNvGrpSpPr/>
                      <p:nvPr/>
                    </p:nvGrpSpPr>
                    <p:grpSpPr>
                      <a:xfrm>
                        <a:off x="4136760" y="3484440"/>
                        <a:ext cx="575280" cy="431640"/>
                        <a:chOff x="4136760" y="3484440"/>
                        <a:chExt cx="575280" cy="431640"/>
                      </a:xfrm>
                    </p:grpSpPr>
                    <p:sp>
                      <p:nvSpPr>
                        <p:cNvPr id="476" name=""/>
                        <p:cNvSpPr/>
                        <p:nvPr/>
                      </p:nvSpPr>
                      <p:spPr>
                        <a:xfrm flipV="1">
                          <a:off x="4136760" y="359280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"/>
                        <p:cNvSpPr/>
                        <p:nvPr/>
                      </p:nvSpPr>
                      <p:spPr>
                        <a:xfrm flipV="1">
                          <a:off x="4136760" y="34844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"/>
                        <p:cNvSpPr/>
                        <p:nvPr/>
                      </p:nvSpPr>
                      <p:spPr>
                        <a:xfrm>
                          <a:off x="4136760" y="380772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"/>
                        <p:cNvSpPr/>
                        <p:nvPr/>
                      </p:nvSpPr>
                      <p:spPr>
                        <a:xfrm>
                          <a:off x="4712040" y="348480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4132440" y="323064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1" name=""/>
                  <p:cNvSpPr/>
                  <p:nvPr/>
                </p:nvSpPr>
                <p:spPr>
                  <a:xfrm>
                    <a:off x="4222800" y="381636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440532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4714920" y="387792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471492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714920" y="582300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714920" y="481500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"/>
                <p:cNvSpPr/>
                <p:nvPr/>
              </p:nvSpPr>
              <p:spPr>
                <a:xfrm>
                  <a:off x="4170600" y="35625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845320" y="3230640"/>
                <a:ext cx="891720" cy="3133800"/>
                <a:chOff x="5845320" y="3230640"/>
                <a:chExt cx="891720" cy="3133800"/>
              </a:xfrm>
            </p:grpSpPr>
            <p:grpSp>
              <p:nvGrpSpPr>
                <p:cNvPr id="489" name=""/>
                <p:cNvGrpSpPr/>
                <p:nvPr/>
              </p:nvGrpSpPr>
              <p:grpSpPr>
                <a:xfrm>
                  <a:off x="5845320" y="3230640"/>
                  <a:ext cx="891720" cy="3133800"/>
                  <a:chOff x="5845320" y="3230640"/>
                  <a:chExt cx="891720" cy="31338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flipV="1">
                    <a:off x="6118200" y="385920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5845320" y="3230640"/>
                    <a:ext cx="891720" cy="685440"/>
                    <a:chOff x="5845320" y="3230640"/>
                    <a:chExt cx="891720" cy="68544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6414840" y="369756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6530760" y="360540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94" name=""/>
                    <p:cNvGrpSpPr/>
                    <p:nvPr/>
                  </p:nvGrpSpPr>
                  <p:grpSpPr>
                    <a:xfrm>
                      <a:off x="5845320" y="3230640"/>
                      <a:ext cx="579600" cy="685440"/>
                      <a:chOff x="5845320" y="3230640"/>
                      <a:chExt cx="579600" cy="685440"/>
                    </a:xfrm>
                  </p:grpSpPr>
                  <p:grpSp>
                    <p:nvGrpSpPr>
                      <p:cNvPr id="495" name=""/>
                      <p:cNvGrpSpPr/>
                      <p:nvPr/>
                    </p:nvGrpSpPr>
                    <p:grpSpPr>
                      <a:xfrm>
                        <a:off x="5849640" y="3484440"/>
                        <a:ext cx="575280" cy="431640"/>
                        <a:chOff x="5849640" y="3484440"/>
                        <a:chExt cx="575280" cy="431640"/>
                      </a:xfrm>
                    </p:grpSpPr>
                    <p:sp>
                      <p:nvSpPr>
                        <p:cNvPr id="496" name=""/>
                        <p:cNvSpPr/>
                        <p:nvPr/>
                      </p:nvSpPr>
                      <p:spPr>
                        <a:xfrm flipV="1">
                          <a:off x="5849640" y="359280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"/>
                        <p:cNvSpPr/>
                        <p:nvPr/>
                      </p:nvSpPr>
                      <p:spPr>
                        <a:xfrm flipV="1">
                          <a:off x="5849640" y="34844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>
                          <a:off x="5849640" y="380772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>
                          <a:off x="6424920" y="348480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00" name=""/>
                      <p:cNvSpPr/>
                      <p:nvPr/>
                    </p:nvSpPr>
                    <p:spPr>
                      <a:xfrm>
                        <a:off x="5845320" y="323064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01" name=""/>
                  <p:cNvSpPr/>
                  <p:nvPr/>
                </p:nvSpPr>
                <p:spPr>
                  <a:xfrm>
                    <a:off x="5935680" y="381636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611820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V="1">
                    <a:off x="6427800" y="387792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642780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6427800" y="582300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6427800" y="481500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7" name=""/>
                <p:cNvSpPr/>
                <p:nvPr/>
              </p:nvSpPr>
              <p:spPr>
                <a:xfrm>
                  <a:off x="5889600" y="35625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7343640" y="3230640"/>
                <a:ext cx="1194840" cy="3133800"/>
                <a:chOff x="7343640" y="3230640"/>
                <a:chExt cx="1194840" cy="3133800"/>
              </a:xfrm>
            </p:grpSpPr>
            <p:grpSp>
              <p:nvGrpSpPr>
                <p:cNvPr id="509" name=""/>
                <p:cNvGrpSpPr/>
                <p:nvPr/>
              </p:nvGrpSpPr>
              <p:grpSpPr>
                <a:xfrm>
                  <a:off x="7343640" y="3230640"/>
                  <a:ext cx="1194840" cy="3133800"/>
                  <a:chOff x="7343640" y="3230640"/>
                  <a:chExt cx="1194840" cy="313380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flipV="1">
                    <a:off x="7597800" y="385920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7343640" y="3230640"/>
                    <a:ext cx="891720" cy="685440"/>
                    <a:chOff x="7343640" y="3230640"/>
                    <a:chExt cx="891720" cy="68544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7913160" y="369756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8029080" y="360540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4" name=""/>
                    <p:cNvGrpSpPr/>
                    <p:nvPr/>
                  </p:nvGrpSpPr>
                  <p:grpSpPr>
                    <a:xfrm>
                      <a:off x="7343640" y="3230640"/>
                      <a:ext cx="579600" cy="685440"/>
                      <a:chOff x="7343640" y="3230640"/>
                      <a:chExt cx="579600" cy="685440"/>
                    </a:xfrm>
                  </p:grpSpPr>
                  <p:grpSp>
                    <p:nvGrpSpPr>
                      <p:cNvPr id="515" name=""/>
                      <p:cNvGrpSpPr/>
                      <p:nvPr/>
                    </p:nvGrpSpPr>
                    <p:grpSpPr>
                      <a:xfrm>
                        <a:off x="7347960" y="3484440"/>
                        <a:ext cx="575280" cy="431640"/>
                        <a:chOff x="7347960" y="3484440"/>
                        <a:chExt cx="575280" cy="431640"/>
                      </a:xfrm>
                    </p:grpSpPr>
                    <p:sp>
                      <p:nvSpPr>
                        <p:cNvPr id="516" name=""/>
                        <p:cNvSpPr/>
                        <p:nvPr/>
                      </p:nvSpPr>
                      <p:spPr>
                        <a:xfrm flipV="1">
                          <a:off x="7347960" y="359280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"/>
                        <p:cNvSpPr/>
                        <p:nvPr/>
                      </p:nvSpPr>
                      <p:spPr>
                        <a:xfrm flipV="1">
                          <a:off x="7347960" y="34844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"/>
                        <p:cNvSpPr/>
                        <p:nvPr/>
                      </p:nvSpPr>
                      <p:spPr>
                        <a:xfrm>
                          <a:off x="7347960" y="380772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"/>
                        <p:cNvSpPr/>
                        <p:nvPr/>
                      </p:nvSpPr>
                      <p:spPr>
                        <a:xfrm>
                          <a:off x="7923240" y="348480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20" name=""/>
                      <p:cNvSpPr/>
                      <p:nvPr/>
                    </p:nvSpPr>
                    <p:spPr>
                      <a:xfrm>
                        <a:off x="7343640" y="323064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21" name=""/>
                  <p:cNvSpPr/>
                  <p:nvPr/>
                </p:nvSpPr>
                <p:spPr>
                  <a:xfrm>
                    <a:off x="7434000" y="381636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59780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7773840" y="387792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7773840" y="427356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7773840" y="582300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7773840" y="481500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8042040" y="3915000"/>
                    <a:ext cx="496440" cy="187200"/>
                    <a:chOff x="8042040" y="3915000"/>
                    <a:chExt cx="496440" cy="18720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8042040" y="391500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29" name=""/>
                    <p:cNvGrpSpPr/>
                    <p:nvPr/>
                  </p:nvGrpSpPr>
                  <p:grpSpPr>
                    <a:xfrm>
                      <a:off x="8121240" y="3951360"/>
                      <a:ext cx="417240" cy="117360"/>
                      <a:chOff x="8121240" y="3951360"/>
                      <a:chExt cx="417240" cy="117360"/>
                    </a:xfrm>
                  </p:grpSpPr>
                  <p:sp>
                    <p:nvSpPr>
                      <p:cNvPr id="530" name=""/>
                      <p:cNvSpPr/>
                      <p:nvPr/>
                    </p:nvSpPr>
                    <p:spPr>
                      <a:xfrm>
                        <a:off x="8121240" y="395136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"/>
                      <p:cNvSpPr/>
                      <p:nvPr/>
                    </p:nvSpPr>
                    <p:spPr>
                      <a:xfrm>
                        <a:off x="8125560" y="395460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"/>
                      <p:cNvSpPr/>
                      <p:nvPr/>
                    </p:nvSpPr>
                    <p:spPr>
                      <a:xfrm flipH="1">
                        <a:off x="8125560" y="401400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"/>
                      <p:cNvSpPr/>
                      <p:nvPr/>
                    </p:nvSpPr>
                    <p:spPr>
                      <a:xfrm>
                        <a:off x="8125560" y="406872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34" name=""/>
                  <p:cNvSpPr/>
                  <p:nvPr/>
                </p:nvSpPr>
                <p:spPr>
                  <a:xfrm flipV="1">
                    <a:off x="7926120" y="390348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7921440" y="402300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"/>
                <p:cNvSpPr/>
                <p:nvPr/>
              </p:nvSpPr>
              <p:spPr>
                <a:xfrm>
                  <a:off x="7400520" y="35625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8840880" y="356220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04640" y="1700280"/>
                <a:ext cx="1308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Depozit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37240" y="83664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799400" y="150984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1496880" y="3284640"/>
                <a:ext cx="671760" cy="882720"/>
                <a:chOff x="1496880" y="3284640"/>
                <a:chExt cx="671760" cy="8827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1855800" y="3697200"/>
                  <a:ext cx="1033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962000" y="3605040"/>
                  <a:ext cx="20664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4" name=""/>
                <p:cNvGrpSpPr/>
                <p:nvPr/>
              </p:nvGrpSpPr>
              <p:grpSpPr>
                <a:xfrm>
                  <a:off x="1496880" y="3484080"/>
                  <a:ext cx="365040" cy="432000"/>
                  <a:chOff x="1496880" y="3484080"/>
                  <a:chExt cx="365040" cy="43200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flipV="1">
                    <a:off x="1496880" y="359244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>
                    <a:off x="1496880" y="3484080"/>
                    <a:ext cx="36504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496880" y="3807360"/>
                    <a:ext cx="36504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861920" y="348444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"/>
                <p:cNvSpPr/>
                <p:nvPr/>
              </p:nvSpPr>
              <p:spPr>
                <a:xfrm>
                  <a:off x="1496880" y="328464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863720" y="381636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1438200" y="356220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2" name=""/>
              <p:cNvGrpSpPr/>
              <p:nvPr/>
            </p:nvGrpSpPr>
            <p:grpSpPr>
              <a:xfrm>
                <a:off x="6792840" y="4757760"/>
                <a:ext cx="751680" cy="975240"/>
                <a:chOff x="6792840" y="4757760"/>
                <a:chExt cx="751680" cy="975240"/>
              </a:xfrm>
            </p:grpSpPr>
            <p:grpSp>
              <p:nvGrpSpPr>
                <p:cNvPr id="553" name=""/>
                <p:cNvGrpSpPr/>
                <p:nvPr/>
              </p:nvGrpSpPr>
              <p:grpSpPr>
                <a:xfrm>
                  <a:off x="6873480" y="4757760"/>
                  <a:ext cx="671040" cy="975240"/>
                  <a:chOff x="6873480" y="4757760"/>
                  <a:chExt cx="671040" cy="97524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7232040" y="521388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7338240" y="5111640"/>
                    <a:ext cx="20628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6873480" y="4978080"/>
                    <a:ext cx="364680" cy="477360"/>
                    <a:chOff x="6873480" y="4978080"/>
                    <a:chExt cx="364680" cy="47736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flipV="1">
                      <a:off x="6873480" y="509832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flipV="1">
                      <a:off x="6873480" y="4978080"/>
                      <a:ext cx="36468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6873480" y="5335560"/>
                      <a:ext cx="36468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7238160" y="497844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1" name=""/>
                  <p:cNvSpPr/>
                  <p:nvPr/>
                </p:nvSpPr>
                <p:spPr>
                  <a:xfrm>
                    <a:off x="6873480" y="475776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239960" y="534528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3" name=""/>
                <p:cNvSpPr/>
                <p:nvPr/>
              </p:nvSpPr>
              <p:spPr>
                <a:xfrm>
                  <a:off x="6792840" y="5064840"/>
                  <a:ext cx="502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 flipH="1">
                <a:off x="1196640" y="125424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828720" y="1066680"/>
                <a:ext cx="360360" cy="360360"/>
                <a:chOff x="828720" y="1066680"/>
                <a:chExt cx="360360" cy="3603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901800" y="113976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28720" y="106668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792000" y="80964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8880" y="2365200"/>
                <a:ext cx="935280" cy="32256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93840" y="2647800"/>
                <a:ext cx="187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1" name=""/>
              <p:cNvGrpSpPr/>
              <p:nvPr/>
            </p:nvGrpSpPr>
            <p:grpSpPr>
              <a:xfrm>
                <a:off x="8793000" y="3230640"/>
                <a:ext cx="1046160" cy="3133800"/>
                <a:chOff x="8793000" y="3230640"/>
                <a:chExt cx="1046160" cy="3133800"/>
              </a:xfrm>
            </p:grpSpPr>
            <p:sp>
              <p:nvSpPr>
                <p:cNvPr id="572" name=""/>
                <p:cNvSpPr/>
                <p:nvPr/>
              </p:nvSpPr>
              <p:spPr>
                <a:xfrm flipV="1">
                  <a:off x="9046800" y="3859200"/>
                  <a:ext cx="0" cy="270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"/>
                <p:cNvGrpSpPr/>
                <p:nvPr/>
              </p:nvGrpSpPr>
              <p:grpSpPr>
                <a:xfrm>
                  <a:off x="8793000" y="3230640"/>
                  <a:ext cx="891720" cy="685440"/>
                  <a:chOff x="8793000" y="3230640"/>
                  <a:chExt cx="891720" cy="68544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9362520" y="369756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9478440" y="360540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8793000" y="3230640"/>
                    <a:ext cx="579600" cy="685440"/>
                    <a:chOff x="8793000" y="3230640"/>
                    <a:chExt cx="579600" cy="685440"/>
                  </a:xfrm>
                </p:grpSpPr>
                <p:grpSp>
                  <p:nvGrpSpPr>
                    <p:cNvPr id="577" name=""/>
                    <p:cNvGrpSpPr/>
                    <p:nvPr/>
                  </p:nvGrpSpPr>
                  <p:grpSpPr>
                    <a:xfrm>
                      <a:off x="8797320" y="3484440"/>
                      <a:ext cx="575280" cy="431640"/>
                      <a:chOff x="8797320" y="3484440"/>
                      <a:chExt cx="575280" cy="431640"/>
                    </a:xfrm>
                  </p:grpSpPr>
                  <p:sp>
                    <p:nvSpPr>
                      <p:cNvPr id="578" name=""/>
                      <p:cNvSpPr/>
                      <p:nvPr/>
                    </p:nvSpPr>
                    <p:spPr>
                      <a:xfrm flipV="1">
                        <a:off x="8797320" y="359280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"/>
                      <p:cNvSpPr/>
                      <p:nvPr/>
                    </p:nvSpPr>
                    <p:spPr>
                      <a:xfrm flipV="1">
                        <a:off x="8797320" y="34844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"/>
                      <p:cNvSpPr/>
                      <p:nvPr/>
                    </p:nvSpPr>
                    <p:spPr>
                      <a:xfrm>
                        <a:off x="8797320" y="380772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"/>
                      <p:cNvSpPr/>
                      <p:nvPr/>
                    </p:nvSpPr>
                    <p:spPr>
                      <a:xfrm>
                        <a:off x="9372600" y="348480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8793000" y="323064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83" name=""/>
                <p:cNvSpPr/>
                <p:nvPr/>
              </p:nvSpPr>
              <p:spPr>
                <a:xfrm>
                  <a:off x="8883360" y="381636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9046800" y="427356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9223200" y="387792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9223200" y="427356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9223200" y="582300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9223200" y="481500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8831160" y="3562200"/>
                  <a:ext cx="1008000" cy="540000"/>
                  <a:chOff x="8831160" y="3562200"/>
                  <a:chExt cx="1008000" cy="540000"/>
                </a:xfrm>
              </p:grpSpPr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9370800" y="3903840"/>
                    <a:ext cx="468360" cy="198360"/>
                    <a:chOff x="9370800" y="3903840"/>
                    <a:chExt cx="468360" cy="198360"/>
                  </a:xfrm>
                </p:grpSpPr>
                <p:grpSp>
                  <p:nvGrpSpPr>
                    <p:cNvPr id="591" name=""/>
                    <p:cNvGrpSpPr/>
                    <p:nvPr/>
                  </p:nvGrpSpPr>
                  <p:grpSpPr>
                    <a:xfrm>
                      <a:off x="9491400" y="3914640"/>
                      <a:ext cx="347760" cy="187560"/>
                      <a:chOff x="9491400" y="3914640"/>
                      <a:chExt cx="347760" cy="187560"/>
                    </a:xfrm>
                  </p:grpSpPr>
                  <p:sp>
                    <p:nvSpPr>
                      <p:cNvPr id="592" name=""/>
                      <p:cNvSpPr/>
                      <p:nvPr/>
                    </p:nvSpPr>
                    <p:spPr>
                      <a:xfrm>
                        <a:off x="9491400" y="3914640"/>
                        <a:ext cx="208080" cy="18756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93" name=""/>
                      <p:cNvGrpSpPr/>
                      <p:nvPr/>
                    </p:nvGrpSpPr>
                    <p:grpSpPr>
                      <a:xfrm>
                        <a:off x="9570960" y="3951360"/>
                        <a:ext cx="268200" cy="117360"/>
                        <a:chOff x="9570960" y="3951360"/>
                        <a:chExt cx="268200" cy="117360"/>
                      </a:xfrm>
                    </p:grpSpPr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>
                          <a:off x="9570960" y="3951360"/>
                          <a:ext cx="268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>
                          <a:off x="9575640" y="395460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 flipH="1">
                          <a:off x="9575280" y="401328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9575640" y="4068720"/>
                          <a:ext cx="2635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98" name=""/>
                    <p:cNvGrpSpPr/>
                    <p:nvPr/>
                  </p:nvGrpSpPr>
                  <p:grpSpPr>
                    <a:xfrm>
                      <a:off x="9370800" y="3903840"/>
                      <a:ext cx="119160" cy="118800"/>
                      <a:chOff x="9370800" y="3903840"/>
                      <a:chExt cx="119160" cy="118800"/>
                    </a:xfrm>
                  </p:grpSpPr>
                  <p:sp>
                    <p:nvSpPr>
                      <p:cNvPr id="599" name=""/>
                      <p:cNvSpPr/>
                      <p:nvPr/>
                    </p:nvSpPr>
                    <p:spPr>
                      <a:xfrm flipV="1">
                        <a:off x="9375480" y="3903840"/>
                        <a:ext cx="0" cy="1188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"/>
                      <p:cNvSpPr/>
                      <p:nvPr/>
                    </p:nvSpPr>
                    <p:spPr>
                      <a:xfrm>
                        <a:off x="9370800" y="4022640"/>
                        <a:ext cx="1191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01" name=""/>
                  <p:cNvSpPr/>
                  <p:nvPr/>
                </p:nvSpPr>
                <p:spPr>
                  <a:xfrm>
                    <a:off x="8831160" y="356220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2" name=""/>
              <p:cNvSpPr/>
              <p:nvPr/>
            </p:nvSpPr>
            <p:spPr>
              <a:xfrm rot="16200000">
                <a:off x="-356400" y="4690440"/>
                <a:ext cx="2189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1496880" y="241128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558880" y="240192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2919240" y="240192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998880" y="240192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4359240" y="240192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3335400" y="6261120"/>
                <a:ext cx="258840" cy="258840"/>
                <a:chOff x="3335400" y="6261120"/>
                <a:chExt cx="258840" cy="25884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3335400" y="626112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>
                  <a:off x="3383280" y="639216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1" name=""/>
          <p:cNvSpPr/>
          <p:nvPr/>
        </p:nvSpPr>
        <p:spPr>
          <a:xfrm>
            <a:off x="849240" y="3500280"/>
            <a:ext cx="43200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48520" y="501336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865600" y="595008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00160" y="2565360"/>
            <a:ext cx="503280" cy="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97240" y="1773360"/>
            <a:ext cx="431640" cy="14292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72880" y="2205000"/>
            <a:ext cx="1295640" cy="64764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98920" y="1681200"/>
            <a:ext cx="1079280" cy="57636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136520" y="3300480"/>
            <a:ext cx="1295640" cy="863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735280" y="6002280"/>
            <a:ext cx="115092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65960" y="4797360"/>
            <a:ext cx="1295280" cy="863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272880" y="166680"/>
            <a:ext cx="9563400" cy="6411600"/>
            <a:chOff x="272880" y="166680"/>
            <a:chExt cx="9563400" cy="6411600"/>
          </a:xfrm>
        </p:grpSpPr>
        <p:sp>
          <p:nvSpPr>
            <p:cNvPr id="622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390600" y="857160"/>
              <a:ext cx="9445680" cy="5721120"/>
              <a:chOff x="390600" y="857160"/>
              <a:chExt cx="9445680" cy="5721120"/>
            </a:xfrm>
          </p:grpSpPr>
          <p:sp>
            <p:nvSpPr>
              <p:cNvPr id="624" name=""/>
              <p:cNvSpPr/>
              <p:nvPr/>
            </p:nvSpPr>
            <p:spPr>
              <a:xfrm>
                <a:off x="1204920" y="335916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987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432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4987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8432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2387520" y="1482840"/>
                <a:ext cx="216000" cy="215640"/>
                <a:chOff x="2387520" y="1482840"/>
                <a:chExt cx="216000" cy="21564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23875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>
                  <a:off x="24332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5318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732040" y="1482840"/>
                <a:ext cx="216000" cy="215640"/>
                <a:chOff x="2732040" y="1482840"/>
                <a:chExt cx="216000" cy="2156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7320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>
                  <a:off x="27777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8764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24987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8432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1493640" y="2351160"/>
                <a:ext cx="9126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3851280" y="2532240"/>
                <a:ext cx="531360" cy="805680"/>
                <a:chOff x="3851280" y="2532240"/>
                <a:chExt cx="531360" cy="80568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3851280" y="2532240"/>
                  <a:ext cx="531360" cy="414000"/>
                  <a:chOff x="3851280" y="2532240"/>
                  <a:chExt cx="531360" cy="41400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385128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87036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3916440" y="2944800"/>
                  <a:ext cx="412560" cy="393120"/>
                  <a:chOff x="3916440" y="2944800"/>
                  <a:chExt cx="412560" cy="39312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12092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>
                    <a:off x="391932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391644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411480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412416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0" name=""/>
              <p:cNvSpPr/>
              <p:nvPr/>
            </p:nvSpPr>
            <p:spPr>
              <a:xfrm>
                <a:off x="384012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513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1846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2958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9513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2958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3840120" y="1482840"/>
                <a:ext cx="216000" cy="215640"/>
                <a:chOff x="3840120" y="1482840"/>
                <a:chExt cx="216000" cy="2156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38401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38858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9844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4184640" y="1482840"/>
                <a:ext cx="216000" cy="215640"/>
                <a:chOff x="4184640" y="1482840"/>
                <a:chExt cx="216000" cy="2156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1846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>
                  <a:off x="42303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3290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>
                <a:off x="39513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2958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3576600" y="2351160"/>
                <a:ext cx="264960" cy="360360"/>
                <a:chOff x="3576600" y="2351160"/>
                <a:chExt cx="264960" cy="3603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358272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H="1">
                  <a:off x="357660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2124000" y="2351160"/>
                <a:ext cx="806400" cy="987480"/>
                <a:chOff x="2124000" y="2351160"/>
                <a:chExt cx="806400" cy="987480"/>
              </a:xfrm>
            </p:grpSpPr>
            <p:grpSp>
              <p:nvGrpSpPr>
                <p:cNvPr id="670" name=""/>
                <p:cNvGrpSpPr/>
                <p:nvPr/>
              </p:nvGrpSpPr>
              <p:grpSpPr>
                <a:xfrm>
                  <a:off x="2398680" y="2531880"/>
                  <a:ext cx="531720" cy="414360"/>
                  <a:chOff x="2398680" y="2531880"/>
                  <a:chExt cx="531720" cy="41436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2398680" y="2531880"/>
                    <a:ext cx="531720" cy="41436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41452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2463840" y="2944800"/>
                  <a:ext cx="412560" cy="393840"/>
                  <a:chOff x="2463840" y="2944800"/>
                  <a:chExt cx="412560" cy="39384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>
                    <a:off x="266832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>
                    <a:off x="246672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46384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>
                    <a:off x="266220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67156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2124000" y="2351160"/>
                  <a:ext cx="264960" cy="360360"/>
                  <a:chOff x="2124000" y="2351160"/>
                  <a:chExt cx="264960" cy="36036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213012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>
                    <a:off x="212400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2" name=""/>
                <p:cNvSpPr/>
                <p:nvPr/>
              </p:nvSpPr>
              <p:spPr>
                <a:xfrm flipH="1">
                  <a:off x="2555640" y="2351160"/>
                  <a:ext cx="2156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"/>
              <p:cNvSpPr/>
              <p:nvPr/>
            </p:nvSpPr>
            <p:spPr>
              <a:xfrm flipH="1">
                <a:off x="2916000" y="2351160"/>
                <a:ext cx="934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3995640" y="2351160"/>
                <a:ext cx="21600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4356000" y="2351160"/>
                <a:ext cx="9446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5567400" y="2532240"/>
                <a:ext cx="531360" cy="805680"/>
                <a:chOff x="5567400" y="2532240"/>
                <a:chExt cx="531360" cy="805680"/>
              </a:xfrm>
            </p:grpSpPr>
            <p:grpSp>
              <p:nvGrpSpPr>
                <p:cNvPr id="687" name=""/>
                <p:cNvGrpSpPr/>
                <p:nvPr/>
              </p:nvGrpSpPr>
              <p:grpSpPr>
                <a:xfrm>
                  <a:off x="5567400" y="2532240"/>
                  <a:ext cx="531360" cy="414000"/>
                  <a:chOff x="5567400" y="2532240"/>
                  <a:chExt cx="531360" cy="41400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>
                    <a:off x="556740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558648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"/>
                <p:cNvGrpSpPr/>
                <p:nvPr/>
              </p:nvGrpSpPr>
              <p:grpSpPr>
                <a:xfrm>
                  <a:off x="5632560" y="2944800"/>
                  <a:ext cx="412560" cy="393120"/>
                  <a:chOff x="5632560" y="2944800"/>
                  <a:chExt cx="412560" cy="39312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583704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>
                    <a:off x="563544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563256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583092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84028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6" name=""/>
              <p:cNvGrpSpPr/>
              <p:nvPr/>
            </p:nvGrpSpPr>
            <p:grpSpPr>
              <a:xfrm>
                <a:off x="5556240" y="1320840"/>
                <a:ext cx="560160" cy="1217520"/>
                <a:chOff x="5556240" y="1320840"/>
                <a:chExt cx="560160" cy="121752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5556240" y="18669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6674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900760" y="18669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01164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66748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01164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3" name=""/>
                <p:cNvGrpSpPr/>
                <p:nvPr/>
              </p:nvGrpSpPr>
              <p:grpSpPr>
                <a:xfrm>
                  <a:off x="5556240" y="1482840"/>
                  <a:ext cx="216000" cy="215640"/>
                  <a:chOff x="5556240" y="1482840"/>
                  <a:chExt cx="216000" cy="21564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55562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H="1">
                    <a:off x="56019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57006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7" name=""/>
                <p:cNvGrpSpPr/>
                <p:nvPr/>
              </p:nvGrpSpPr>
              <p:grpSpPr>
                <a:xfrm>
                  <a:off x="5900760" y="1482840"/>
                  <a:ext cx="215640" cy="215640"/>
                  <a:chOff x="5900760" y="1482840"/>
                  <a:chExt cx="215640" cy="21564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>
                    <a:off x="5900760" y="14828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>
                    <a:off x="5946480" y="15397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0447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1" name=""/>
                <p:cNvSpPr/>
                <p:nvPr/>
              </p:nvSpPr>
              <p:spPr>
                <a:xfrm>
                  <a:off x="56674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01164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5292720" y="2351160"/>
                <a:ext cx="264960" cy="360360"/>
                <a:chOff x="5292720" y="2351160"/>
                <a:chExt cx="264960" cy="3603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52988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>
                  <a:off x="52927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4802040" y="1141560"/>
                <a:ext cx="360360" cy="360360"/>
                <a:chOff x="4802040" y="1141560"/>
                <a:chExt cx="360360" cy="3603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4875120" y="1214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802040" y="1141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"/>
              <p:cNvSpPr/>
              <p:nvPr/>
            </p:nvSpPr>
            <p:spPr>
              <a:xfrm>
                <a:off x="394344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19552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7072200" y="2532240"/>
                <a:ext cx="531360" cy="805680"/>
                <a:chOff x="7072200" y="2532240"/>
                <a:chExt cx="531360" cy="80568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7072200" y="2532240"/>
                  <a:ext cx="531360" cy="414000"/>
                  <a:chOff x="7072200" y="2532240"/>
                  <a:chExt cx="531360" cy="41400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707220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709128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" name=""/>
                <p:cNvGrpSpPr/>
                <p:nvPr/>
              </p:nvGrpSpPr>
              <p:grpSpPr>
                <a:xfrm>
                  <a:off x="7137360" y="2944800"/>
                  <a:ext cx="412560" cy="393120"/>
                  <a:chOff x="7137360" y="2944800"/>
                  <a:chExt cx="412560" cy="39312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>
                    <a:off x="734184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H="1">
                    <a:off x="714024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713736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H="1">
                    <a:off x="733572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734508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1" name=""/>
              <p:cNvGrpSpPr/>
              <p:nvPr/>
            </p:nvGrpSpPr>
            <p:grpSpPr>
              <a:xfrm>
                <a:off x="8523360" y="2532240"/>
                <a:ext cx="531360" cy="805680"/>
                <a:chOff x="8523360" y="2532240"/>
                <a:chExt cx="531360" cy="805680"/>
              </a:xfrm>
            </p:grpSpPr>
            <p:grpSp>
              <p:nvGrpSpPr>
                <p:cNvPr id="732" name=""/>
                <p:cNvGrpSpPr/>
                <p:nvPr/>
              </p:nvGrpSpPr>
              <p:grpSpPr>
                <a:xfrm>
                  <a:off x="8523360" y="2532240"/>
                  <a:ext cx="531360" cy="414000"/>
                  <a:chOff x="8523360" y="2532240"/>
                  <a:chExt cx="531360" cy="41400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>
                    <a:off x="852336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854244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8588520" y="2944800"/>
                  <a:ext cx="412560" cy="393120"/>
                  <a:chOff x="8588520" y="2944800"/>
                  <a:chExt cx="412560" cy="39312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>
                    <a:off x="879300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>
                    <a:off x="859140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858852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flipH="1">
                    <a:off x="878688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879624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" name=""/>
              <p:cNvGrpSpPr/>
              <p:nvPr/>
            </p:nvGrpSpPr>
            <p:grpSpPr>
              <a:xfrm>
                <a:off x="7883640" y="1789200"/>
                <a:ext cx="360360" cy="360360"/>
                <a:chOff x="7883640" y="1789200"/>
                <a:chExt cx="360360" cy="36036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7956720" y="18622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883640" y="17892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733104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32168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77248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988920" y="425448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917640" y="4791240"/>
                <a:ext cx="8856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133640" y="30956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47680" y="39988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47680" y="45403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988920" y="579744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147680" y="5538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302000" y="64468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988920" y="6446880"/>
                <a:ext cx="2952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3944520" y="6308640"/>
                <a:ext cx="359280" cy="269640"/>
                <a:chOff x="3944520" y="6308640"/>
                <a:chExt cx="359280" cy="2696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3944880" y="6308640"/>
                  <a:ext cx="358920" cy="26964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>
                  <a:off x="3944520" y="630864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1147680" y="615960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830376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85640" y="2052720"/>
                <a:ext cx="935280" cy="3222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grpSp>
              <p:nvGrpSpPr>
                <p:cNvPr id="763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 flipV="1">
                    <a:off x="440208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4129200" y="3278160"/>
                    <a:ext cx="891720" cy="685440"/>
                    <a:chOff x="4129200" y="3278160"/>
                    <a:chExt cx="891720" cy="68544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46987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48146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68" name=""/>
                    <p:cNvGrpSpPr/>
                    <p:nvPr/>
                  </p:nvGrpSpPr>
                  <p:grpSpPr>
                    <a:xfrm>
                      <a:off x="4129200" y="3278160"/>
                      <a:ext cx="579600" cy="685440"/>
                      <a:chOff x="4129200" y="3278160"/>
                      <a:chExt cx="579600" cy="685440"/>
                    </a:xfrm>
                  </p:grpSpPr>
                  <p:grpSp>
                    <p:nvGrpSpPr>
                      <p:cNvPr id="769" name=""/>
                      <p:cNvGrpSpPr/>
                      <p:nvPr/>
                    </p:nvGrpSpPr>
                    <p:grpSpPr>
                      <a:xfrm>
                        <a:off x="4133520" y="3531960"/>
                        <a:ext cx="575280" cy="431640"/>
                        <a:chOff x="4133520" y="3531960"/>
                        <a:chExt cx="575280" cy="431640"/>
                      </a:xfrm>
                    </p:grpSpPr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 flipV="1">
                          <a:off x="41335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flipV="1">
                          <a:off x="41335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>
                          <a:off x="41335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3" name=""/>
                        <p:cNvSpPr/>
                        <p:nvPr/>
                      </p:nvSpPr>
                      <p:spPr>
                        <a:xfrm>
                          <a:off x="47088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41292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75" name=""/>
                  <p:cNvSpPr/>
                  <p:nvPr/>
                </p:nvSpPr>
                <p:spPr>
                  <a:xfrm>
                    <a:off x="42195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44020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V="1">
                    <a:off x="471168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47116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471168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71168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1" name=""/>
                <p:cNvSpPr/>
                <p:nvPr/>
              </p:nvSpPr>
              <p:spPr>
                <a:xfrm>
                  <a:off x="4167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flipV="1">
                    <a:off x="61149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842080" y="3278160"/>
                    <a:ext cx="891720" cy="685440"/>
                    <a:chOff x="5842080" y="3278160"/>
                    <a:chExt cx="891720" cy="6854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641160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>
                      <a:off x="652752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88" name=""/>
                    <p:cNvGrpSpPr/>
                    <p:nvPr/>
                  </p:nvGrpSpPr>
                  <p:grpSpPr>
                    <a:xfrm>
                      <a:off x="5842080" y="3278160"/>
                      <a:ext cx="579600" cy="685440"/>
                      <a:chOff x="5842080" y="3278160"/>
                      <a:chExt cx="579600" cy="685440"/>
                    </a:xfrm>
                  </p:grpSpPr>
                  <p:grpSp>
                    <p:nvGrpSpPr>
                      <p:cNvPr id="789" name=""/>
                      <p:cNvGrpSpPr/>
                      <p:nvPr/>
                    </p:nvGrpSpPr>
                    <p:grpSpPr>
                      <a:xfrm>
                        <a:off x="5846400" y="3531960"/>
                        <a:ext cx="575280" cy="431640"/>
                        <a:chOff x="5846400" y="3531960"/>
                        <a:chExt cx="575280" cy="431640"/>
                      </a:xfrm>
                    </p:grpSpPr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 flipV="1">
                          <a:off x="584640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 flipV="1">
                          <a:off x="584640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2" name=""/>
                        <p:cNvSpPr/>
                        <p:nvPr/>
                      </p:nvSpPr>
                      <p:spPr>
                        <a:xfrm>
                          <a:off x="584640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3" name=""/>
                        <p:cNvSpPr/>
                        <p:nvPr/>
                      </p:nvSpPr>
                      <p:spPr>
                        <a:xfrm>
                          <a:off x="642168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94" name=""/>
                      <p:cNvSpPr/>
                      <p:nvPr/>
                    </p:nvSpPr>
                    <p:spPr>
                      <a:xfrm>
                        <a:off x="584208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95" name=""/>
                  <p:cNvSpPr/>
                  <p:nvPr/>
                </p:nvSpPr>
                <p:spPr>
                  <a:xfrm>
                    <a:off x="593244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6114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V="1">
                    <a:off x="64245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64245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64245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64245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1" name=""/>
                <p:cNvSpPr/>
                <p:nvPr/>
              </p:nvSpPr>
              <p:spPr>
                <a:xfrm>
                  <a:off x="5886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7340760" y="3278160"/>
                <a:ext cx="1194840" cy="3133800"/>
                <a:chOff x="7340760" y="3278160"/>
                <a:chExt cx="1194840" cy="313380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7340760" y="3278160"/>
                  <a:ext cx="1194840" cy="3133800"/>
                  <a:chOff x="7340760" y="3278160"/>
                  <a:chExt cx="1194840" cy="313380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 flipV="1">
                    <a:off x="759492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7340760" y="3278160"/>
                    <a:ext cx="891720" cy="685440"/>
                    <a:chOff x="7340760" y="3278160"/>
                    <a:chExt cx="891720" cy="6854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791028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802620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08" name=""/>
                    <p:cNvGrpSpPr/>
                    <p:nvPr/>
                  </p:nvGrpSpPr>
                  <p:grpSpPr>
                    <a:xfrm>
                      <a:off x="7340760" y="3278160"/>
                      <a:ext cx="579600" cy="685440"/>
                      <a:chOff x="7340760" y="3278160"/>
                      <a:chExt cx="579600" cy="685440"/>
                    </a:xfrm>
                  </p:grpSpPr>
                  <p:grpSp>
                    <p:nvGrpSpPr>
                      <p:cNvPr id="809" name=""/>
                      <p:cNvGrpSpPr/>
                      <p:nvPr/>
                    </p:nvGrpSpPr>
                    <p:grpSpPr>
                      <a:xfrm>
                        <a:off x="7345080" y="3531960"/>
                        <a:ext cx="575280" cy="431640"/>
                        <a:chOff x="7345080" y="3531960"/>
                        <a:chExt cx="575280" cy="431640"/>
                      </a:xfrm>
                    </p:grpSpPr>
                    <p:sp>
                      <p:nvSpPr>
                        <p:cNvPr id="810" name=""/>
                        <p:cNvSpPr/>
                        <p:nvPr/>
                      </p:nvSpPr>
                      <p:spPr>
                        <a:xfrm flipV="1">
                          <a:off x="734508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1" name=""/>
                        <p:cNvSpPr/>
                        <p:nvPr/>
                      </p:nvSpPr>
                      <p:spPr>
                        <a:xfrm flipV="1">
                          <a:off x="734508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2" name=""/>
                        <p:cNvSpPr/>
                        <p:nvPr/>
                      </p:nvSpPr>
                      <p:spPr>
                        <a:xfrm>
                          <a:off x="734508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>
                          <a:off x="792036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14" name=""/>
                      <p:cNvSpPr/>
                      <p:nvPr/>
                    </p:nvSpPr>
                    <p:spPr>
                      <a:xfrm>
                        <a:off x="734076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15" name=""/>
                  <p:cNvSpPr/>
                  <p:nvPr/>
                </p:nvSpPr>
                <p:spPr>
                  <a:xfrm>
                    <a:off x="743112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759492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V="1">
                    <a:off x="77709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7770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7709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7709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8039160" y="3962520"/>
                    <a:ext cx="496440" cy="187200"/>
                    <a:chOff x="8039160" y="3962520"/>
                    <a:chExt cx="496440" cy="18720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8039160" y="39625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23" name=""/>
                    <p:cNvGrpSpPr/>
                    <p:nvPr/>
                  </p:nvGrpSpPr>
                  <p:grpSpPr>
                    <a:xfrm>
                      <a:off x="8118360" y="3998880"/>
                      <a:ext cx="417240" cy="117360"/>
                      <a:chOff x="8118360" y="3998880"/>
                      <a:chExt cx="417240" cy="117360"/>
                    </a:xfrm>
                  </p:grpSpPr>
                  <p:sp>
                    <p:nvSpPr>
                      <p:cNvPr id="824" name=""/>
                      <p:cNvSpPr/>
                      <p:nvPr/>
                    </p:nvSpPr>
                    <p:spPr>
                      <a:xfrm>
                        <a:off x="8118360" y="39988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5" name=""/>
                      <p:cNvSpPr/>
                      <p:nvPr/>
                    </p:nvSpPr>
                    <p:spPr>
                      <a:xfrm>
                        <a:off x="8122680" y="40021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6" name=""/>
                      <p:cNvSpPr/>
                      <p:nvPr/>
                    </p:nvSpPr>
                    <p:spPr>
                      <a:xfrm flipH="1">
                        <a:off x="8122680" y="40615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7" name=""/>
                      <p:cNvSpPr/>
                      <p:nvPr/>
                    </p:nvSpPr>
                    <p:spPr>
                      <a:xfrm>
                        <a:off x="8122680" y="41162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28" name=""/>
                  <p:cNvSpPr/>
                  <p:nvPr/>
                </p:nvSpPr>
                <p:spPr>
                  <a:xfrm flipV="1">
                    <a:off x="7923240" y="39510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7918560" y="40705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"/>
                <p:cNvSpPr/>
                <p:nvPr/>
              </p:nvSpPr>
              <p:spPr>
                <a:xfrm>
                  <a:off x="739764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883764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01760" y="1747800"/>
                <a:ext cx="1382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Depozit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734000" y="884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796160" y="1557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1494000" y="3332160"/>
                <a:ext cx="671040" cy="882720"/>
                <a:chOff x="1494000" y="3332160"/>
                <a:chExt cx="671040" cy="8827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1852560" y="3744720"/>
                  <a:ext cx="1029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1958760" y="3652560"/>
                  <a:ext cx="20628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8" name=""/>
                <p:cNvGrpSpPr/>
                <p:nvPr/>
              </p:nvGrpSpPr>
              <p:grpSpPr>
                <a:xfrm>
                  <a:off x="1494000" y="3531600"/>
                  <a:ext cx="364680" cy="432000"/>
                  <a:chOff x="1494000" y="3531600"/>
                  <a:chExt cx="364680" cy="432000"/>
                </a:xfrm>
              </p:grpSpPr>
              <p:sp>
                <p:nvSpPr>
                  <p:cNvPr id="839" name=""/>
                  <p:cNvSpPr/>
                  <p:nvPr/>
                </p:nvSpPr>
                <p:spPr>
                  <a:xfrm flipV="1">
                    <a:off x="1494000" y="363996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V="1">
                    <a:off x="1494000" y="353160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1494000" y="385488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858680" y="353196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3" name=""/>
                <p:cNvSpPr/>
                <p:nvPr/>
              </p:nvSpPr>
              <p:spPr>
                <a:xfrm>
                  <a:off x="1494000" y="333216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86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5" name=""/>
              <p:cNvSpPr/>
              <p:nvPr/>
            </p:nvSpPr>
            <p:spPr>
              <a:xfrm>
                <a:off x="14349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6" name=""/>
              <p:cNvGrpSpPr/>
              <p:nvPr/>
            </p:nvGrpSpPr>
            <p:grpSpPr>
              <a:xfrm>
                <a:off x="6789600" y="4805280"/>
                <a:ext cx="752760" cy="975240"/>
                <a:chOff x="6789600" y="4805280"/>
                <a:chExt cx="752760" cy="975240"/>
              </a:xfrm>
            </p:grpSpPr>
            <p:grpSp>
              <p:nvGrpSpPr>
                <p:cNvPr id="847" name=""/>
                <p:cNvGrpSpPr/>
                <p:nvPr/>
              </p:nvGrpSpPr>
              <p:grpSpPr>
                <a:xfrm>
                  <a:off x="6870600" y="4805280"/>
                  <a:ext cx="671760" cy="975240"/>
                  <a:chOff x="6870600" y="4805280"/>
                  <a:chExt cx="671760" cy="97524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7229520" y="5261400"/>
                    <a:ext cx="103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7335720" y="5159160"/>
                    <a:ext cx="20664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0" name=""/>
                  <p:cNvGrpSpPr/>
                  <p:nvPr/>
                </p:nvGrpSpPr>
                <p:grpSpPr>
                  <a:xfrm>
                    <a:off x="6870600" y="5025600"/>
                    <a:ext cx="365040" cy="477360"/>
                    <a:chOff x="6870600" y="5025600"/>
                    <a:chExt cx="365040" cy="477360"/>
                  </a:xfrm>
                </p:grpSpPr>
                <p:sp>
                  <p:nvSpPr>
                    <p:cNvPr id="851" name=""/>
                    <p:cNvSpPr/>
                    <p:nvPr/>
                  </p:nvSpPr>
                  <p:spPr>
                    <a:xfrm flipV="1">
                      <a:off x="6870600" y="514584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 flipV="1">
                      <a:off x="6870600" y="502560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6870600" y="538308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7235640" y="502596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5" name=""/>
                  <p:cNvSpPr/>
                  <p:nvPr/>
                </p:nvSpPr>
                <p:spPr>
                  <a:xfrm>
                    <a:off x="6870600" y="480528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7237440" y="539280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7" name=""/>
                <p:cNvSpPr/>
                <p:nvPr/>
              </p:nvSpPr>
              <p:spPr>
                <a:xfrm>
                  <a:off x="6789600" y="51123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8" name=""/>
              <p:cNvSpPr/>
              <p:nvPr/>
            </p:nvSpPr>
            <p:spPr>
              <a:xfrm flipH="1">
                <a:off x="1193400" y="13017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825480" y="1114560"/>
                <a:ext cx="360360" cy="360360"/>
                <a:chOff x="825480" y="1114560"/>
                <a:chExt cx="360360" cy="36036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898560" y="1187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25480" y="1114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2" name=""/>
              <p:cNvSpPr/>
              <p:nvPr/>
            </p:nvSpPr>
            <p:spPr>
              <a:xfrm>
                <a:off x="789120" y="8571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640" y="2413080"/>
                <a:ext cx="935280" cy="32220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90600" y="2695680"/>
                <a:ext cx="16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8790120" y="3278160"/>
                <a:ext cx="1046160" cy="3133800"/>
                <a:chOff x="8790120" y="3278160"/>
                <a:chExt cx="1046160" cy="313380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9043920" y="3906720"/>
                  <a:ext cx="0" cy="270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7" name=""/>
                <p:cNvGrpSpPr/>
                <p:nvPr/>
              </p:nvGrpSpPr>
              <p:grpSpPr>
                <a:xfrm>
                  <a:off x="8790120" y="3278160"/>
                  <a:ext cx="891720" cy="685440"/>
                  <a:chOff x="8790120" y="3278160"/>
                  <a:chExt cx="891720" cy="68544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>
                    <a:off x="935964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947556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0" name=""/>
                  <p:cNvGrpSpPr/>
                  <p:nvPr/>
                </p:nvGrpSpPr>
                <p:grpSpPr>
                  <a:xfrm>
                    <a:off x="8790120" y="3278160"/>
                    <a:ext cx="579600" cy="685440"/>
                    <a:chOff x="8790120" y="3278160"/>
                    <a:chExt cx="579600" cy="685440"/>
                  </a:xfrm>
                </p:grpSpPr>
                <p:grpSp>
                  <p:nvGrpSpPr>
                    <p:cNvPr id="871" name=""/>
                    <p:cNvGrpSpPr/>
                    <p:nvPr/>
                  </p:nvGrpSpPr>
                  <p:grpSpPr>
                    <a:xfrm>
                      <a:off x="8794440" y="3531960"/>
                      <a:ext cx="575280" cy="431640"/>
                      <a:chOff x="8794440" y="3531960"/>
                      <a:chExt cx="575280" cy="431640"/>
                    </a:xfrm>
                  </p:grpSpPr>
                  <p:sp>
                    <p:nvSpPr>
                      <p:cNvPr id="872" name=""/>
                      <p:cNvSpPr/>
                      <p:nvPr/>
                    </p:nvSpPr>
                    <p:spPr>
                      <a:xfrm flipV="1">
                        <a:off x="879444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3" name=""/>
                      <p:cNvSpPr/>
                      <p:nvPr/>
                    </p:nvSpPr>
                    <p:spPr>
                      <a:xfrm flipV="1">
                        <a:off x="879444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4" name=""/>
                      <p:cNvSpPr/>
                      <p:nvPr/>
                    </p:nvSpPr>
                    <p:spPr>
                      <a:xfrm>
                        <a:off x="879444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5" name=""/>
                      <p:cNvSpPr/>
                      <p:nvPr/>
                    </p:nvSpPr>
                    <p:spPr>
                      <a:xfrm>
                        <a:off x="936972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879012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77" name=""/>
                <p:cNvSpPr/>
                <p:nvPr/>
              </p:nvSpPr>
              <p:spPr>
                <a:xfrm>
                  <a:off x="888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9043920" y="432108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9220320" y="392544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9220320" y="4321080"/>
                  <a:ext cx="0" cy="396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9220320" y="587052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9220320" y="486252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8828280" y="3609720"/>
                  <a:ext cx="1008000" cy="540000"/>
                  <a:chOff x="8828280" y="3609720"/>
                  <a:chExt cx="1008000" cy="540000"/>
                </a:xfrm>
              </p:grpSpPr>
              <p:grpSp>
                <p:nvGrpSpPr>
                  <p:cNvPr id="884" name=""/>
                  <p:cNvGrpSpPr/>
                  <p:nvPr/>
                </p:nvGrpSpPr>
                <p:grpSpPr>
                  <a:xfrm>
                    <a:off x="9367920" y="3951360"/>
                    <a:ext cx="468360" cy="198360"/>
                    <a:chOff x="9367920" y="3951360"/>
                    <a:chExt cx="468360" cy="198360"/>
                  </a:xfrm>
                </p:grpSpPr>
                <p:grpSp>
                  <p:nvGrpSpPr>
                    <p:cNvPr id="885" name=""/>
                    <p:cNvGrpSpPr/>
                    <p:nvPr/>
                  </p:nvGrpSpPr>
                  <p:grpSpPr>
                    <a:xfrm>
                      <a:off x="9488520" y="3962160"/>
                      <a:ext cx="347760" cy="187560"/>
                      <a:chOff x="9488520" y="3962160"/>
                      <a:chExt cx="347760" cy="187560"/>
                    </a:xfrm>
                  </p:grpSpPr>
                  <p:sp>
                    <p:nvSpPr>
                      <p:cNvPr id="886" name=""/>
                      <p:cNvSpPr/>
                      <p:nvPr/>
                    </p:nvSpPr>
                    <p:spPr>
                      <a:xfrm>
                        <a:off x="9488520" y="3962160"/>
                        <a:ext cx="208080" cy="18756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87" name=""/>
                      <p:cNvGrpSpPr/>
                      <p:nvPr/>
                    </p:nvGrpSpPr>
                    <p:grpSpPr>
                      <a:xfrm>
                        <a:off x="9568080" y="3998880"/>
                        <a:ext cx="268200" cy="117360"/>
                        <a:chOff x="9568080" y="3998880"/>
                        <a:chExt cx="268200" cy="117360"/>
                      </a:xfrm>
                    </p:grpSpPr>
                    <p:sp>
                      <p:nvSpPr>
                        <p:cNvPr id="888" name=""/>
                        <p:cNvSpPr/>
                        <p:nvPr/>
                      </p:nvSpPr>
                      <p:spPr>
                        <a:xfrm>
                          <a:off x="9568080" y="3998880"/>
                          <a:ext cx="268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9" name=""/>
                        <p:cNvSpPr/>
                        <p:nvPr/>
                      </p:nvSpPr>
                      <p:spPr>
                        <a:xfrm>
                          <a:off x="9572760" y="400212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0" name=""/>
                        <p:cNvSpPr/>
                        <p:nvPr/>
                      </p:nvSpPr>
                      <p:spPr>
                        <a:xfrm flipH="1">
                          <a:off x="9572400" y="4060800"/>
                          <a:ext cx="60120" cy="55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1" name=""/>
                        <p:cNvSpPr/>
                        <p:nvPr/>
                      </p:nvSpPr>
                      <p:spPr>
                        <a:xfrm>
                          <a:off x="9572760" y="4116240"/>
                          <a:ext cx="2635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993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92" name=""/>
                    <p:cNvGrpSpPr/>
                    <p:nvPr/>
                  </p:nvGrpSpPr>
                  <p:grpSpPr>
                    <a:xfrm>
                      <a:off x="9367920" y="3951360"/>
                      <a:ext cx="119160" cy="118800"/>
                      <a:chOff x="9367920" y="3951360"/>
                      <a:chExt cx="119160" cy="118800"/>
                    </a:xfrm>
                  </p:grpSpPr>
                  <p:sp>
                    <p:nvSpPr>
                      <p:cNvPr id="893" name=""/>
                      <p:cNvSpPr/>
                      <p:nvPr/>
                    </p:nvSpPr>
                    <p:spPr>
                      <a:xfrm flipV="1">
                        <a:off x="9372600" y="3951360"/>
                        <a:ext cx="0" cy="1188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4" name=""/>
                      <p:cNvSpPr/>
                      <p:nvPr/>
                    </p:nvSpPr>
                    <p:spPr>
                      <a:xfrm>
                        <a:off x="9367920" y="4070160"/>
                        <a:ext cx="1191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95" name=""/>
                  <p:cNvSpPr/>
                  <p:nvPr/>
                </p:nvSpPr>
                <p:spPr>
                  <a:xfrm>
                    <a:off x="8828280" y="360972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6" name=""/>
              <p:cNvSpPr/>
              <p:nvPr/>
            </p:nvSpPr>
            <p:spPr>
              <a:xfrm rot="16200000">
                <a:off x="-357120" y="4768920"/>
                <a:ext cx="21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3954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73996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1496880" y="244944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8880" y="24400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2919240" y="244008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3998880" y="24400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4359240" y="244008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"/>
              <p:cNvGrpSpPr/>
              <p:nvPr/>
            </p:nvGrpSpPr>
            <p:grpSpPr>
              <a:xfrm>
                <a:off x="3325680" y="6308640"/>
                <a:ext cx="258840" cy="258840"/>
                <a:chOff x="3325680" y="6308640"/>
                <a:chExt cx="258840" cy="25884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3325680" y="630864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>
                  <a:off x="3373560" y="643968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07" name=""/>
          <p:cNvSpPr/>
          <p:nvPr/>
        </p:nvSpPr>
        <p:spPr>
          <a:xfrm>
            <a:off x="1784520" y="1811160"/>
            <a:ext cx="431640" cy="142920"/>
          </a:xfrm>
          <a:prstGeom prst="line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085840" y="1719360"/>
            <a:ext cx="1079640" cy="57600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863880" y="5997600"/>
            <a:ext cx="331920" cy="12384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733920" y="6118200"/>
            <a:ext cx="882360" cy="5605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081240" y="2943360"/>
            <a:ext cx="43200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01960" y="2440080"/>
            <a:ext cx="129528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"/>
          <p:cNvGrpSpPr/>
          <p:nvPr/>
        </p:nvGrpSpPr>
        <p:grpSpPr>
          <a:xfrm>
            <a:off x="220680" y="166680"/>
            <a:ext cx="10415160" cy="6411600"/>
            <a:chOff x="220680" y="166680"/>
            <a:chExt cx="10415160" cy="6411600"/>
          </a:xfrm>
        </p:grpSpPr>
        <p:sp>
          <p:nvSpPr>
            <p:cNvPr id="914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220680" y="543960"/>
              <a:ext cx="10415160" cy="6034320"/>
              <a:chOff x="220680" y="543960"/>
              <a:chExt cx="10415160" cy="6034320"/>
            </a:xfrm>
          </p:grpSpPr>
          <p:sp>
            <p:nvSpPr>
              <p:cNvPr id="916" name=""/>
              <p:cNvSpPr/>
              <p:nvPr/>
            </p:nvSpPr>
            <p:spPr>
              <a:xfrm>
                <a:off x="1204920" y="335916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4987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8432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4987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8432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2387520" y="1482840"/>
                <a:ext cx="216000" cy="215640"/>
                <a:chOff x="2387520" y="1482840"/>
                <a:chExt cx="216000" cy="2156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23875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>
                  <a:off x="24332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25318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2732040" y="1482840"/>
                <a:ext cx="216000" cy="215640"/>
                <a:chOff x="2732040" y="1482840"/>
                <a:chExt cx="216000" cy="21564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27320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27777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28764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9" name=""/>
              <p:cNvSpPr/>
              <p:nvPr/>
            </p:nvSpPr>
            <p:spPr>
              <a:xfrm>
                <a:off x="24987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8432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84012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9513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1846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2958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9513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2958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7" name=""/>
              <p:cNvGrpSpPr/>
              <p:nvPr/>
            </p:nvGrpSpPr>
            <p:grpSpPr>
              <a:xfrm>
                <a:off x="3840120" y="1482840"/>
                <a:ext cx="216000" cy="215640"/>
                <a:chOff x="3840120" y="1482840"/>
                <a:chExt cx="216000" cy="21564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38401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>
                  <a:off x="38858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9844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4184640" y="1482840"/>
                <a:ext cx="216000" cy="215640"/>
                <a:chOff x="4184640" y="1482840"/>
                <a:chExt cx="216000" cy="2156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1846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>
                  <a:off x="42303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3290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5" name=""/>
              <p:cNvSpPr/>
              <p:nvPr/>
            </p:nvSpPr>
            <p:spPr>
              <a:xfrm>
                <a:off x="39513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2958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7" name=""/>
              <p:cNvGrpSpPr/>
              <p:nvPr/>
            </p:nvGrpSpPr>
            <p:grpSpPr>
              <a:xfrm>
                <a:off x="5567400" y="2532240"/>
                <a:ext cx="531360" cy="805680"/>
                <a:chOff x="5567400" y="2532240"/>
                <a:chExt cx="531360" cy="80568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5567400" y="2532240"/>
                  <a:ext cx="531360" cy="414000"/>
                  <a:chOff x="5567400" y="2532240"/>
                  <a:chExt cx="531360" cy="41400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556740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558648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5632560" y="2944800"/>
                  <a:ext cx="412560" cy="393120"/>
                  <a:chOff x="5632560" y="2944800"/>
                  <a:chExt cx="412560" cy="39312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>
                    <a:off x="583704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flipH="1">
                    <a:off x="563544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563256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H="1">
                    <a:off x="583092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584028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"/>
              <p:cNvGrpSpPr/>
              <p:nvPr/>
            </p:nvGrpSpPr>
            <p:grpSpPr>
              <a:xfrm>
                <a:off x="5556240" y="1320840"/>
                <a:ext cx="560160" cy="1217520"/>
                <a:chOff x="5556240" y="1320840"/>
                <a:chExt cx="560160" cy="12175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556240" y="1866960"/>
                  <a:ext cx="21600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6674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900760" y="1866960"/>
                  <a:ext cx="215640" cy="27144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01164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6748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011640" y="170316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4" name=""/>
                <p:cNvGrpSpPr/>
                <p:nvPr/>
              </p:nvGrpSpPr>
              <p:grpSpPr>
                <a:xfrm>
                  <a:off x="5556240" y="1482840"/>
                  <a:ext cx="216000" cy="215640"/>
                  <a:chOff x="5556240" y="1482840"/>
                  <a:chExt cx="216000" cy="21564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>
                    <a:off x="55562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H="1">
                    <a:off x="56019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57006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5900760" y="1482840"/>
                  <a:ext cx="215640" cy="215640"/>
                  <a:chOff x="5900760" y="1482840"/>
                  <a:chExt cx="215640" cy="21564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>
                    <a:off x="5900760" y="1482840"/>
                    <a:ext cx="21564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H="1">
                    <a:off x="5946480" y="1539720"/>
                    <a:ext cx="2160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60447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2" name=""/>
                <p:cNvSpPr/>
                <p:nvPr/>
              </p:nvSpPr>
              <p:spPr>
                <a:xfrm>
                  <a:off x="56674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01164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5292720" y="2351160"/>
                <a:ext cx="264960" cy="360360"/>
                <a:chOff x="5292720" y="2351160"/>
                <a:chExt cx="264960" cy="36036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52988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>
                  <a:off x="52927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4802040" y="1141560"/>
                <a:ext cx="360360" cy="360360"/>
                <a:chOff x="4802040" y="1141560"/>
                <a:chExt cx="360360" cy="36036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4875120" y="1214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802040" y="1141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"/>
              <p:cNvSpPr/>
              <p:nvPr/>
            </p:nvSpPr>
            <p:spPr>
              <a:xfrm>
                <a:off x="394344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519552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2" name=""/>
              <p:cNvGrpSpPr/>
              <p:nvPr/>
            </p:nvGrpSpPr>
            <p:grpSpPr>
              <a:xfrm>
                <a:off x="7196040" y="2532240"/>
                <a:ext cx="531360" cy="805680"/>
                <a:chOff x="7196040" y="2532240"/>
                <a:chExt cx="531360" cy="805680"/>
              </a:xfrm>
            </p:grpSpPr>
            <p:grpSp>
              <p:nvGrpSpPr>
                <p:cNvPr id="983" name=""/>
                <p:cNvGrpSpPr/>
                <p:nvPr/>
              </p:nvGrpSpPr>
              <p:grpSpPr>
                <a:xfrm>
                  <a:off x="7196040" y="2532240"/>
                  <a:ext cx="531360" cy="414000"/>
                  <a:chOff x="7196040" y="2532240"/>
                  <a:chExt cx="531360" cy="414000"/>
                </a:xfrm>
              </p:grpSpPr>
              <p:sp>
                <p:nvSpPr>
                  <p:cNvPr id="984" name=""/>
                  <p:cNvSpPr/>
                  <p:nvPr/>
                </p:nvSpPr>
                <p:spPr>
                  <a:xfrm>
                    <a:off x="719604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721512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6" name=""/>
                <p:cNvGrpSpPr/>
                <p:nvPr/>
              </p:nvGrpSpPr>
              <p:grpSpPr>
                <a:xfrm>
                  <a:off x="7261200" y="2944800"/>
                  <a:ext cx="412560" cy="393120"/>
                  <a:chOff x="7261200" y="2944800"/>
                  <a:chExt cx="412560" cy="393120"/>
                </a:xfrm>
              </p:grpSpPr>
              <p:sp>
                <p:nvSpPr>
                  <p:cNvPr id="987" name=""/>
                  <p:cNvSpPr/>
                  <p:nvPr/>
                </p:nvSpPr>
                <p:spPr>
                  <a:xfrm>
                    <a:off x="746568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 flipH="1">
                    <a:off x="726408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726120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>
                    <a:off x="745956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746892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2" name=""/>
              <p:cNvGrpSpPr/>
              <p:nvPr/>
            </p:nvGrpSpPr>
            <p:grpSpPr>
              <a:xfrm>
                <a:off x="8007480" y="1789200"/>
                <a:ext cx="360360" cy="360360"/>
                <a:chOff x="8007480" y="1789200"/>
                <a:chExt cx="360360" cy="36036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8080560" y="18622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8007480" y="17892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5" name=""/>
              <p:cNvSpPr/>
              <p:nvPr/>
            </p:nvSpPr>
            <p:spPr>
              <a:xfrm>
                <a:off x="745488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44552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988920" y="425448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917640" y="4791240"/>
                <a:ext cx="8856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133640" y="30956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147680" y="39988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147680" y="45403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988920" y="579744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147680" y="5538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302000" y="64468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988920" y="6446880"/>
                <a:ext cx="2952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6" name=""/>
              <p:cNvGrpSpPr/>
              <p:nvPr/>
            </p:nvGrpSpPr>
            <p:grpSpPr>
              <a:xfrm>
                <a:off x="3944520" y="6308640"/>
                <a:ext cx="359280" cy="269640"/>
                <a:chOff x="3944520" y="6308640"/>
                <a:chExt cx="359280" cy="26964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3944880" y="6308640"/>
                  <a:ext cx="358920" cy="26964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>
                  <a:off x="3944520" y="630864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9" name=""/>
              <p:cNvSpPr/>
              <p:nvPr/>
            </p:nvSpPr>
            <p:spPr>
              <a:xfrm>
                <a:off x="1147680" y="615960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85640" y="1957320"/>
                <a:ext cx="935280" cy="3222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grpSp>
              <p:nvGrpSpPr>
                <p:cNvPr id="1012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 flipV="1">
                    <a:off x="440208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4129200" y="3278160"/>
                    <a:ext cx="891720" cy="685440"/>
                    <a:chOff x="4129200" y="3278160"/>
                    <a:chExt cx="891720" cy="68544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46987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48146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17" name=""/>
                    <p:cNvGrpSpPr/>
                    <p:nvPr/>
                  </p:nvGrpSpPr>
                  <p:grpSpPr>
                    <a:xfrm>
                      <a:off x="4129200" y="3278160"/>
                      <a:ext cx="579600" cy="685440"/>
                      <a:chOff x="4129200" y="3278160"/>
                      <a:chExt cx="579600" cy="685440"/>
                    </a:xfrm>
                  </p:grpSpPr>
                  <p:grpSp>
                    <p:nvGrpSpPr>
                      <p:cNvPr id="1018" name=""/>
                      <p:cNvGrpSpPr/>
                      <p:nvPr/>
                    </p:nvGrpSpPr>
                    <p:grpSpPr>
                      <a:xfrm>
                        <a:off x="4133520" y="3531960"/>
                        <a:ext cx="575280" cy="431640"/>
                        <a:chOff x="4133520" y="3531960"/>
                        <a:chExt cx="575280" cy="431640"/>
                      </a:xfrm>
                    </p:grpSpPr>
                    <p:sp>
                      <p:nvSpPr>
                        <p:cNvPr id="1019" name=""/>
                        <p:cNvSpPr/>
                        <p:nvPr/>
                      </p:nvSpPr>
                      <p:spPr>
                        <a:xfrm flipV="1">
                          <a:off x="41335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0" name=""/>
                        <p:cNvSpPr/>
                        <p:nvPr/>
                      </p:nvSpPr>
                      <p:spPr>
                        <a:xfrm flipV="1">
                          <a:off x="41335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1" name=""/>
                        <p:cNvSpPr/>
                        <p:nvPr/>
                      </p:nvSpPr>
                      <p:spPr>
                        <a:xfrm>
                          <a:off x="41335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2" name=""/>
                        <p:cNvSpPr/>
                        <p:nvPr/>
                      </p:nvSpPr>
                      <p:spPr>
                        <a:xfrm>
                          <a:off x="47088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41292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24" name=""/>
                  <p:cNvSpPr/>
                  <p:nvPr/>
                </p:nvSpPr>
                <p:spPr>
                  <a:xfrm>
                    <a:off x="42195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4020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 flipV="1">
                    <a:off x="471168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7116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71168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71168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0" name=""/>
                <p:cNvSpPr/>
                <p:nvPr/>
              </p:nvSpPr>
              <p:spPr>
                <a:xfrm>
                  <a:off x="4167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1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 flipV="1">
                    <a:off x="61149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5842080" y="3278160"/>
                    <a:ext cx="891720" cy="685440"/>
                    <a:chOff x="5842080" y="3278160"/>
                    <a:chExt cx="891720" cy="68544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641160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652752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37" name=""/>
                    <p:cNvGrpSpPr/>
                    <p:nvPr/>
                  </p:nvGrpSpPr>
                  <p:grpSpPr>
                    <a:xfrm>
                      <a:off x="5842080" y="3278160"/>
                      <a:ext cx="579600" cy="685440"/>
                      <a:chOff x="5842080" y="3278160"/>
                      <a:chExt cx="579600" cy="685440"/>
                    </a:xfrm>
                  </p:grpSpPr>
                  <p:grpSp>
                    <p:nvGrpSpPr>
                      <p:cNvPr id="1038" name=""/>
                      <p:cNvGrpSpPr/>
                      <p:nvPr/>
                    </p:nvGrpSpPr>
                    <p:grpSpPr>
                      <a:xfrm>
                        <a:off x="5846400" y="3531960"/>
                        <a:ext cx="575280" cy="431640"/>
                        <a:chOff x="5846400" y="3531960"/>
                        <a:chExt cx="575280" cy="431640"/>
                      </a:xfrm>
                    </p:grpSpPr>
                    <p:sp>
                      <p:nvSpPr>
                        <p:cNvPr id="1039" name=""/>
                        <p:cNvSpPr/>
                        <p:nvPr/>
                      </p:nvSpPr>
                      <p:spPr>
                        <a:xfrm flipV="1">
                          <a:off x="584640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0" name=""/>
                        <p:cNvSpPr/>
                        <p:nvPr/>
                      </p:nvSpPr>
                      <p:spPr>
                        <a:xfrm flipV="1">
                          <a:off x="584640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1" name=""/>
                        <p:cNvSpPr/>
                        <p:nvPr/>
                      </p:nvSpPr>
                      <p:spPr>
                        <a:xfrm>
                          <a:off x="584640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2" name=""/>
                        <p:cNvSpPr/>
                        <p:nvPr/>
                      </p:nvSpPr>
                      <p:spPr>
                        <a:xfrm>
                          <a:off x="642168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43" name=""/>
                      <p:cNvSpPr/>
                      <p:nvPr/>
                    </p:nvSpPr>
                    <p:spPr>
                      <a:xfrm>
                        <a:off x="584208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44" name=""/>
                  <p:cNvSpPr/>
                  <p:nvPr/>
                </p:nvSpPr>
                <p:spPr>
                  <a:xfrm>
                    <a:off x="593244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6114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 flipV="1">
                    <a:off x="64245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4245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64245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64245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0" name=""/>
                <p:cNvSpPr/>
                <p:nvPr/>
              </p:nvSpPr>
              <p:spPr>
                <a:xfrm>
                  <a:off x="5886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7464600" y="3278160"/>
                <a:ext cx="1194840" cy="3133800"/>
                <a:chOff x="7464600" y="3278160"/>
                <a:chExt cx="1194840" cy="3133800"/>
              </a:xfrm>
            </p:grpSpPr>
            <p:grpSp>
              <p:nvGrpSpPr>
                <p:cNvPr id="1052" name=""/>
                <p:cNvGrpSpPr/>
                <p:nvPr/>
              </p:nvGrpSpPr>
              <p:grpSpPr>
                <a:xfrm>
                  <a:off x="7464600" y="3278160"/>
                  <a:ext cx="1194840" cy="3133800"/>
                  <a:chOff x="7464600" y="3278160"/>
                  <a:chExt cx="1194840" cy="313380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 flipV="1">
                    <a:off x="77187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4" name=""/>
                  <p:cNvGrpSpPr/>
                  <p:nvPr/>
                </p:nvGrpSpPr>
                <p:grpSpPr>
                  <a:xfrm>
                    <a:off x="7464600" y="3278160"/>
                    <a:ext cx="891720" cy="685440"/>
                    <a:chOff x="7464600" y="3278160"/>
                    <a:chExt cx="891720" cy="685440"/>
                  </a:xfrm>
                </p:grpSpPr>
                <p:sp>
                  <p:nvSpPr>
                    <p:cNvPr id="1055" name=""/>
                    <p:cNvSpPr/>
                    <p:nvPr/>
                  </p:nvSpPr>
                  <p:spPr>
                    <a:xfrm>
                      <a:off x="80341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81500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57" name=""/>
                    <p:cNvGrpSpPr/>
                    <p:nvPr/>
                  </p:nvGrpSpPr>
                  <p:grpSpPr>
                    <a:xfrm>
                      <a:off x="7464600" y="3278160"/>
                      <a:ext cx="579600" cy="685440"/>
                      <a:chOff x="7464600" y="3278160"/>
                      <a:chExt cx="579600" cy="685440"/>
                    </a:xfrm>
                  </p:grpSpPr>
                  <p:grpSp>
                    <p:nvGrpSpPr>
                      <p:cNvPr id="1058" name=""/>
                      <p:cNvGrpSpPr/>
                      <p:nvPr/>
                    </p:nvGrpSpPr>
                    <p:grpSpPr>
                      <a:xfrm>
                        <a:off x="7468920" y="3531960"/>
                        <a:ext cx="575280" cy="431640"/>
                        <a:chOff x="7468920" y="3531960"/>
                        <a:chExt cx="575280" cy="431640"/>
                      </a:xfrm>
                    </p:grpSpPr>
                    <p:sp>
                      <p:nvSpPr>
                        <p:cNvPr id="1059" name=""/>
                        <p:cNvSpPr/>
                        <p:nvPr/>
                      </p:nvSpPr>
                      <p:spPr>
                        <a:xfrm flipV="1">
                          <a:off x="74689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0" name=""/>
                        <p:cNvSpPr/>
                        <p:nvPr/>
                      </p:nvSpPr>
                      <p:spPr>
                        <a:xfrm flipV="1">
                          <a:off x="74689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1" name=""/>
                        <p:cNvSpPr/>
                        <p:nvPr/>
                      </p:nvSpPr>
                      <p:spPr>
                        <a:xfrm>
                          <a:off x="74689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2" name=""/>
                        <p:cNvSpPr/>
                        <p:nvPr/>
                      </p:nvSpPr>
                      <p:spPr>
                        <a:xfrm>
                          <a:off x="80442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63" name=""/>
                      <p:cNvSpPr/>
                      <p:nvPr/>
                    </p:nvSpPr>
                    <p:spPr>
                      <a:xfrm>
                        <a:off x="74646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64" name=""/>
                  <p:cNvSpPr/>
                  <p:nvPr/>
                </p:nvSpPr>
                <p:spPr>
                  <a:xfrm>
                    <a:off x="75549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7187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flipV="1">
                    <a:off x="789480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789480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789480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789480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0" name=""/>
                  <p:cNvGrpSpPr/>
                  <p:nvPr/>
                </p:nvGrpSpPr>
                <p:grpSpPr>
                  <a:xfrm>
                    <a:off x="8163000" y="3962520"/>
                    <a:ext cx="496440" cy="187200"/>
                    <a:chOff x="8163000" y="3962520"/>
                    <a:chExt cx="496440" cy="187200"/>
                  </a:xfrm>
                </p:grpSpPr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8163000" y="39625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2" name=""/>
                    <p:cNvGrpSpPr/>
                    <p:nvPr/>
                  </p:nvGrpSpPr>
                  <p:grpSpPr>
                    <a:xfrm>
                      <a:off x="8242200" y="3998880"/>
                      <a:ext cx="417240" cy="117360"/>
                      <a:chOff x="8242200" y="3998880"/>
                      <a:chExt cx="417240" cy="117360"/>
                    </a:xfrm>
                  </p:grpSpPr>
                  <p:sp>
                    <p:nvSpPr>
                      <p:cNvPr id="1073" name=""/>
                      <p:cNvSpPr/>
                      <p:nvPr/>
                    </p:nvSpPr>
                    <p:spPr>
                      <a:xfrm>
                        <a:off x="8242200" y="39988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4" name=""/>
                      <p:cNvSpPr/>
                      <p:nvPr/>
                    </p:nvSpPr>
                    <p:spPr>
                      <a:xfrm>
                        <a:off x="8246520" y="40021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5" name=""/>
                      <p:cNvSpPr/>
                      <p:nvPr/>
                    </p:nvSpPr>
                    <p:spPr>
                      <a:xfrm flipH="1">
                        <a:off x="8246520" y="40615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6" name=""/>
                      <p:cNvSpPr/>
                      <p:nvPr/>
                    </p:nvSpPr>
                    <p:spPr>
                      <a:xfrm>
                        <a:off x="8246520" y="41162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77" name=""/>
                  <p:cNvSpPr/>
                  <p:nvPr/>
                </p:nvSpPr>
                <p:spPr>
                  <a:xfrm flipV="1">
                    <a:off x="8047080" y="39510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8042400" y="40705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"/>
                <p:cNvSpPr/>
                <p:nvPr/>
              </p:nvSpPr>
              <p:spPr>
                <a:xfrm>
                  <a:off x="752148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0" name=""/>
              <p:cNvSpPr/>
              <p:nvPr/>
            </p:nvSpPr>
            <p:spPr>
              <a:xfrm>
                <a:off x="220680" y="1652760"/>
                <a:ext cx="203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Inchidere ecologica depoz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734000" y="884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20000" y="1557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1494000" y="3332160"/>
                <a:ext cx="671040" cy="882720"/>
                <a:chOff x="1494000" y="3332160"/>
                <a:chExt cx="671040" cy="88272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1852560" y="3744720"/>
                  <a:ext cx="1029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958760" y="3652560"/>
                  <a:ext cx="20628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6" name=""/>
                <p:cNvGrpSpPr/>
                <p:nvPr/>
              </p:nvGrpSpPr>
              <p:grpSpPr>
                <a:xfrm>
                  <a:off x="1494000" y="3531600"/>
                  <a:ext cx="364680" cy="432000"/>
                  <a:chOff x="1494000" y="3531600"/>
                  <a:chExt cx="364680" cy="432000"/>
                </a:xfrm>
              </p:grpSpPr>
              <p:sp>
                <p:nvSpPr>
                  <p:cNvPr id="1087" name=""/>
                  <p:cNvSpPr/>
                  <p:nvPr/>
                </p:nvSpPr>
                <p:spPr>
                  <a:xfrm flipV="1">
                    <a:off x="1494000" y="363996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 flipV="1">
                    <a:off x="1494000" y="353160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1494000" y="385488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1858680" y="353196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1" name=""/>
                <p:cNvSpPr/>
                <p:nvPr/>
              </p:nvSpPr>
              <p:spPr>
                <a:xfrm>
                  <a:off x="1494000" y="333216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86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3" name=""/>
              <p:cNvSpPr/>
              <p:nvPr/>
            </p:nvSpPr>
            <p:spPr>
              <a:xfrm>
                <a:off x="14349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"/>
              <p:cNvGrpSpPr/>
              <p:nvPr/>
            </p:nvGrpSpPr>
            <p:grpSpPr>
              <a:xfrm>
                <a:off x="6789600" y="4805280"/>
                <a:ext cx="752760" cy="975240"/>
                <a:chOff x="6789600" y="4805280"/>
                <a:chExt cx="752760" cy="975240"/>
              </a:xfrm>
            </p:grpSpPr>
            <p:grpSp>
              <p:nvGrpSpPr>
                <p:cNvPr id="1095" name=""/>
                <p:cNvGrpSpPr/>
                <p:nvPr/>
              </p:nvGrpSpPr>
              <p:grpSpPr>
                <a:xfrm>
                  <a:off x="6870600" y="4805280"/>
                  <a:ext cx="671760" cy="975240"/>
                  <a:chOff x="6870600" y="4805280"/>
                  <a:chExt cx="671760" cy="975240"/>
                </a:xfrm>
              </p:grpSpPr>
              <p:sp>
                <p:nvSpPr>
                  <p:cNvPr id="1096" name=""/>
                  <p:cNvSpPr/>
                  <p:nvPr/>
                </p:nvSpPr>
                <p:spPr>
                  <a:xfrm>
                    <a:off x="7229520" y="5261400"/>
                    <a:ext cx="103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7335720" y="5159160"/>
                    <a:ext cx="20664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98" name=""/>
                  <p:cNvGrpSpPr/>
                  <p:nvPr/>
                </p:nvGrpSpPr>
                <p:grpSpPr>
                  <a:xfrm>
                    <a:off x="6870600" y="5025600"/>
                    <a:ext cx="365040" cy="477360"/>
                    <a:chOff x="6870600" y="5025600"/>
                    <a:chExt cx="365040" cy="477360"/>
                  </a:xfrm>
                </p:grpSpPr>
                <p:sp>
                  <p:nvSpPr>
                    <p:cNvPr id="1099" name=""/>
                    <p:cNvSpPr/>
                    <p:nvPr/>
                  </p:nvSpPr>
                  <p:spPr>
                    <a:xfrm flipV="1">
                      <a:off x="6870600" y="514584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 flipV="1">
                      <a:off x="6870600" y="502560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6870600" y="538308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7235640" y="502596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3" name=""/>
                  <p:cNvSpPr/>
                  <p:nvPr/>
                </p:nvSpPr>
                <p:spPr>
                  <a:xfrm>
                    <a:off x="6870600" y="480528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7237440" y="539280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5" name=""/>
                <p:cNvSpPr/>
                <p:nvPr/>
              </p:nvSpPr>
              <p:spPr>
                <a:xfrm>
                  <a:off x="6789600" y="51123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6" name=""/>
              <p:cNvSpPr/>
              <p:nvPr/>
            </p:nvSpPr>
            <p:spPr>
              <a:xfrm flipH="1">
                <a:off x="1193400" y="13017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7" name=""/>
              <p:cNvGrpSpPr/>
              <p:nvPr/>
            </p:nvGrpSpPr>
            <p:grpSpPr>
              <a:xfrm>
                <a:off x="825480" y="1114560"/>
                <a:ext cx="360360" cy="360360"/>
                <a:chOff x="825480" y="1114560"/>
                <a:chExt cx="360360" cy="36036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898560" y="1187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825480" y="1114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"/>
              <p:cNvSpPr/>
              <p:nvPr/>
            </p:nvSpPr>
            <p:spPr>
              <a:xfrm>
                <a:off x="789120" y="8571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5640" y="2413080"/>
                <a:ext cx="935280" cy="32220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0600" y="2695680"/>
                <a:ext cx="16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16200000">
                <a:off x="-357120" y="4645080"/>
                <a:ext cx="21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3954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73996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1496880" y="237348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7" name=""/>
              <p:cNvGrpSpPr/>
              <p:nvPr/>
            </p:nvGrpSpPr>
            <p:grpSpPr>
              <a:xfrm>
                <a:off x="2398680" y="2532240"/>
                <a:ext cx="531720" cy="414000"/>
                <a:chOff x="2398680" y="2532240"/>
                <a:chExt cx="531720" cy="41400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239868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241452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2463840" y="2944800"/>
                <a:ext cx="412560" cy="393840"/>
                <a:chOff x="2463840" y="2944800"/>
                <a:chExt cx="412560" cy="39384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266832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>
                  <a:off x="246672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46384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H="1">
                  <a:off x="266220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267156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6" name=""/>
              <p:cNvGrpSpPr/>
              <p:nvPr/>
            </p:nvGrpSpPr>
            <p:grpSpPr>
              <a:xfrm>
                <a:off x="2124000" y="2351160"/>
                <a:ext cx="264960" cy="360360"/>
                <a:chOff x="2124000" y="2351160"/>
                <a:chExt cx="264960" cy="36036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213012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>
                  <a:off x="212400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9" name=""/>
              <p:cNvSpPr/>
              <p:nvPr/>
            </p:nvSpPr>
            <p:spPr>
              <a:xfrm flipH="1">
                <a:off x="2558880" y="236376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>
                <a:off x="2919240" y="237348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3998880" y="23734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>
                <a:off x="4359240" y="237348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"/>
              <p:cNvGrpSpPr/>
              <p:nvPr/>
            </p:nvGrpSpPr>
            <p:grpSpPr>
              <a:xfrm>
                <a:off x="3325680" y="6308640"/>
                <a:ext cx="258840" cy="258840"/>
                <a:chOff x="3325680" y="6308640"/>
                <a:chExt cx="258840" cy="25884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3325680" y="630864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>
                  <a:off x="3373560" y="643968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3859200" y="2532240"/>
                <a:ext cx="531720" cy="414000"/>
                <a:chOff x="3859200" y="2532240"/>
                <a:chExt cx="531720" cy="41400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385920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87504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3924360" y="2944800"/>
                <a:ext cx="412560" cy="393840"/>
                <a:chOff x="3924360" y="2944800"/>
                <a:chExt cx="412560" cy="39384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412884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>
                  <a:off x="392724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392436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>
                  <a:off x="412272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13208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3584520" y="2351160"/>
                <a:ext cx="264960" cy="360360"/>
                <a:chOff x="3584520" y="2351160"/>
                <a:chExt cx="264960" cy="36036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35906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>
                  <a:off x="35845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69840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69516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2932200" y="3906720"/>
                <a:ext cx="0" cy="2700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1" name=""/>
              <p:cNvGrpSpPr/>
              <p:nvPr/>
            </p:nvGrpSpPr>
            <p:grpSpPr>
              <a:xfrm>
                <a:off x="2678040" y="3278160"/>
                <a:ext cx="891720" cy="685440"/>
                <a:chOff x="2678040" y="3278160"/>
                <a:chExt cx="891720" cy="68544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3247560" y="3745080"/>
                  <a:ext cx="1029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3363480" y="3652920"/>
                  <a:ext cx="206280" cy="19044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4" name=""/>
                <p:cNvGrpSpPr/>
                <p:nvPr/>
              </p:nvGrpSpPr>
              <p:grpSpPr>
                <a:xfrm>
                  <a:off x="2678040" y="3278160"/>
                  <a:ext cx="579600" cy="685440"/>
                  <a:chOff x="2678040" y="3278160"/>
                  <a:chExt cx="579600" cy="685440"/>
                </a:xfrm>
              </p:grpSpPr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2682360" y="3531960"/>
                    <a:ext cx="575280" cy="431640"/>
                    <a:chOff x="2682360" y="3531960"/>
                    <a:chExt cx="575280" cy="43164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 flipV="1">
                      <a:off x="2682360" y="3640320"/>
                      <a:ext cx="0" cy="21420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 flipV="1">
                      <a:off x="2682360" y="353196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2682360" y="385524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>
                      <a:off x="3257640" y="3532320"/>
                      <a:ext cx="0" cy="43128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0" name=""/>
                  <p:cNvSpPr/>
                  <p:nvPr/>
                </p:nvSpPr>
                <p:spPr>
                  <a:xfrm>
                    <a:off x="2678040" y="3278160"/>
                    <a:ext cx="0" cy="38412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1" name=""/>
              <p:cNvSpPr/>
              <p:nvPr/>
            </p:nvSpPr>
            <p:spPr>
              <a:xfrm>
                <a:off x="2932200" y="4321080"/>
                <a:ext cx="0" cy="3970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3376440" y="3962520"/>
                <a:ext cx="496440" cy="187200"/>
                <a:chOff x="3376440" y="3962520"/>
                <a:chExt cx="496440" cy="18720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3376440" y="3962520"/>
                  <a:ext cx="208080" cy="18720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4" name=""/>
                <p:cNvGrpSpPr/>
                <p:nvPr/>
              </p:nvGrpSpPr>
              <p:grpSpPr>
                <a:xfrm>
                  <a:off x="3455640" y="3998880"/>
                  <a:ext cx="417240" cy="117360"/>
                  <a:chOff x="3455640" y="3998880"/>
                  <a:chExt cx="417240" cy="11736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>
                    <a:off x="3455640" y="3998880"/>
                    <a:ext cx="412920" cy="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459960" y="4002120"/>
                    <a:ext cx="59760" cy="5508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 flipH="1">
                    <a:off x="3459960" y="4061520"/>
                    <a:ext cx="59760" cy="5472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3459960" y="4116240"/>
                    <a:ext cx="412920" cy="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9" name=""/>
              <p:cNvSpPr/>
              <p:nvPr/>
            </p:nvSpPr>
            <p:spPr>
              <a:xfrm flipV="1">
                <a:off x="3260880" y="3951000"/>
                <a:ext cx="0" cy="1191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255840" y="4070520"/>
                <a:ext cx="1191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73528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"/>
              <p:cNvGrpSpPr/>
              <p:nvPr/>
            </p:nvGrpSpPr>
            <p:grpSpPr>
              <a:xfrm>
                <a:off x="7448040" y="543960"/>
                <a:ext cx="3187800" cy="1388160"/>
                <a:chOff x="7448040" y="543960"/>
                <a:chExt cx="3187800" cy="1388160"/>
              </a:xfrm>
            </p:grpSpPr>
            <p:sp>
              <p:nvSpPr>
                <p:cNvPr id="1173" name=""/>
                <p:cNvSpPr/>
                <p:nvPr/>
              </p:nvSpPr>
              <p:spPr>
                <a:xfrm flipV="1">
                  <a:off x="7448040" y="54360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 flipV="1">
                  <a:off x="9174240" y="54396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8868960" y="1052640"/>
                  <a:ext cx="345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8696520" y="1729440"/>
                  <a:ext cx="69012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7" name=""/>
              <p:cNvSpPr/>
              <p:nvPr/>
            </p:nvSpPr>
            <p:spPr>
              <a:xfrm>
                <a:off x="8193240" y="750960"/>
                <a:ext cx="158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Instalatie de racir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8" name=""/>
          <p:cNvSpPr/>
          <p:nvPr/>
        </p:nvSpPr>
        <p:spPr>
          <a:xfrm>
            <a:off x="4592520" y="2943360"/>
            <a:ext cx="43200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513240" y="2440080"/>
            <a:ext cx="129528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639800" y="2060640"/>
            <a:ext cx="432000" cy="142920"/>
          </a:xfrm>
          <a:prstGeom prst="line">
            <a:avLst/>
          </a:prstGeom>
          <a:ln w="3168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30040" y="1785960"/>
            <a:ext cx="1584360" cy="57636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8326440" y="981000"/>
            <a:ext cx="1511280" cy="935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977240" y="119700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 flipV="1">
            <a:off x="2207880" y="393336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505240" y="3433680"/>
            <a:ext cx="1439640" cy="9367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220680" y="166680"/>
            <a:ext cx="10415160" cy="6411600"/>
            <a:chOff x="220680" y="166680"/>
            <a:chExt cx="10415160" cy="6411600"/>
          </a:xfrm>
        </p:grpSpPr>
        <p:sp>
          <p:nvSpPr>
            <p:cNvPr id="1187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"/>
            <p:cNvGrpSpPr/>
            <p:nvPr/>
          </p:nvGrpSpPr>
          <p:grpSpPr>
            <a:xfrm>
              <a:off x="220680" y="543960"/>
              <a:ext cx="10415160" cy="6034320"/>
              <a:chOff x="220680" y="543960"/>
              <a:chExt cx="10415160" cy="6034320"/>
            </a:xfrm>
          </p:grpSpPr>
          <p:sp>
            <p:nvSpPr>
              <p:cNvPr id="1189" name=""/>
              <p:cNvSpPr/>
              <p:nvPr/>
            </p:nvSpPr>
            <p:spPr>
              <a:xfrm>
                <a:off x="1204920" y="3359160"/>
                <a:ext cx="81201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4987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8432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4987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8432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4" name=""/>
              <p:cNvGrpSpPr/>
              <p:nvPr/>
            </p:nvGrpSpPr>
            <p:grpSpPr>
              <a:xfrm>
                <a:off x="2387520" y="1482840"/>
                <a:ext cx="216000" cy="215640"/>
                <a:chOff x="2387520" y="1482840"/>
                <a:chExt cx="216000" cy="21564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23875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flipH="1">
                  <a:off x="24332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5318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2732040" y="1482840"/>
                <a:ext cx="216000" cy="215640"/>
                <a:chOff x="2732040" y="1482840"/>
                <a:chExt cx="216000" cy="21564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27320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27777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8764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2" name=""/>
              <p:cNvSpPr/>
              <p:nvPr/>
            </p:nvSpPr>
            <p:spPr>
              <a:xfrm>
                <a:off x="24987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8432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4" name=""/>
              <p:cNvGrpSpPr/>
              <p:nvPr/>
            </p:nvGrpSpPr>
            <p:grpSpPr>
              <a:xfrm>
                <a:off x="3840120" y="1320840"/>
                <a:ext cx="560520" cy="1217520"/>
                <a:chOff x="3840120" y="1320840"/>
                <a:chExt cx="560520" cy="121752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384012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395136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418464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2958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95136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429588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3840120" y="1482840"/>
                  <a:ext cx="216000" cy="215640"/>
                  <a:chOff x="3840120" y="1482840"/>
                  <a:chExt cx="216000" cy="21564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384012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 flipH="1">
                    <a:off x="388584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98448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5" name=""/>
                <p:cNvGrpSpPr/>
                <p:nvPr/>
              </p:nvGrpSpPr>
              <p:grpSpPr>
                <a:xfrm>
                  <a:off x="4184640" y="1482840"/>
                  <a:ext cx="216000" cy="215640"/>
                  <a:chOff x="4184640" y="1482840"/>
                  <a:chExt cx="216000" cy="215640"/>
                </a:xfrm>
              </p:grpSpPr>
              <p:sp>
                <p:nvSpPr>
                  <p:cNvPr id="1216" name=""/>
                  <p:cNvSpPr/>
                  <p:nvPr/>
                </p:nvSpPr>
                <p:spPr>
                  <a:xfrm>
                    <a:off x="41846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 flipH="1">
                    <a:off x="42303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43290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9" name=""/>
                <p:cNvSpPr/>
                <p:nvPr/>
              </p:nvSpPr>
              <p:spPr>
                <a:xfrm>
                  <a:off x="395136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42958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5292720" y="2351160"/>
                <a:ext cx="264960" cy="360360"/>
                <a:chOff x="5292720" y="2351160"/>
                <a:chExt cx="264960" cy="36036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52988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flipH="1">
                  <a:off x="52927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4802040" y="1141560"/>
                <a:ext cx="360360" cy="360360"/>
                <a:chOff x="4802040" y="1141560"/>
                <a:chExt cx="360360" cy="36036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4875120" y="1214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4802040" y="1141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7" name=""/>
              <p:cNvSpPr/>
              <p:nvPr/>
            </p:nvSpPr>
            <p:spPr>
              <a:xfrm>
                <a:off x="394344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>
                <a:off x="5195520" y="1328760"/>
                <a:ext cx="8269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9" name=""/>
              <p:cNvGrpSpPr/>
              <p:nvPr/>
            </p:nvGrpSpPr>
            <p:grpSpPr>
              <a:xfrm>
                <a:off x="7196040" y="2532240"/>
                <a:ext cx="531360" cy="805680"/>
                <a:chOff x="7196040" y="2532240"/>
                <a:chExt cx="531360" cy="805680"/>
              </a:xfrm>
            </p:grpSpPr>
            <p:grpSp>
              <p:nvGrpSpPr>
                <p:cNvPr id="1230" name=""/>
                <p:cNvGrpSpPr/>
                <p:nvPr/>
              </p:nvGrpSpPr>
              <p:grpSpPr>
                <a:xfrm>
                  <a:off x="7196040" y="2532240"/>
                  <a:ext cx="531360" cy="414000"/>
                  <a:chOff x="7196040" y="2532240"/>
                  <a:chExt cx="531360" cy="414000"/>
                </a:xfrm>
              </p:grpSpPr>
              <p:sp>
                <p:nvSpPr>
                  <p:cNvPr id="1231" name=""/>
                  <p:cNvSpPr/>
                  <p:nvPr/>
                </p:nvSpPr>
                <p:spPr>
                  <a:xfrm>
                    <a:off x="7196040" y="2532240"/>
                    <a:ext cx="531360" cy="414000"/>
                  </a:xfrm>
                  <a:prstGeom prst="rect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7215120" y="256356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C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3" name=""/>
                <p:cNvGrpSpPr/>
                <p:nvPr/>
              </p:nvGrpSpPr>
              <p:grpSpPr>
                <a:xfrm>
                  <a:off x="7261200" y="2944800"/>
                  <a:ext cx="412560" cy="393120"/>
                  <a:chOff x="7261200" y="2944800"/>
                  <a:chExt cx="412560" cy="393120"/>
                </a:xfrm>
              </p:grpSpPr>
              <p:sp>
                <p:nvSpPr>
                  <p:cNvPr id="1234" name=""/>
                  <p:cNvSpPr/>
                  <p:nvPr/>
                </p:nvSpPr>
                <p:spPr>
                  <a:xfrm>
                    <a:off x="7465680" y="2944800"/>
                    <a:ext cx="0" cy="117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 flipH="1">
                    <a:off x="7264080" y="3052440"/>
                    <a:ext cx="204480" cy="950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7261200" y="314784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 flipH="1">
                    <a:off x="7459560" y="3147840"/>
                    <a:ext cx="207360" cy="932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7468920" y="3231720"/>
                    <a:ext cx="0" cy="106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9" name=""/>
              <p:cNvGrpSpPr/>
              <p:nvPr/>
            </p:nvGrpSpPr>
            <p:grpSpPr>
              <a:xfrm>
                <a:off x="8007480" y="1789200"/>
                <a:ext cx="360360" cy="360360"/>
                <a:chOff x="8007480" y="1789200"/>
                <a:chExt cx="360360" cy="36036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8080560" y="186228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8007480" y="178920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2" name=""/>
              <p:cNvSpPr/>
              <p:nvPr/>
            </p:nvSpPr>
            <p:spPr>
              <a:xfrm>
                <a:off x="7454880" y="1971720"/>
                <a:ext cx="460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445520" y="1943280"/>
                <a:ext cx="0" cy="576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988920" y="425448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917640" y="4791240"/>
                <a:ext cx="885672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33640" y="3095640"/>
                <a:ext cx="720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40 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147680" y="399888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35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147680" y="454032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13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988920" y="5797440"/>
                <a:ext cx="878544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147680" y="55389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6b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302000" y="6446880"/>
                <a:ext cx="547236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988920" y="6446880"/>
                <a:ext cx="2952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3" name=""/>
              <p:cNvGrpSpPr/>
              <p:nvPr/>
            </p:nvGrpSpPr>
            <p:grpSpPr>
              <a:xfrm>
                <a:off x="3944520" y="6308640"/>
                <a:ext cx="359280" cy="269640"/>
                <a:chOff x="3944520" y="6308640"/>
                <a:chExt cx="359280" cy="26964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3944880" y="6308640"/>
                  <a:ext cx="358920" cy="26964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H="1">
                  <a:off x="3944520" y="6308640"/>
                  <a:ext cx="358920" cy="2649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6" name=""/>
              <p:cNvSpPr/>
              <p:nvPr/>
            </p:nvSpPr>
            <p:spPr>
              <a:xfrm>
                <a:off x="1147680" y="6159600"/>
                <a:ext cx="151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ermoficare urb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85640" y="1957320"/>
                <a:ext cx="935280" cy="3222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8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grpSp>
              <p:nvGrpSpPr>
                <p:cNvPr id="1259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sp>
                <p:nvSpPr>
                  <p:cNvPr id="1260" name=""/>
                  <p:cNvSpPr/>
                  <p:nvPr/>
                </p:nvSpPr>
                <p:spPr>
                  <a:xfrm flipV="1">
                    <a:off x="440208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61" name=""/>
                  <p:cNvGrpSpPr/>
                  <p:nvPr/>
                </p:nvGrpSpPr>
                <p:grpSpPr>
                  <a:xfrm>
                    <a:off x="4129200" y="3278160"/>
                    <a:ext cx="891720" cy="685440"/>
                    <a:chOff x="4129200" y="3278160"/>
                    <a:chExt cx="891720" cy="685440"/>
                  </a:xfrm>
                </p:grpSpPr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46987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3" name=""/>
                    <p:cNvSpPr/>
                    <p:nvPr/>
                  </p:nvSpPr>
                  <p:spPr>
                    <a:xfrm>
                      <a:off x="48146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64" name=""/>
                    <p:cNvGrpSpPr/>
                    <p:nvPr/>
                  </p:nvGrpSpPr>
                  <p:grpSpPr>
                    <a:xfrm>
                      <a:off x="4129200" y="3278160"/>
                      <a:ext cx="579600" cy="685440"/>
                      <a:chOff x="4129200" y="3278160"/>
                      <a:chExt cx="579600" cy="685440"/>
                    </a:xfrm>
                  </p:grpSpPr>
                  <p:grpSp>
                    <p:nvGrpSpPr>
                      <p:cNvPr id="1265" name=""/>
                      <p:cNvGrpSpPr/>
                      <p:nvPr/>
                    </p:nvGrpSpPr>
                    <p:grpSpPr>
                      <a:xfrm>
                        <a:off x="4133520" y="3531960"/>
                        <a:ext cx="575280" cy="431640"/>
                        <a:chOff x="4133520" y="3531960"/>
                        <a:chExt cx="575280" cy="431640"/>
                      </a:xfrm>
                    </p:grpSpPr>
                    <p:sp>
                      <p:nvSpPr>
                        <p:cNvPr id="1266" name=""/>
                        <p:cNvSpPr/>
                        <p:nvPr/>
                      </p:nvSpPr>
                      <p:spPr>
                        <a:xfrm flipV="1">
                          <a:off x="41335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7" name=""/>
                        <p:cNvSpPr/>
                        <p:nvPr/>
                      </p:nvSpPr>
                      <p:spPr>
                        <a:xfrm flipV="1">
                          <a:off x="41335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8" name=""/>
                        <p:cNvSpPr/>
                        <p:nvPr/>
                      </p:nvSpPr>
                      <p:spPr>
                        <a:xfrm>
                          <a:off x="41335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9" name=""/>
                        <p:cNvSpPr/>
                        <p:nvPr/>
                      </p:nvSpPr>
                      <p:spPr>
                        <a:xfrm>
                          <a:off x="47088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70" name=""/>
                      <p:cNvSpPr/>
                      <p:nvPr/>
                    </p:nvSpPr>
                    <p:spPr>
                      <a:xfrm>
                        <a:off x="41292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71" name=""/>
                  <p:cNvSpPr/>
                  <p:nvPr/>
                </p:nvSpPr>
                <p:spPr>
                  <a:xfrm>
                    <a:off x="42195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44020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 flipV="1">
                    <a:off x="471168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471168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471168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471168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7" name=""/>
                <p:cNvSpPr/>
                <p:nvPr/>
              </p:nvSpPr>
              <p:spPr>
                <a:xfrm>
                  <a:off x="4167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grpSp>
              <p:nvGrpSpPr>
                <p:cNvPr id="1279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sp>
                <p:nvSpPr>
                  <p:cNvPr id="1280" name=""/>
                  <p:cNvSpPr/>
                  <p:nvPr/>
                </p:nvSpPr>
                <p:spPr>
                  <a:xfrm flipV="1">
                    <a:off x="61149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81" name=""/>
                  <p:cNvGrpSpPr/>
                  <p:nvPr/>
                </p:nvGrpSpPr>
                <p:grpSpPr>
                  <a:xfrm>
                    <a:off x="5842080" y="3278160"/>
                    <a:ext cx="891720" cy="685440"/>
                    <a:chOff x="5842080" y="3278160"/>
                    <a:chExt cx="891720" cy="685440"/>
                  </a:xfrm>
                </p:grpSpPr>
                <p:sp>
                  <p:nvSpPr>
                    <p:cNvPr id="1282" name=""/>
                    <p:cNvSpPr/>
                    <p:nvPr/>
                  </p:nvSpPr>
                  <p:spPr>
                    <a:xfrm>
                      <a:off x="641160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"/>
                    <p:cNvSpPr/>
                    <p:nvPr/>
                  </p:nvSpPr>
                  <p:spPr>
                    <a:xfrm>
                      <a:off x="652752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84" name=""/>
                    <p:cNvGrpSpPr/>
                    <p:nvPr/>
                  </p:nvGrpSpPr>
                  <p:grpSpPr>
                    <a:xfrm>
                      <a:off x="5842080" y="3278160"/>
                      <a:ext cx="579600" cy="685440"/>
                      <a:chOff x="5842080" y="3278160"/>
                      <a:chExt cx="579600" cy="685440"/>
                    </a:xfrm>
                  </p:grpSpPr>
                  <p:grpSp>
                    <p:nvGrpSpPr>
                      <p:cNvPr id="1285" name=""/>
                      <p:cNvGrpSpPr/>
                      <p:nvPr/>
                    </p:nvGrpSpPr>
                    <p:grpSpPr>
                      <a:xfrm>
                        <a:off x="5846400" y="3531960"/>
                        <a:ext cx="575280" cy="431640"/>
                        <a:chOff x="5846400" y="3531960"/>
                        <a:chExt cx="575280" cy="431640"/>
                      </a:xfrm>
                    </p:grpSpPr>
                    <p:sp>
                      <p:nvSpPr>
                        <p:cNvPr id="1286" name=""/>
                        <p:cNvSpPr/>
                        <p:nvPr/>
                      </p:nvSpPr>
                      <p:spPr>
                        <a:xfrm flipV="1">
                          <a:off x="584640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7" name=""/>
                        <p:cNvSpPr/>
                        <p:nvPr/>
                      </p:nvSpPr>
                      <p:spPr>
                        <a:xfrm flipV="1">
                          <a:off x="584640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8" name=""/>
                        <p:cNvSpPr/>
                        <p:nvPr/>
                      </p:nvSpPr>
                      <p:spPr>
                        <a:xfrm>
                          <a:off x="584640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9" name=""/>
                        <p:cNvSpPr/>
                        <p:nvPr/>
                      </p:nvSpPr>
                      <p:spPr>
                        <a:xfrm>
                          <a:off x="642168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90" name=""/>
                      <p:cNvSpPr/>
                      <p:nvPr/>
                    </p:nvSpPr>
                    <p:spPr>
                      <a:xfrm>
                        <a:off x="584208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91" name=""/>
                  <p:cNvSpPr/>
                  <p:nvPr/>
                </p:nvSpPr>
                <p:spPr>
                  <a:xfrm>
                    <a:off x="593244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61149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flipV="1">
                    <a:off x="642456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64245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2456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2456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7" name=""/>
                <p:cNvSpPr/>
                <p:nvPr/>
              </p:nvSpPr>
              <p:spPr>
                <a:xfrm>
                  <a:off x="58863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7464600" y="3278160"/>
                <a:ext cx="1194840" cy="3133800"/>
                <a:chOff x="7464600" y="3278160"/>
                <a:chExt cx="1194840" cy="3133800"/>
              </a:xfrm>
            </p:grpSpPr>
            <p:grpSp>
              <p:nvGrpSpPr>
                <p:cNvPr id="1299" name=""/>
                <p:cNvGrpSpPr/>
                <p:nvPr/>
              </p:nvGrpSpPr>
              <p:grpSpPr>
                <a:xfrm>
                  <a:off x="7464600" y="3278160"/>
                  <a:ext cx="1194840" cy="3133800"/>
                  <a:chOff x="7464600" y="3278160"/>
                  <a:chExt cx="1194840" cy="313380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 flipV="1">
                    <a:off x="7718760" y="3906720"/>
                    <a:ext cx="0" cy="269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1" name=""/>
                  <p:cNvGrpSpPr/>
                  <p:nvPr/>
                </p:nvGrpSpPr>
                <p:grpSpPr>
                  <a:xfrm>
                    <a:off x="7464600" y="3278160"/>
                    <a:ext cx="891720" cy="685440"/>
                    <a:chOff x="7464600" y="3278160"/>
                    <a:chExt cx="891720" cy="685440"/>
                  </a:xfrm>
                </p:grpSpPr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8034120" y="3745080"/>
                      <a:ext cx="10296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3" name=""/>
                    <p:cNvSpPr/>
                    <p:nvPr/>
                  </p:nvSpPr>
                  <p:spPr>
                    <a:xfrm>
                      <a:off x="8150040" y="3652920"/>
                      <a:ext cx="206280" cy="1904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04" name=""/>
                    <p:cNvGrpSpPr/>
                    <p:nvPr/>
                  </p:nvGrpSpPr>
                  <p:grpSpPr>
                    <a:xfrm>
                      <a:off x="7464600" y="3278160"/>
                      <a:ext cx="579600" cy="685440"/>
                      <a:chOff x="7464600" y="3278160"/>
                      <a:chExt cx="579600" cy="685440"/>
                    </a:xfrm>
                  </p:grpSpPr>
                  <p:grpSp>
                    <p:nvGrpSpPr>
                      <p:cNvPr id="1305" name=""/>
                      <p:cNvGrpSpPr/>
                      <p:nvPr/>
                    </p:nvGrpSpPr>
                    <p:grpSpPr>
                      <a:xfrm>
                        <a:off x="7468920" y="3531960"/>
                        <a:ext cx="575280" cy="431640"/>
                        <a:chOff x="7468920" y="3531960"/>
                        <a:chExt cx="575280" cy="431640"/>
                      </a:xfrm>
                    </p:grpSpPr>
                    <p:sp>
                      <p:nvSpPr>
                        <p:cNvPr id="1306" name=""/>
                        <p:cNvSpPr/>
                        <p:nvPr/>
                      </p:nvSpPr>
                      <p:spPr>
                        <a:xfrm flipV="1">
                          <a:off x="7468920" y="3640320"/>
                          <a:ext cx="0" cy="21420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7" name=""/>
                        <p:cNvSpPr/>
                        <p:nvPr/>
                      </p:nvSpPr>
                      <p:spPr>
                        <a:xfrm flipV="1">
                          <a:off x="7468920" y="353196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8" name=""/>
                        <p:cNvSpPr/>
                        <p:nvPr/>
                      </p:nvSpPr>
                      <p:spPr>
                        <a:xfrm>
                          <a:off x="7468920" y="3855240"/>
                          <a:ext cx="575280" cy="10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9" name=""/>
                        <p:cNvSpPr/>
                        <p:nvPr/>
                      </p:nvSpPr>
                      <p:spPr>
                        <a:xfrm>
                          <a:off x="8044200" y="3532320"/>
                          <a:ext cx="0" cy="43128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10" name=""/>
                      <p:cNvSpPr/>
                      <p:nvPr/>
                    </p:nvSpPr>
                    <p:spPr>
                      <a:xfrm>
                        <a:off x="7464600" y="3278160"/>
                        <a:ext cx="0" cy="38412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11" name=""/>
                  <p:cNvSpPr/>
                  <p:nvPr/>
                </p:nvSpPr>
                <p:spPr>
                  <a:xfrm>
                    <a:off x="755496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771876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V="1">
                    <a:off x="7894800" y="39254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7894800" y="4321080"/>
                    <a:ext cx="0" cy="39708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7894800" y="5870520"/>
                    <a:ext cx="0" cy="5414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7894800" y="4862520"/>
                    <a:ext cx="0" cy="86364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17" name=""/>
                  <p:cNvGrpSpPr/>
                  <p:nvPr/>
                </p:nvGrpSpPr>
                <p:grpSpPr>
                  <a:xfrm>
                    <a:off x="8163000" y="3962520"/>
                    <a:ext cx="496440" cy="187200"/>
                    <a:chOff x="8163000" y="3962520"/>
                    <a:chExt cx="496440" cy="187200"/>
                  </a:xfrm>
                </p:grpSpPr>
                <p:sp>
                  <p:nvSpPr>
                    <p:cNvPr id="1318" name=""/>
                    <p:cNvSpPr/>
                    <p:nvPr/>
                  </p:nvSpPr>
                  <p:spPr>
                    <a:xfrm>
                      <a:off x="8163000" y="3962520"/>
                      <a:ext cx="208080" cy="18720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19" name=""/>
                    <p:cNvGrpSpPr/>
                    <p:nvPr/>
                  </p:nvGrpSpPr>
                  <p:grpSpPr>
                    <a:xfrm>
                      <a:off x="8242200" y="3998880"/>
                      <a:ext cx="417240" cy="117360"/>
                      <a:chOff x="8242200" y="3998880"/>
                      <a:chExt cx="417240" cy="117360"/>
                    </a:xfrm>
                  </p:grpSpPr>
                  <p:sp>
                    <p:nvSpPr>
                      <p:cNvPr id="1320" name=""/>
                      <p:cNvSpPr/>
                      <p:nvPr/>
                    </p:nvSpPr>
                    <p:spPr>
                      <a:xfrm>
                        <a:off x="8242200" y="3998880"/>
                        <a:ext cx="412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1" name=""/>
                      <p:cNvSpPr/>
                      <p:nvPr/>
                    </p:nvSpPr>
                    <p:spPr>
                      <a:xfrm>
                        <a:off x="8246520" y="4002120"/>
                        <a:ext cx="59760" cy="5508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2" name=""/>
                      <p:cNvSpPr/>
                      <p:nvPr/>
                    </p:nvSpPr>
                    <p:spPr>
                      <a:xfrm flipH="1">
                        <a:off x="8246520" y="4061520"/>
                        <a:ext cx="59760" cy="54720"/>
                      </a:xfrm>
                      <a:prstGeom prst="line">
                        <a:avLst/>
                      </a:prstGeom>
                      <a:ln w="936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3" name=""/>
                      <p:cNvSpPr/>
                      <p:nvPr/>
                    </p:nvSpPr>
                    <p:spPr>
                      <a:xfrm>
                        <a:off x="8246520" y="4116240"/>
                        <a:ext cx="412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99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24" name=""/>
                  <p:cNvSpPr/>
                  <p:nvPr/>
                </p:nvSpPr>
                <p:spPr>
                  <a:xfrm flipV="1">
                    <a:off x="8047080" y="3951000"/>
                    <a:ext cx="0" cy="1191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8042400" y="4070520"/>
                    <a:ext cx="1191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6" name=""/>
                <p:cNvSpPr/>
                <p:nvPr/>
              </p:nvSpPr>
              <p:spPr>
                <a:xfrm>
                  <a:off x="752148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7" name=""/>
              <p:cNvSpPr/>
              <p:nvPr/>
            </p:nvSpPr>
            <p:spPr>
              <a:xfrm>
                <a:off x="220680" y="1652760"/>
                <a:ext cx="203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Inchidere ecologica depoz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734000" y="8841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920000" y="1557360"/>
                <a:ext cx="5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0" name=""/>
              <p:cNvGrpSpPr/>
              <p:nvPr/>
            </p:nvGrpSpPr>
            <p:grpSpPr>
              <a:xfrm>
                <a:off x="1494000" y="3332160"/>
                <a:ext cx="671040" cy="882720"/>
                <a:chOff x="1494000" y="3332160"/>
                <a:chExt cx="671040" cy="88272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1852560" y="3744720"/>
                  <a:ext cx="1029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1958760" y="3652560"/>
                  <a:ext cx="206280" cy="1908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3" name=""/>
                <p:cNvGrpSpPr/>
                <p:nvPr/>
              </p:nvGrpSpPr>
              <p:grpSpPr>
                <a:xfrm>
                  <a:off x="1494000" y="3531600"/>
                  <a:ext cx="364680" cy="432000"/>
                  <a:chOff x="1494000" y="3531600"/>
                  <a:chExt cx="364680" cy="43200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 flipV="1">
                    <a:off x="1494000" y="363996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 flipV="1">
                    <a:off x="1494000" y="353160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1494000" y="3854880"/>
                    <a:ext cx="364680" cy="108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1858680" y="3531960"/>
                    <a:ext cx="0" cy="4316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8" name=""/>
                <p:cNvSpPr/>
                <p:nvPr/>
              </p:nvSpPr>
              <p:spPr>
                <a:xfrm>
                  <a:off x="1494000" y="3332160"/>
                  <a:ext cx="0" cy="33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186048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0" name=""/>
              <p:cNvSpPr/>
              <p:nvPr/>
            </p:nvSpPr>
            <p:spPr>
              <a:xfrm>
                <a:off x="14349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1" name=""/>
              <p:cNvGrpSpPr/>
              <p:nvPr/>
            </p:nvGrpSpPr>
            <p:grpSpPr>
              <a:xfrm>
                <a:off x="6789600" y="4805280"/>
                <a:ext cx="752760" cy="975240"/>
                <a:chOff x="6789600" y="4805280"/>
                <a:chExt cx="752760" cy="975240"/>
              </a:xfrm>
            </p:grpSpPr>
            <p:grpSp>
              <p:nvGrpSpPr>
                <p:cNvPr id="1342" name=""/>
                <p:cNvGrpSpPr/>
                <p:nvPr/>
              </p:nvGrpSpPr>
              <p:grpSpPr>
                <a:xfrm>
                  <a:off x="6870600" y="4805280"/>
                  <a:ext cx="671760" cy="975240"/>
                  <a:chOff x="6870600" y="4805280"/>
                  <a:chExt cx="671760" cy="975240"/>
                </a:xfrm>
              </p:grpSpPr>
              <p:sp>
                <p:nvSpPr>
                  <p:cNvPr id="1343" name=""/>
                  <p:cNvSpPr/>
                  <p:nvPr/>
                </p:nvSpPr>
                <p:spPr>
                  <a:xfrm>
                    <a:off x="7229520" y="5261400"/>
                    <a:ext cx="103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7335720" y="5159160"/>
                    <a:ext cx="206640" cy="2106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45" name=""/>
                  <p:cNvGrpSpPr/>
                  <p:nvPr/>
                </p:nvGrpSpPr>
                <p:grpSpPr>
                  <a:xfrm>
                    <a:off x="6870600" y="5025600"/>
                    <a:ext cx="365040" cy="477360"/>
                    <a:chOff x="6870600" y="5025600"/>
                    <a:chExt cx="365040" cy="477360"/>
                  </a:xfrm>
                </p:grpSpPr>
                <p:sp>
                  <p:nvSpPr>
                    <p:cNvPr id="1346" name=""/>
                    <p:cNvSpPr/>
                    <p:nvPr/>
                  </p:nvSpPr>
                  <p:spPr>
                    <a:xfrm flipV="1">
                      <a:off x="6870600" y="5145840"/>
                      <a:ext cx="0" cy="236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7" name=""/>
                    <p:cNvSpPr/>
                    <p:nvPr/>
                  </p:nvSpPr>
                  <p:spPr>
                    <a:xfrm flipV="1">
                      <a:off x="6870600" y="502560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6870600" y="5383080"/>
                      <a:ext cx="365040" cy="1198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7235640" y="5025960"/>
                      <a:ext cx="0" cy="4770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0" name=""/>
                  <p:cNvSpPr/>
                  <p:nvPr/>
                </p:nvSpPr>
                <p:spPr>
                  <a:xfrm>
                    <a:off x="6870600" y="4805280"/>
                    <a:ext cx="0" cy="3646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7237440" y="5392800"/>
                    <a:ext cx="0" cy="38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2" name=""/>
                <p:cNvSpPr/>
                <p:nvPr/>
              </p:nvSpPr>
              <p:spPr>
                <a:xfrm>
                  <a:off x="6789600" y="511236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3" name=""/>
              <p:cNvSpPr/>
              <p:nvPr/>
            </p:nvSpPr>
            <p:spPr>
              <a:xfrm flipH="1">
                <a:off x="1193400" y="1301760"/>
                <a:ext cx="1646280" cy="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4" name=""/>
              <p:cNvGrpSpPr/>
              <p:nvPr/>
            </p:nvGrpSpPr>
            <p:grpSpPr>
              <a:xfrm>
                <a:off x="825480" y="1114560"/>
                <a:ext cx="360360" cy="360360"/>
                <a:chOff x="825480" y="1114560"/>
                <a:chExt cx="360360" cy="36036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898560" y="1187640"/>
                  <a:ext cx="215640" cy="21600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825480" y="1114560"/>
                  <a:ext cx="360360" cy="360360"/>
                </a:xfrm>
                <a:prstGeom prst="ellipse">
                  <a:avLst/>
                </a:prstGeom>
                <a:noFill/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789120" y="857160"/>
                <a:ext cx="5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Cos 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85640" y="2413080"/>
                <a:ext cx="935280" cy="32220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90600" y="2695680"/>
                <a:ext cx="168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00"/>
                    </a:solidFill>
                    <a:latin typeface="Times New Roman"/>
                  </a:rPr>
                  <a:t>Depozite noi de cenu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6200000">
                <a:off x="-357120" y="4645080"/>
                <a:ext cx="216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Times New Roman"/>
                  </a:rPr>
                  <a:t>Consumatorii industrial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3954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73996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>
                <a:off x="1496880" y="2373480"/>
                <a:ext cx="91296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4" name=""/>
              <p:cNvGrpSpPr/>
              <p:nvPr/>
            </p:nvGrpSpPr>
            <p:grpSpPr>
              <a:xfrm>
                <a:off x="2398680" y="2532240"/>
                <a:ext cx="531720" cy="414000"/>
                <a:chOff x="2398680" y="2532240"/>
                <a:chExt cx="531720" cy="41400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239868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241452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2463840" y="2944800"/>
                <a:ext cx="412560" cy="393840"/>
                <a:chOff x="2463840" y="2944800"/>
                <a:chExt cx="412560" cy="39384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266832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flipH="1">
                  <a:off x="246672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246384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H="1">
                  <a:off x="266220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267156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2124000" y="2351160"/>
                <a:ext cx="264960" cy="360360"/>
                <a:chOff x="2124000" y="2351160"/>
                <a:chExt cx="264960" cy="36036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213012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H="1">
                  <a:off x="212400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6" name=""/>
              <p:cNvSpPr/>
              <p:nvPr/>
            </p:nvSpPr>
            <p:spPr>
              <a:xfrm flipH="1">
                <a:off x="2558880" y="236376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2919240" y="2373480"/>
                <a:ext cx="93528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>
                <a:off x="3998880" y="2373480"/>
                <a:ext cx="21600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4359240" y="2373480"/>
                <a:ext cx="944640" cy="0"/>
              </a:xfrm>
              <a:prstGeom prst="line">
                <a:avLst/>
              </a:prstGeom>
              <a:ln w="507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0" name=""/>
              <p:cNvGrpSpPr/>
              <p:nvPr/>
            </p:nvGrpSpPr>
            <p:grpSpPr>
              <a:xfrm>
                <a:off x="3325680" y="6308640"/>
                <a:ext cx="258840" cy="258840"/>
                <a:chOff x="3325680" y="6308640"/>
                <a:chExt cx="258840" cy="25884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325680" y="6308640"/>
                  <a:ext cx="258840" cy="25884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H="1">
                  <a:off x="3373560" y="6439680"/>
                  <a:ext cx="156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3584520" y="2351160"/>
                <a:ext cx="806400" cy="987480"/>
                <a:chOff x="3584520" y="2351160"/>
                <a:chExt cx="806400" cy="987480"/>
              </a:xfrm>
            </p:grpSpPr>
            <p:grpSp>
              <p:nvGrpSpPr>
                <p:cNvPr id="1384" name=""/>
                <p:cNvGrpSpPr/>
                <p:nvPr/>
              </p:nvGrpSpPr>
              <p:grpSpPr>
                <a:xfrm>
                  <a:off x="3859200" y="2532240"/>
                  <a:ext cx="531720" cy="414000"/>
                  <a:chOff x="3859200" y="2532240"/>
                  <a:chExt cx="531720" cy="414000"/>
                </a:xfrm>
              </p:grpSpPr>
              <p:sp>
                <p:nvSpPr>
                  <p:cNvPr id="1385" name=""/>
                  <p:cNvSpPr/>
                  <p:nvPr/>
                </p:nvSpPr>
                <p:spPr>
                  <a:xfrm>
                    <a:off x="3859200" y="2532240"/>
                    <a:ext cx="531720" cy="41400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387504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7" name=""/>
                <p:cNvGrpSpPr/>
                <p:nvPr/>
              </p:nvGrpSpPr>
              <p:grpSpPr>
                <a:xfrm>
                  <a:off x="3924360" y="2944800"/>
                  <a:ext cx="412560" cy="393840"/>
                  <a:chOff x="3924360" y="2944800"/>
                  <a:chExt cx="412560" cy="393840"/>
                </a:xfrm>
              </p:grpSpPr>
              <p:sp>
                <p:nvSpPr>
                  <p:cNvPr id="1388" name=""/>
                  <p:cNvSpPr/>
                  <p:nvPr/>
                </p:nvSpPr>
                <p:spPr>
                  <a:xfrm>
                    <a:off x="412884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 flipH="1">
                    <a:off x="392724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392436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flipH="1">
                    <a:off x="412272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413208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3" name=""/>
                <p:cNvGrpSpPr/>
                <p:nvPr/>
              </p:nvGrpSpPr>
              <p:grpSpPr>
                <a:xfrm>
                  <a:off x="3584520" y="2351160"/>
                  <a:ext cx="264960" cy="360360"/>
                  <a:chOff x="3584520" y="2351160"/>
                  <a:chExt cx="264960" cy="360360"/>
                </a:xfrm>
              </p:grpSpPr>
              <p:sp>
                <p:nvSpPr>
                  <p:cNvPr id="1394" name=""/>
                  <p:cNvSpPr/>
                  <p:nvPr/>
                </p:nvSpPr>
                <p:spPr>
                  <a:xfrm>
                    <a:off x="359064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 flipH="1">
                    <a:off x="358452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96" name=""/>
              <p:cNvSpPr/>
              <p:nvPr/>
            </p:nvSpPr>
            <p:spPr>
              <a:xfrm>
                <a:off x="69840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695160" y="2009880"/>
                <a:ext cx="505080" cy="187200"/>
              </a:xfrm>
              <a:prstGeom prst="line">
                <a:avLst/>
              </a:prstGeom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2932200" y="3906720"/>
                <a:ext cx="0" cy="2700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9" name=""/>
              <p:cNvGrpSpPr/>
              <p:nvPr/>
            </p:nvGrpSpPr>
            <p:grpSpPr>
              <a:xfrm>
                <a:off x="2678040" y="3278160"/>
                <a:ext cx="891720" cy="685440"/>
                <a:chOff x="2678040" y="3278160"/>
                <a:chExt cx="891720" cy="68544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3247560" y="3745080"/>
                  <a:ext cx="1029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3363480" y="3652920"/>
                  <a:ext cx="206280" cy="190440"/>
                </a:xfrm>
                <a:prstGeom prst="ellipse">
                  <a:avLst/>
                </a:prstGeom>
                <a:solidFill>
                  <a:srgbClr val="ffcc99"/>
                </a:solidFill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2" name=""/>
                <p:cNvGrpSpPr/>
                <p:nvPr/>
              </p:nvGrpSpPr>
              <p:grpSpPr>
                <a:xfrm>
                  <a:off x="2678040" y="3278160"/>
                  <a:ext cx="579600" cy="685440"/>
                  <a:chOff x="2678040" y="3278160"/>
                  <a:chExt cx="579600" cy="685440"/>
                </a:xfrm>
              </p:grpSpPr>
              <p:grpSp>
                <p:nvGrpSpPr>
                  <p:cNvPr id="1403" name=""/>
                  <p:cNvGrpSpPr/>
                  <p:nvPr/>
                </p:nvGrpSpPr>
                <p:grpSpPr>
                  <a:xfrm>
                    <a:off x="2682360" y="3531960"/>
                    <a:ext cx="575280" cy="431640"/>
                    <a:chOff x="2682360" y="3531960"/>
                    <a:chExt cx="575280" cy="431640"/>
                  </a:xfrm>
                </p:grpSpPr>
                <p:sp>
                  <p:nvSpPr>
                    <p:cNvPr id="1404" name=""/>
                    <p:cNvSpPr/>
                    <p:nvPr/>
                  </p:nvSpPr>
                  <p:spPr>
                    <a:xfrm flipV="1">
                      <a:off x="2682360" y="3640320"/>
                      <a:ext cx="0" cy="21420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5" name=""/>
                    <p:cNvSpPr/>
                    <p:nvPr/>
                  </p:nvSpPr>
                  <p:spPr>
                    <a:xfrm flipV="1">
                      <a:off x="2682360" y="353196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6" name=""/>
                    <p:cNvSpPr/>
                    <p:nvPr/>
                  </p:nvSpPr>
                  <p:spPr>
                    <a:xfrm>
                      <a:off x="2682360" y="3855240"/>
                      <a:ext cx="575280" cy="10836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"/>
                    <p:cNvSpPr/>
                    <p:nvPr/>
                  </p:nvSpPr>
                  <p:spPr>
                    <a:xfrm>
                      <a:off x="3257640" y="3532320"/>
                      <a:ext cx="0" cy="43128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8" name=""/>
                  <p:cNvSpPr/>
                  <p:nvPr/>
                </p:nvSpPr>
                <p:spPr>
                  <a:xfrm>
                    <a:off x="2678040" y="3278160"/>
                    <a:ext cx="0" cy="38412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09" name=""/>
              <p:cNvSpPr/>
              <p:nvPr/>
            </p:nvSpPr>
            <p:spPr>
              <a:xfrm>
                <a:off x="2932200" y="4321080"/>
                <a:ext cx="0" cy="3970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0" name=""/>
              <p:cNvGrpSpPr/>
              <p:nvPr/>
            </p:nvGrpSpPr>
            <p:grpSpPr>
              <a:xfrm>
                <a:off x="3376440" y="3962520"/>
                <a:ext cx="496440" cy="187200"/>
                <a:chOff x="3376440" y="3962520"/>
                <a:chExt cx="496440" cy="18720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3376440" y="3962520"/>
                  <a:ext cx="208080" cy="18720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2" name=""/>
                <p:cNvGrpSpPr/>
                <p:nvPr/>
              </p:nvGrpSpPr>
              <p:grpSpPr>
                <a:xfrm>
                  <a:off x="3455640" y="3998880"/>
                  <a:ext cx="417240" cy="117360"/>
                  <a:chOff x="3455640" y="3998880"/>
                  <a:chExt cx="417240" cy="117360"/>
                </a:xfrm>
              </p:grpSpPr>
              <p:sp>
                <p:nvSpPr>
                  <p:cNvPr id="1413" name=""/>
                  <p:cNvSpPr/>
                  <p:nvPr/>
                </p:nvSpPr>
                <p:spPr>
                  <a:xfrm>
                    <a:off x="3455640" y="3998880"/>
                    <a:ext cx="412920" cy="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3459960" y="4002120"/>
                    <a:ext cx="59760" cy="5508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 flipH="1">
                    <a:off x="3459960" y="4061520"/>
                    <a:ext cx="59760" cy="54720"/>
                  </a:xfrm>
                  <a:prstGeom prst="line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3459960" y="4116240"/>
                    <a:ext cx="412920" cy="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7" name=""/>
              <p:cNvSpPr/>
              <p:nvPr/>
            </p:nvSpPr>
            <p:spPr>
              <a:xfrm flipV="1">
                <a:off x="3260880" y="3951000"/>
                <a:ext cx="0" cy="1191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255840" y="4070520"/>
                <a:ext cx="1191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73528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0" name=""/>
              <p:cNvGrpSpPr/>
              <p:nvPr/>
            </p:nvGrpSpPr>
            <p:grpSpPr>
              <a:xfrm>
                <a:off x="7448040" y="543960"/>
                <a:ext cx="3187800" cy="1388160"/>
                <a:chOff x="7448040" y="543960"/>
                <a:chExt cx="3187800" cy="1388160"/>
              </a:xfrm>
            </p:grpSpPr>
            <p:sp>
              <p:nvSpPr>
                <p:cNvPr id="1421" name=""/>
                <p:cNvSpPr/>
                <p:nvPr/>
              </p:nvSpPr>
              <p:spPr>
                <a:xfrm flipV="1">
                  <a:off x="7448040" y="54360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H="1" flipV="1">
                  <a:off x="9174240" y="543960"/>
                  <a:ext cx="1461240" cy="1388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389" y="3116"/>
                      </a:moveTo>
                      <a:arcTo wR="10800" hR="10800" stAng="-2721549" swAng="36503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389" y="3116"/>
                      </a:moveTo>
                      <a:arcTo wR="10800" hR="10800" stAng="-2721549" swAng="3650365"/>
                    </a:path>
                  </a:pathLst>
                </a:custGeom>
                <a:noFill/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8868960" y="1052640"/>
                  <a:ext cx="34524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8696520" y="1729440"/>
                  <a:ext cx="69012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5" name=""/>
              <p:cNvSpPr/>
              <p:nvPr/>
            </p:nvSpPr>
            <p:spPr>
              <a:xfrm>
                <a:off x="8193240" y="750960"/>
                <a:ext cx="158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Instalatie de racir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6" name=""/>
              <p:cNvGrpSpPr/>
              <p:nvPr/>
            </p:nvGrpSpPr>
            <p:grpSpPr>
              <a:xfrm>
                <a:off x="5294160" y="2351160"/>
                <a:ext cx="806400" cy="987480"/>
                <a:chOff x="5294160" y="2351160"/>
                <a:chExt cx="806400" cy="987480"/>
              </a:xfrm>
            </p:grpSpPr>
            <p:grpSp>
              <p:nvGrpSpPr>
                <p:cNvPr id="1427" name=""/>
                <p:cNvGrpSpPr/>
                <p:nvPr/>
              </p:nvGrpSpPr>
              <p:grpSpPr>
                <a:xfrm>
                  <a:off x="5568840" y="2532240"/>
                  <a:ext cx="531720" cy="414000"/>
                  <a:chOff x="5568840" y="2532240"/>
                  <a:chExt cx="531720" cy="414000"/>
                </a:xfrm>
              </p:grpSpPr>
              <p:sp>
                <p:nvSpPr>
                  <p:cNvPr id="1428" name=""/>
                  <p:cNvSpPr/>
                  <p:nvPr/>
                </p:nvSpPr>
                <p:spPr>
                  <a:xfrm>
                    <a:off x="5568840" y="2532240"/>
                    <a:ext cx="531720" cy="41400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558468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0" name=""/>
                <p:cNvGrpSpPr/>
                <p:nvPr/>
              </p:nvGrpSpPr>
              <p:grpSpPr>
                <a:xfrm>
                  <a:off x="5634000" y="2944800"/>
                  <a:ext cx="412560" cy="393840"/>
                  <a:chOff x="5634000" y="2944800"/>
                  <a:chExt cx="412560" cy="393840"/>
                </a:xfrm>
              </p:grpSpPr>
              <p:sp>
                <p:nvSpPr>
                  <p:cNvPr id="1431" name=""/>
                  <p:cNvSpPr/>
                  <p:nvPr/>
                </p:nvSpPr>
                <p:spPr>
                  <a:xfrm>
                    <a:off x="583848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 flipH="1">
                    <a:off x="563688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563400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H="1">
                    <a:off x="583236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584172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6" name=""/>
                <p:cNvGrpSpPr/>
                <p:nvPr/>
              </p:nvGrpSpPr>
              <p:grpSpPr>
                <a:xfrm>
                  <a:off x="5294160" y="2351160"/>
                  <a:ext cx="264960" cy="360360"/>
                  <a:chOff x="5294160" y="2351160"/>
                  <a:chExt cx="264960" cy="360360"/>
                </a:xfrm>
              </p:grpSpPr>
              <p:sp>
                <p:nvSpPr>
                  <p:cNvPr id="1437" name=""/>
                  <p:cNvSpPr/>
                  <p:nvPr/>
                </p:nvSpPr>
                <p:spPr>
                  <a:xfrm>
                    <a:off x="530028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 flipH="1">
                    <a:off x="529416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9" name=""/>
              <p:cNvGrpSpPr/>
              <p:nvPr/>
            </p:nvGrpSpPr>
            <p:grpSpPr>
              <a:xfrm>
                <a:off x="5557680" y="1320840"/>
                <a:ext cx="560520" cy="1217520"/>
                <a:chOff x="5557680" y="1320840"/>
                <a:chExt cx="560520" cy="121752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555768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566892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590220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601344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66892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601344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6" name=""/>
                <p:cNvGrpSpPr/>
                <p:nvPr/>
              </p:nvGrpSpPr>
              <p:grpSpPr>
                <a:xfrm>
                  <a:off x="5557680" y="1482840"/>
                  <a:ext cx="216000" cy="215640"/>
                  <a:chOff x="5557680" y="1482840"/>
                  <a:chExt cx="216000" cy="215640"/>
                </a:xfrm>
              </p:grpSpPr>
              <p:sp>
                <p:nvSpPr>
                  <p:cNvPr id="1447" name=""/>
                  <p:cNvSpPr/>
                  <p:nvPr/>
                </p:nvSpPr>
                <p:spPr>
                  <a:xfrm>
                    <a:off x="555768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 flipH="1">
                    <a:off x="560340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570204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5902200" y="1482840"/>
                  <a:ext cx="216000" cy="215640"/>
                  <a:chOff x="5902200" y="1482840"/>
                  <a:chExt cx="216000" cy="21564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>
                    <a:off x="590220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 flipH="1">
                    <a:off x="594792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604656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4" name=""/>
                <p:cNvSpPr/>
                <p:nvPr/>
              </p:nvSpPr>
              <p:spPr>
                <a:xfrm>
                  <a:off x="566892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01344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6" name=""/>
          <p:cNvSpPr/>
          <p:nvPr/>
        </p:nvSpPr>
        <p:spPr>
          <a:xfrm>
            <a:off x="6248520" y="2133720"/>
            <a:ext cx="431640" cy="142920"/>
          </a:xfrm>
          <a:prstGeom prst="line">
            <a:avLst/>
          </a:prstGeom>
          <a:ln w="3168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132520" y="1785960"/>
            <a:ext cx="1409400" cy="44748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232680" y="2943360"/>
            <a:ext cx="431640" cy="142920"/>
          </a:xfrm>
          <a:prstGeom prst="line">
            <a:avLst/>
          </a:prstGeom>
          <a:ln w="316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153040" y="2440080"/>
            <a:ext cx="1295280" cy="6476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"/>
          <p:cNvGrpSpPr/>
          <p:nvPr/>
        </p:nvGrpSpPr>
        <p:grpSpPr>
          <a:xfrm>
            <a:off x="220680" y="166680"/>
            <a:ext cx="10415160" cy="6411600"/>
            <a:chOff x="220680" y="166680"/>
            <a:chExt cx="10415160" cy="6411600"/>
          </a:xfrm>
        </p:grpSpPr>
        <p:sp>
          <p:nvSpPr>
            <p:cNvPr id="1461" name=""/>
            <p:cNvSpPr/>
            <p:nvPr/>
          </p:nvSpPr>
          <p:spPr>
            <a:xfrm>
              <a:off x="272880" y="166680"/>
              <a:ext cx="9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SCHEMA TEHNOLOGICA LA SFARSITUL ANULUI 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2" name=""/>
            <p:cNvGrpSpPr/>
            <p:nvPr/>
          </p:nvGrpSpPr>
          <p:grpSpPr>
            <a:xfrm>
              <a:off x="220680" y="543960"/>
              <a:ext cx="10415160" cy="6034320"/>
              <a:chOff x="220680" y="543960"/>
              <a:chExt cx="10415160" cy="6034320"/>
            </a:xfrm>
          </p:grpSpPr>
          <p:sp>
            <p:nvSpPr>
              <p:cNvPr id="1463" name=""/>
              <p:cNvSpPr/>
              <p:nvPr/>
            </p:nvSpPr>
            <p:spPr>
              <a:xfrm>
                <a:off x="8193240" y="750960"/>
                <a:ext cx="158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Instalatie de racir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4" name=""/>
              <p:cNvGrpSpPr/>
              <p:nvPr/>
            </p:nvGrpSpPr>
            <p:grpSpPr>
              <a:xfrm>
                <a:off x="220680" y="543960"/>
                <a:ext cx="10415160" cy="6034320"/>
                <a:chOff x="220680" y="543960"/>
                <a:chExt cx="10415160" cy="603432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1204920" y="3359160"/>
                  <a:ext cx="70610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249876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2843280" y="2135160"/>
                  <a:ext cx="0" cy="403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249876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2843280" y="170352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0" name=""/>
                <p:cNvGrpSpPr/>
                <p:nvPr/>
              </p:nvGrpSpPr>
              <p:grpSpPr>
                <a:xfrm>
                  <a:off x="2387520" y="1482840"/>
                  <a:ext cx="216000" cy="215640"/>
                  <a:chOff x="2387520" y="1482840"/>
                  <a:chExt cx="216000" cy="21564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>
                    <a:off x="238752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 flipH="1">
                    <a:off x="243324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253188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4" name=""/>
                <p:cNvGrpSpPr/>
                <p:nvPr/>
              </p:nvGrpSpPr>
              <p:grpSpPr>
                <a:xfrm>
                  <a:off x="2732040" y="1482840"/>
                  <a:ext cx="216000" cy="215640"/>
                  <a:chOff x="2732040" y="1482840"/>
                  <a:chExt cx="216000" cy="215640"/>
                </a:xfrm>
              </p:grpSpPr>
              <p:sp>
                <p:nvSpPr>
                  <p:cNvPr id="1475" name=""/>
                  <p:cNvSpPr/>
                  <p:nvPr/>
                </p:nvSpPr>
                <p:spPr>
                  <a:xfrm>
                    <a:off x="2732040" y="1482840"/>
                    <a:ext cx="216000" cy="2156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 flipH="1">
                    <a:off x="2777760" y="1539720"/>
                    <a:ext cx="2196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2876400" y="1539720"/>
                    <a:ext cx="22320" cy="8568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78" name=""/>
                <p:cNvSpPr/>
                <p:nvPr/>
              </p:nvSpPr>
              <p:spPr>
                <a:xfrm>
                  <a:off x="249876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2843280" y="1320840"/>
                  <a:ext cx="0" cy="1587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0" name=""/>
                <p:cNvGrpSpPr/>
                <p:nvPr/>
              </p:nvGrpSpPr>
              <p:grpSpPr>
                <a:xfrm>
                  <a:off x="3840120" y="1320840"/>
                  <a:ext cx="560520" cy="1217520"/>
                  <a:chOff x="3840120" y="1320840"/>
                  <a:chExt cx="560520" cy="1217520"/>
                </a:xfrm>
              </p:grpSpPr>
              <p:sp>
                <p:nvSpPr>
                  <p:cNvPr id="1481" name=""/>
                  <p:cNvSpPr/>
                  <p:nvPr/>
                </p:nvSpPr>
                <p:spPr>
                  <a:xfrm>
                    <a:off x="384012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395136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418464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429588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395136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429588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7" name=""/>
                  <p:cNvGrpSpPr/>
                  <p:nvPr/>
                </p:nvGrpSpPr>
                <p:grpSpPr>
                  <a:xfrm>
                    <a:off x="3840120" y="1482840"/>
                    <a:ext cx="216000" cy="215640"/>
                    <a:chOff x="3840120" y="1482840"/>
                    <a:chExt cx="216000" cy="215640"/>
                  </a:xfrm>
                </p:grpSpPr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384012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 flipH="1">
                      <a:off x="388584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398448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184640" y="1482840"/>
                    <a:ext cx="216000" cy="215640"/>
                    <a:chOff x="4184640" y="1482840"/>
                    <a:chExt cx="216000" cy="21564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18464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 flipH="1">
                      <a:off x="423036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32900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5" name=""/>
                  <p:cNvSpPr/>
                  <p:nvPr/>
                </p:nvSpPr>
                <p:spPr>
                  <a:xfrm>
                    <a:off x="395136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>
                    <a:off x="429588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7" name=""/>
                <p:cNvGrpSpPr/>
                <p:nvPr/>
              </p:nvGrpSpPr>
              <p:grpSpPr>
                <a:xfrm>
                  <a:off x="5292720" y="2351160"/>
                  <a:ext cx="264960" cy="360360"/>
                  <a:chOff x="5292720" y="2351160"/>
                  <a:chExt cx="264960" cy="36036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529884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 flipH="1">
                    <a:off x="529272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0" name=""/>
                <p:cNvGrpSpPr/>
                <p:nvPr/>
              </p:nvGrpSpPr>
              <p:grpSpPr>
                <a:xfrm>
                  <a:off x="7196040" y="2532240"/>
                  <a:ext cx="531360" cy="805680"/>
                  <a:chOff x="7196040" y="2532240"/>
                  <a:chExt cx="531360" cy="805680"/>
                </a:xfrm>
              </p:grpSpPr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7196040" y="2532240"/>
                    <a:ext cx="531360" cy="414000"/>
                    <a:chOff x="7196040" y="2532240"/>
                    <a:chExt cx="531360" cy="41400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7196040" y="2532240"/>
                      <a:ext cx="531360" cy="414000"/>
                    </a:xfrm>
                    <a:prstGeom prst="rect">
                      <a:avLst/>
                    </a:prstGeom>
                    <a:solidFill>
                      <a:srgbClr val="ffcc99"/>
                    </a:solidFill>
                    <a:ln w="1908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7215120" y="2563560"/>
                      <a:ext cx="495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4" name=""/>
                  <p:cNvGrpSpPr/>
                  <p:nvPr/>
                </p:nvGrpSpPr>
                <p:grpSpPr>
                  <a:xfrm>
                    <a:off x="7261200" y="2944800"/>
                    <a:ext cx="412560" cy="393120"/>
                    <a:chOff x="7261200" y="2944800"/>
                    <a:chExt cx="412560" cy="393120"/>
                  </a:xfrm>
                </p:grpSpPr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7465680" y="2944800"/>
                      <a:ext cx="0" cy="1173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6" name=""/>
                    <p:cNvSpPr/>
                    <p:nvPr/>
                  </p:nvSpPr>
                  <p:spPr>
                    <a:xfrm flipH="1">
                      <a:off x="7264080" y="3052440"/>
                      <a:ext cx="204480" cy="950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7261200" y="3147840"/>
                      <a:ext cx="4125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 flipH="1">
                      <a:off x="7459560" y="3147840"/>
                      <a:ext cx="207360" cy="932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7468920" y="3231720"/>
                      <a:ext cx="0" cy="1062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10" name=""/>
                <p:cNvGrpSpPr/>
                <p:nvPr/>
              </p:nvGrpSpPr>
              <p:grpSpPr>
                <a:xfrm>
                  <a:off x="8007480" y="1789200"/>
                  <a:ext cx="360360" cy="360360"/>
                  <a:chOff x="8007480" y="1789200"/>
                  <a:chExt cx="360360" cy="36036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8080560" y="1862280"/>
                    <a:ext cx="215640" cy="216000"/>
                  </a:xfrm>
                  <a:prstGeom prst="ellipse">
                    <a:avLst/>
                  </a:prstGeom>
                  <a:noFill/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8007480" y="1789200"/>
                    <a:ext cx="360360" cy="360360"/>
                  </a:xfrm>
                  <a:prstGeom prst="ellipse">
                    <a:avLst/>
                  </a:prstGeom>
                  <a:noFill/>
                  <a:ln w="1584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3" name=""/>
                <p:cNvSpPr/>
                <p:nvPr/>
              </p:nvSpPr>
              <p:spPr>
                <a:xfrm>
                  <a:off x="7454880" y="1971720"/>
                  <a:ext cx="4604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445520" y="1943280"/>
                  <a:ext cx="0" cy="576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988920" y="4254480"/>
                  <a:ext cx="727704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917640" y="4791240"/>
                  <a:ext cx="734832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1133640" y="3095640"/>
                  <a:ext cx="720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140 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1147680" y="399888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35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1147680" y="454032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13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988920" y="5797440"/>
                  <a:ext cx="734868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1147680" y="553896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6ba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4302000" y="6446880"/>
                  <a:ext cx="4035600" cy="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988920" y="6446880"/>
                  <a:ext cx="2952720" cy="0"/>
                </a:xfrm>
                <a:prstGeom prst="line">
                  <a:avLst/>
                </a:prstGeom>
                <a:ln w="50760">
                  <a:solidFill>
                    <a:srgbClr val="9933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4" name=""/>
                <p:cNvGrpSpPr/>
                <p:nvPr/>
              </p:nvGrpSpPr>
              <p:grpSpPr>
                <a:xfrm>
                  <a:off x="3944520" y="6308640"/>
                  <a:ext cx="359280" cy="269640"/>
                  <a:chOff x="3944520" y="6308640"/>
                  <a:chExt cx="359280" cy="269640"/>
                </a:xfrm>
              </p:grpSpPr>
              <p:sp>
                <p:nvSpPr>
                  <p:cNvPr id="1525" name=""/>
                  <p:cNvSpPr/>
                  <p:nvPr/>
                </p:nvSpPr>
                <p:spPr>
                  <a:xfrm>
                    <a:off x="3944880" y="6308640"/>
                    <a:ext cx="358920" cy="26964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 flipH="1">
                    <a:off x="3944520" y="6308640"/>
                    <a:ext cx="358920" cy="26496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7" name=""/>
                <p:cNvSpPr/>
                <p:nvPr/>
              </p:nvSpPr>
              <p:spPr>
                <a:xfrm>
                  <a:off x="1147680" y="6159600"/>
                  <a:ext cx="1513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ermoficare urban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85640" y="1957320"/>
                  <a:ext cx="935280" cy="322200"/>
                </a:xfrm>
                <a:prstGeom prst="rect">
                  <a:avLst/>
                </a:prstGeom>
                <a:solidFill>
                  <a:srgbClr val="ffcc99"/>
                </a:solidFill>
                <a:ln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9" name=""/>
                <p:cNvGrpSpPr/>
                <p:nvPr/>
              </p:nvGrpSpPr>
              <p:grpSpPr>
                <a:xfrm>
                  <a:off x="4129200" y="3278160"/>
                  <a:ext cx="891720" cy="3133800"/>
                  <a:chOff x="4129200" y="3278160"/>
                  <a:chExt cx="891720" cy="3133800"/>
                </a:xfrm>
              </p:grpSpPr>
              <p:grpSp>
                <p:nvGrpSpPr>
                  <p:cNvPr id="1530" name=""/>
                  <p:cNvGrpSpPr/>
                  <p:nvPr/>
                </p:nvGrpSpPr>
                <p:grpSpPr>
                  <a:xfrm>
                    <a:off x="4129200" y="3278160"/>
                    <a:ext cx="891720" cy="3133800"/>
                    <a:chOff x="4129200" y="3278160"/>
                    <a:chExt cx="891720" cy="3133800"/>
                  </a:xfrm>
                </p:grpSpPr>
                <p:sp>
                  <p:nvSpPr>
                    <p:cNvPr id="1531" name=""/>
                    <p:cNvSpPr/>
                    <p:nvPr/>
                  </p:nvSpPr>
                  <p:spPr>
                    <a:xfrm flipV="1">
                      <a:off x="4402080" y="3906720"/>
                      <a:ext cx="0" cy="269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32" name=""/>
                    <p:cNvGrpSpPr/>
                    <p:nvPr/>
                  </p:nvGrpSpPr>
                  <p:grpSpPr>
                    <a:xfrm>
                      <a:off x="4129200" y="3278160"/>
                      <a:ext cx="891720" cy="685440"/>
                      <a:chOff x="4129200" y="3278160"/>
                      <a:chExt cx="891720" cy="685440"/>
                    </a:xfrm>
                  </p:grpSpPr>
                  <p:sp>
                    <p:nvSpPr>
                      <p:cNvPr id="1533" name=""/>
                      <p:cNvSpPr/>
                      <p:nvPr/>
                    </p:nvSpPr>
                    <p:spPr>
                      <a:xfrm>
                        <a:off x="4698720" y="3745080"/>
                        <a:ext cx="10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"/>
                      <p:cNvSpPr/>
                      <p:nvPr/>
                    </p:nvSpPr>
                    <p:spPr>
                      <a:xfrm>
                        <a:off x="4814640" y="3652920"/>
                        <a:ext cx="206280" cy="19044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35" name=""/>
                      <p:cNvGrpSpPr/>
                      <p:nvPr/>
                    </p:nvGrpSpPr>
                    <p:grpSpPr>
                      <a:xfrm>
                        <a:off x="4129200" y="3278160"/>
                        <a:ext cx="579600" cy="685440"/>
                        <a:chOff x="4129200" y="3278160"/>
                        <a:chExt cx="579600" cy="685440"/>
                      </a:xfrm>
                    </p:grpSpPr>
                    <p:grpSp>
                      <p:nvGrpSpPr>
                        <p:cNvPr id="1536" name=""/>
                        <p:cNvGrpSpPr/>
                        <p:nvPr/>
                      </p:nvGrpSpPr>
                      <p:grpSpPr>
                        <a:xfrm>
                          <a:off x="4133520" y="3531960"/>
                          <a:ext cx="575280" cy="431640"/>
                          <a:chOff x="4133520" y="3531960"/>
                          <a:chExt cx="575280" cy="431640"/>
                        </a:xfrm>
                      </p:grpSpPr>
                      <p:sp>
                        <p:nvSpPr>
                          <p:cNvPr id="1537" name=""/>
                          <p:cNvSpPr/>
                          <p:nvPr/>
                        </p:nvSpPr>
                        <p:spPr>
                          <a:xfrm flipV="1">
                            <a:off x="4133520" y="3640320"/>
                            <a:ext cx="0" cy="21420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8" name=""/>
                          <p:cNvSpPr/>
                          <p:nvPr/>
                        </p:nvSpPr>
                        <p:spPr>
                          <a:xfrm flipV="1">
                            <a:off x="4133520" y="353196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9" name=""/>
                          <p:cNvSpPr/>
                          <p:nvPr/>
                        </p:nvSpPr>
                        <p:spPr>
                          <a:xfrm>
                            <a:off x="4133520" y="385524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0" name=""/>
                          <p:cNvSpPr/>
                          <p:nvPr/>
                        </p:nvSpPr>
                        <p:spPr>
                          <a:xfrm>
                            <a:off x="4708800" y="3532320"/>
                            <a:ext cx="0" cy="43128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41" name=""/>
                        <p:cNvSpPr/>
                        <p:nvPr/>
                      </p:nvSpPr>
                      <p:spPr>
                        <a:xfrm>
                          <a:off x="4129200" y="3278160"/>
                          <a:ext cx="0" cy="3841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42" name=""/>
                    <p:cNvSpPr/>
                    <p:nvPr/>
                  </p:nvSpPr>
                  <p:spPr>
                    <a:xfrm>
                      <a:off x="4219560" y="3863880"/>
                      <a:ext cx="0" cy="3510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"/>
                    <p:cNvSpPr/>
                    <p:nvPr/>
                  </p:nvSpPr>
                  <p:spPr>
                    <a:xfrm>
                      <a:off x="440208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"/>
                    <p:cNvSpPr/>
                    <p:nvPr/>
                  </p:nvSpPr>
                  <p:spPr>
                    <a:xfrm flipV="1">
                      <a:off x="4711680" y="3925440"/>
                      <a:ext cx="0" cy="2509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5" name=""/>
                    <p:cNvSpPr/>
                    <p:nvPr/>
                  </p:nvSpPr>
                  <p:spPr>
                    <a:xfrm>
                      <a:off x="471168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"/>
                    <p:cNvSpPr/>
                    <p:nvPr/>
                  </p:nvSpPr>
                  <p:spPr>
                    <a:xfrm>
                      <a:off x="4711680" y="5870520"/>
                      <a:ext cx="0" cy="5414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"/>
                    <p:cNvSpPr/>
                    <p:nvPr/>
                  </p:nvSpPr>
                  <p:spPr>
                    <a:xfrm>
                      <a:off x="4711680" y="4862520"/>
                      <a:ext cx="0" cy="863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8" name=""/>
                  <p:cNvSpPr/>
                  <p:nvPr/>
                </p:nvSpPr>
                <p:spPr>
                  <a:xfrm>
                    <a:off x="4167360" y="361008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9" name=""/>
                <p:cNvGrpSpPr/>
                <p:nvPr/>
              </p:nvGrpSpPr>
              <p:grpSpPr>
                <a:xfrm>
                  <a:off x="5842080" y="3278160"/>
                  <a:ext cx="891720" cy="3133800"/>
                  <a:chOff x="5842080" y="3278160"/>
                  <a:chExt cx="891720" cy="3133800"/>
                </a:xfrm>
              </p:grpSpPr>
              <p:grpSp>
                <p:nvGrpSpPr>
                  <p:cNvPr id="1550" name=""/>
                  <p:cNvGrpSpPr/>
                  <p:nvPr/>
                </p:nvGrpSpPr>
                <p:grpSpPr>
                  <a:xfrm>
                    <a:off x="5842080" y="3278160"/>
                    <a:ext cx="891720" cy="3133800"/>
                    <a:chOff x="5842080" y="3278160"/>
                    <a:chExt cx="891720" cy="3133800"/>
                  </a:xfrm>
                </p:grpSpPr>
                <p:sp>
                  <p:nvSpPr>
                    <p:cNvPr id="1551" name=""/>
                    <p:cNvSpPr/>
                    <p:nvPr/>
                  </p:nvSpPr>
                  <p:spPr>
                    <a:xfrm flipV="1">
                      <a:off x="6114960" y="3906720"/>
                      <a:ext cx="0" cy="269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52" name=""/>
                    <p:cNvGrpSpPr/>
                    <p:nvPr/>
                  </p:nvGrpSpPr>
                  <p:grpSpPr>
                    <a:xfrm>
                      <a:off x="5842080" y="3278160"/>
                      <a:ext cx="891720" cy="685440"/>
                      <a:chOff x="5842080" y="3278160"/>
                      <a:chExt cx="891720" cy="685440"/>
                    </a:xfrm>
                  </p:grpSpPr>
                  <p:sp>
                    <p:nvSpPr>
                      <p:cNvPr id="1553" name=""/>
                      <p:cNvSpPr/>
                      <p:nvPr/>
                    </p:nvSpPr>
                    <p:spPr>
                      <a:xfrm>
                        <a:off x="6411600" y="3745080"/>
                        <a:ext cx="10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4" name=""/>
                      <p:cNvSpPr/>
                      <p:nvPr/>
                    </p:nvSpPr>
                    <p:spPr>
                      <a:xfrm>
                        <a:off x="6527520" y="3652920"/>
                        <a:ext cx="206280" cy="190440"/>
                      </a:xfrm>
                      <a:prstGeom prst="ellipse">
                        <a:avLst/>
                      </a:prstGeom>
                      <a:solidFill>
                        <a:srgbClr val="ffcc99"/>
                      </a:solidFill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55" name=""/>
                      <p:cNvGrpSpPr/>
                      <p:nvPr/>
                    </p:nvGrpSpPr>
                    <p:grpSpPr>
                      <a:xfrm>
                        <a:off x="5842080" y="3278160"/>
                        <a:ext cx="579600" cy="685440"/>
                        <a:chOff x="5842080" y="3278160"/>
                        <a:chExt cx="579600" cy="685440"/>
                      </a:xfrm>
                    </p:grpSpPr>
                    <p:grpSp>
                      <p:nvGrpSpPr>
                        <p:cNvPr id="1556" name=""/>
                        <p:cNvGrpSpPr/>
                        <p:nvPr/>
                      </p:nvGrpSpPr>
                      <p:grpSpPr>
                        <a:xfrm>
                          <a:off x="5846400" y="3531960"/>
                          <a:ext cx="575280" cy="431640"/>
                          <a:chOff x="5846400" y="3531960"/>
                          <a:chExt cx="575280" cy="431640"/>
                        </a:xfrm>
                      </p:grpSpPr>
                      <p:sp>
                        <p:nvSpPr>
                          <p:cNvPr id="1557" name=""/>
                          <p:cNvSpPr/>
                          <p:nvPr/>
                        </p:nvSpPr>
                        <p:spPr>
                          <a:xfrm flipV="1">
                            <a:off x="5846400" y="3640320"/>
                            <a:ext cx="0" cy="21420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8" name=""/>
                          <p:cNvSpPr/>
                          <p:nvPr/>
                        </p:nvSpPr>
                        <p:spPr>
                          <a:xfrm flipV="1">
                            <a:off x="5846400" y="353196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9" name=""/>
                          <p:cNvSpPr/>
                          <p:nvPr/>
                        </p:nvSpPr>
                        <p:spPr>
                          <a:xfrm>
                            <a:off x="5846400" y="3855240"/>
                            <a:ext cx="575280" cy="10836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0" name=""/>
                          <p:cNvSpPr/>
                          <p:nvPr/>
                        </p:nvSpPr>
                        <p:spPr>
                          <a:xfrm>
                            <a:off x="6421680" y="3532320"/>
                            <a:ext cx="0" cy="431280"/>
                          </a:xfrm>
                          <a:prstGeom prst="line">
                            <a:avLst/>
                          </a:prstGeom>
                          <a:ln w="1908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61" name=""/>
                        <p:cNvSpPr/>
                        <p:nvPr/>
                      </p:nvSpPr>
                      <p:spPr>
                        <a:xfrm>
                          <a:off x="5842080" y="3278160"/>
                          <a:ext cx="0" cy="3841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562" name=""/>
                    <p:cNvSpPr/>
                    <p:nvPr/>
                  </p:nvSpPr>
                  <p:spPr>
                    <a:xfrm>
                      <a:off x="5932440" y="3863880"/>
                      <a:ext cx="0" cy="3510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"/>
                    <p:cNvSpPr/>
                    <p:nvPr/>
                  </p:nvSpPr>
                  <p:spPr>
                    <a:xfrm>
                      <a:off x="611496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"/>
                    <p:cNvSpPr/>
                    <p:nvPr/>
                  </p:nvSpPr>
                  <p:spPr>
                    <a:xfrm flipV="1">
                      <a:off x="6424560" y="3925440"/>
                      <a:ext cx="0" cy="2509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"/>
                    <p:cNvSpPr/>
                    <p:nvPr/>
                  </p:nvSpPr>
                  <p:spPr>
                    <a:xfrm>
                      <a:off x="6424560" y="4321080"/>
                      <a:ext cx="0" cy="39708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"/>
                    <p:cNvSpPr/>
                    <p:nvPr/>
                  </p:nvSpPr>
                  <p:spPr>
                    <a:xfrm>
                      <a:off x="6424560" y="5870520"/>
                      <a:ext cx="0" cy="5414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7" name=""/>
                    <p:cNvSpPr/>
                    <p:nvPr/>
                  </p:nvSpPr>
                  <p:spPr>
                    <a:xfrm>
                      <a:off x="6424560" y="4862520"/>
                      <a:ext cx="0" cy="86364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8" name=""/>
                  <p:cNvSpPr/>
                  <p:nvPr/>
                </p:nvSpPr>
                <p:spPr>
                  <a:xfrm>
                    <a:off x="5886360" y="361008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9" name=""/>
                <p:cNvSpPr/>
                <p:nvPr/>
              </p:nvSpPr>
              <p:spPr>
                <a:xfrm>
                  <a:off x="220680" y="1652760"/>
                  <a:ext cx="2030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Inchidere ecologica depozi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7920000" y="1557360"/>
                  <a:ext cx="576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Cos 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1" name=""/>
                <p:cNvGrpSpPr/>
                <p:nvPr/>
              </p:nvGrpSpPr>
              <p:grpSpPr>
                <a:xfrm>
                  <a:off x="1494000" y="3332160"/>
                  <a:ext cx="671040" cy="882720"/>
                  <a:chOff x="1494000" y="3332160"/>
                  <a:chExt cx="671040" cy="882720"/>
                </a:xfrm>
              </p:grpSpPr>
              <p:sp>
                <p:nvSpPr>
                  <p:cNvPr id="1572" name=""/>
                  <p:cNvSpPr/>
                  <p:nvPr/>
                </p:nvSpPr>
                <p:spPr>
                  <a:xfrm>
                    <a:off x="1852560" y="374472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1958760" y="3652560"/>
                    <a:ext cx="206280" cy="190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74" name=""/>
                  <p:cNvGrpSpPr/>
                  <p:nvPr/>
                </p:nvGrpSpPr>
                <p:grpSpPr>
                  <a:xfrm>
                    <a:off x="1494000" y="3531600"/>
                    <a:ext cx="364680" cy="432000"/>
                    <a:chOff x="1494000" y="3531600"/>
                    <a:chExt cx="364680" cy="432000"/>
                  </a:xfrm>
                </p:grpSpPr>
                <p:sp>
                  <p:nvSpPr>
                    <p:cNvPr id="1575" name=""/>
                    <p:cNvSpPr/>
                    <p:nvPr/>
                  </p:nvSpPr>
                  <p:spPr>
                    <a:xfrm flipV="1">
                      <a:off x="1494000" y="3639960"/>
                      <a:ext cx="0" cy="2142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6" name=""/>
                    <p:cNvSpPr/>
                    <p:nvPr/>
                  </p:nvSpPr>
                  <p:spPr>
                    <a:xfrm flipV="1">
                      <a:off x="1494000" y="3531600"/>
                      <a:ext cx="364680" cy="108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7" name=""/>
                    <p:cNvSpPr/>
                    <p:nvPr/>
                  </p:nvSpPr>
                  <p:spPr>
                    <a:xfrm>
                      <a:off x="1494000" y="3854880"/>
                      <a:ext cx="364680" cy="108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8" name=""/>
                    <p:cNvSpPr/>
                    <p:nvPr/>
                  </p:nvSpPr>
                  <p:spPr>
                    <a:xfrm>
                      <a:off x="1858680" y="3531960"/>
                      <a:ext cx="0" cy="431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9" name=""/>
                  <p:cNvSpPr/>
                  <p:nvPr/>
                </p:nvSpPr>
                <p:spPr>
                  <a:xfrm>
                    <a:off x="1494000" y="3332160"/>
                    <a:ext cx="0" cy="3301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1860480" y="3863880"/>
                    <a:ext cx="0" cy="3510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1" name=""/>
                <p:cNvSpPr/>
                <p:nvPr/>
              </p:nvSpPr>
              <p:spPr>
                <a:xfrm>
                  <a:off x="143496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8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2" name=""/>
                <p:cNvGrpSpPr/>
                <p:nvPr/>
              </p:nvGrpSpPr>
              <p:grpSpPr>
                <a:xfrm>
                  <a:off x="6789600" y="4805280"/>
                  <a:ext cx="752760" cy="975240"/>
                  <a:chOff x="6789600" y="4805280"/>
                  <a:chExt cx="752760" cy="975240"/>
                </a:xfrm>
              </p:grpSpPr>
              <p:grpSp>
                <p:nvGrpSpPr>
                  <p:cNvPr id="1583" name=""/>
                  <p:cNvGrpSpPr/>
                  <p:nvPr/>
                </p:nvGrpSpPr>
                <p:grpSpPr>
                  <a:xfrm>
                    <a:off x="6870600" y="4805280"/>
                    <a:ext cx="671760" cy="975240"/>
                    <a:chOff x="6870600" y="4805280"/>
                    <a:chExt cx="671760" cy="975240"/>
                  </a:xfrm>
                </p:grpSpPr>
                <p:sp>
                  <p:nvSpPr>
                    <p:cNvPr id="1584" name=""/>
                    <p:cNvSpPr/>
                    <p:nvPr/>
                  </p:nvSpPr>
                  <p:spPr>
                    <a:xfrm>
                      <a:off x="7229520" y="5261400"/>
                      <a:ext cx="10332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5" name=""/>
                    <p:cNvSpPr/>
                    <p:nvPr/>
                  </p:nvSpPr>
                  <p:spPr>
                    <a:xfrm>
                      <a:off x="7335720" y="5159160"/>
                      <a:ext cx="206640" cy="2106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86" name=""/>
                    <p:cNvGrpSpPr/>
                    <p:nvPr/>
                  </p:nvGrpSpPr>
                  <p:grpSpPr>
                    <a:xfrm>
                      <a:off x="6870600" y="5025600"/>
                      <a:ext cx="365040" cy="477360"/>
                      <a:chOff x="6870600" y="5025600"/>
                      <a:chExt cx="365040" cy="477360"/>
                    </a:xfrm>
                  </p:grpSpPr>
                  <p:sp>
                    <p:nvSpPr>
                      <p:cNvPr id="1587" name=""/>
                      <p:cNvSpPr/>
                      <p:nvPr/>
                    </p:nvSpPr>
                    <p:spPr>
                      <a:xfrm flipV="1">
                        <a:off x="6870600" y="5145840"/>
                        <a:ext cx="0" cy="2368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"/>
                      <p:cNvSpPr/>
                      <p:nvPr/>
                    </p:nvSpPr>
                    <p:spPr>
                      <a:xfrm flipV="1">
                        <a:off x="6870600" y="5025600"/>
                        <a:ext cx="365040" cy="1198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"/>
                      <p:cNvSpPr/>
                      <p:nvPr/>
                    </p:nvSpPr>
                    <p:spPr>
                      <a:xfrm>
                        <a:off x="6870600" y="5383080"/>
                        <a:ext cx="365040" cy="1198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"/>
                      <p:cNvSpPr/>
                      <p:nvPr/>
                    </p:nvSpPr>
                    <p:spPr>
                      <a:xfrm>
                        <a:off x="7235640" y="5025960"/>
                        <a:ext cx="0" cy="477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91" name=""/>
                    <p:cNvSpPr/>
                    <p:nvPr/>
                  </p:nvSpPr>
                  <p:spPr>
                    <a:xfrm>
                      <a:off x="6870600" y="4805280"/>
                      <a:ext cx="0" cy="3646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2" name=""/>
                    <p:cNvSpPr/>
                    <p:nvPr/>
                  </p:nvSpPr>
                  <p:spPr>
                    <a:xfrm>
                      <a:off x="7237440" y="5392800"/>
                      <a:ext cx="0" cy="3877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lg" type="stealth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3" name=""/>
                  <p:cNvSpPr/>
                  <p:nvPr/>
                </p:nvSpPr>
                <p:spPr>
                  <a:xfrm>
                    <a:off x="6789600" y="5112360"/>
                    <a:ext cx="50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993300"/>
                        </a:solidFill>
                        <a:latin typeface="Times New Roman"/>
                      </a:rPr>
                      <a:t>TA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4" name=""/>
                <p:cNvSpPr/>
                <p:nvPr/>
              </p:nvSpPr>
              <p:spPr>
                <a:xfrm flipH="1">
                  <a:off x="1193400" y="1301760"/>
                  <a:ext cx="483876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5" name=""/>
                <p:cNvGrpSpPr/>
                <p:nvPr/>
              </p:nvGrpSpPr>
              <p:grpSpPr>
                <a:xfrm>
                  <a:off x="825480" y="1114560"/>
                  <a:ext cx="360360" cy="360360"/>
                  <a:chOff x="825480" y="1114560"/>
                  <a:chExt cx="360360" cy="360360"/>
                </a:xfrm>
              </p:grpSpPr>
              <p:sp>
                <p:nvSpPr>
                  <p:cNvPr id="1596" name=""/>
                  <p:cNvSpPr/>
                  <p:nvPr/>
                </p:nvSpPr>
                <p:spPr>
                  <a:xfrm>
                    <a:off x="898560" y="1187640"/>
                    <a:ext cx="215640" cy="21600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825480" y="1114560"/>
                    <a:ext cx="360360" cy="360360"/>
                  </a:xfrm>
                  <a:prstGeom prst="ellipse">
                    <a:avLst/>
                  </a:prstGeom>
                  <a:noFill/>
                  <a:ln w="1584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8" name=""/>
                <p:cNvSpPr/>
                <p:nvPr/>
              </p:nvSpPr>
              <p:spPr>
                <a:xfrm>
                  <a:off x="415800" y="836640"/>
                  <a:ext cx="10810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Cos repara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485640" y="2413080"/>
                  <a:ext cx="935280" cy="322200"/>
                </a:xfrm>
                <a:prstGeom prst="rect">
                  <a:avLst/>
                </a:prstGeom>
                <a:solidFill>
                  <a:srgbClr val="ccffcc"/>
                </a:solidFill>
                <a:ln w="255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90600" y="2695680"/>
                  <a:ext cx="1682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Depozite noi de cenus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rot="16200000">
                  <a:off x="-357120" y="4645080"/>
                  <a:ext cx="2165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993300"/>
                      </a:solidFill>
                      <a:latin typeface="Times New Roman"/>
                    </a:rPr>
                    <a:t>Consumatorii industriali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239544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2739960" y="1866960"/>
                  <a:ext cx="216000" cy="2714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H="1">
                  <a:off x="1496880" y="2373480"/>
                  <a:ext cx="91296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2398680" y="2532240"/>
                  <a:ext cx="531720" cy="414000"/>
                  <a:chOff x="2398680" y="2532240"/>
                  <a:chExt cx="531720" cy="41400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>
                    <a:off x="2398680" y="2532240"/>
                    <a:ext cx="531720" cy="414000"/>
                  </a:xfrm>
                  <a:prstGeom prst="rect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2414520" y="2563920"/>
                    <a:ext cx="495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8" name=""/>
                <p:cNvGrpSpPr/>
                <p:nvPr/>
              </p:nvGrpSpPr>
              <p:grpSpPr>
                <a:xfrm>
                  <a:off x="2463840" y="2944800"/>
                  <a:ext cx="412560" cy="393840"/>
                  <a:chOff x="2463840" y="2944800"/>
                  <a:chExt cx="412560" cy="393840"/>
                </a:xfrm>
              </p:grpSpPr>
              <p:sp>
                <p:nvSpPr>
                  <p:cNvPr id="1609" name=""/>
                  <p:cNvSpPr/>
                  <p:nvPr/>
                </p:nvSpPr>
                <p:spPr>
                  <a:xfrm>
                    <a:off x="2668320" y="2944800"/>
                    <a:ext cx="0" cy="11772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 flipH="1">
                    <a:off x="2466720" y="3052800"/>
                    <a:ext cx="204480" cy="954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2463840" y="3148200"/>
                    <a:ext cx="4125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 flipH="1">
                    <a:off x="2662200" y="3148200"/>
                    <a:ext cx="207360" cy="936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2671560" y="32320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4" name=""/>
                <p:cNvGrpSpPr/>
                <p:nvPr/>
              </p:nvGrpSpPr>
              <p:grpSpPr>
                <a:xfrm>
                  <a:off x="2124000" y="2351160"/>
                  <a:ext cx="264960" cy="360360"/>
                  <a:chOff x="2124000" y="2351160"/>
                  <a:chExt cx="264960" cy="36036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>
                    <a:off x="2130120" y="2351160"/>
                    <a:ext cx="0" cy="3603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flipH="1">
                    <a:off x="2124000" y="2711520"/>
                    <a:ext cx="264960" cy="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7" name=""/>
                <p:cNvSpPr/>
                <p:nvPr/>
              </p:nvSpPr>
              <p:spPr>
                <a:xfrm flipH="1">
                  <a:off x="2558880" y="2363760"/>
                  <a:ext cx="21600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>
                  <a:off x="2919240" y="2373480"/>
                  <a:ext cx="93528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>
                  <a:off x="3998880" y="2373480"/>
                  <a:ext cx="21600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H="1">
                  <a:off x="4359240" y="2373480"/>
                  <a:ext cx="944640" cy="0"/>
                </a:xfrm>
                <a:prstGeom prst="line">
                  <a:avLst/>
                </a:prstGeom>
                <a:ln w="507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1" name=""/>
                <p:cNvGrpSpPr/>
                <p:nvPr/>
              </p:nvGrpSpPr>
              <p:grpSpPr>
                <a:xfrm>
                  <a:off x="3325680" y="6308640"/>
                  <a:ext cx="258840" cy="258840"/>
                  <a:chOff x="3325680" y="6308640"/>
                  <a:chExt cx="258840" cy="258840"/>
                </a:xfrm>
              </p:grpSpPr>
              <p:sp>
                <p:nvSpPr>
                  <p:cNvPr id="1622" name=""/>
                  <p:cNvSpPr/>
                  <p:nvPr/>
                </p:nvSpPr>
                <p:spPr>
                  <a:xfrm>
                    <a:off x="3325680" y="6308640"/>
                    <a:ext cx="258840" cy="25884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 flipH="1">
                    <a:off x="3373560" y="6439680"/>
                    <a:ext cx="15624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4" name=""/>
                <p:cNvGrpSpPr/>
                <p:nvPr/>
              </p:nvGrpSpPr>
              <p:grpSpPr>
                <a:xfrm>
                  <a:off x="3584520" y="2351160"/>
                  <a:ext cx="806400" cy="987480"/>
                  <a:chOff x="3584520" y="2351160"/>
                  <a:chExt cx="806400" cy="987480"/>
                </a:xfrm>
              </p:grpSpPr>
              <p:grpSp>
                <p:nvGrpSpPr>
                  <p:cNvPr id="1625" name=""/>
                  <p:cNvGrpSpPr/>
                  <p:nvPr/>
                </p:nvGrpSpPr>
                <p:grpSpPr>
                  <a:xfrm>
                    <a:off x="3859200" y="2532240"/>
                    <a:ext cx="531720" cy="414000"/>
                    <a:chOff x="3859200" y="2532240"/>
                    <a:chExt cx="531720" cy="414000"/>
                  </a:xfrm>
                </p:grpSpPr>
                <p:sp>
                  <p:nvSpPr>
                    <p:cNvPr id="1626" name=""/>
                    <p:cNvSpPr/>
                    <p:nvPr/>
                  </p:nvSpPr>
                  <p:spPr>
                    <a:xfrm>
                      <a:off x="3859200" y="2532240"/>
                      <a:ext cx="531720" cy="414000"/>
                    </a:xfrm>
                    <a:prstGeom prst="rect">
                      <a:avLst/>
                    </a:prstGeom>
                    <a:solidFill>
                      <a:srgbClr val="ff7c80"/>
                    </a:solidFill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7" name=""/>
                    <p:cNvSpPr/>
                    <p:nvPr/>
                  </p:nvSpPr>
                  <p:spPr>
                    <a:xfrm>
                      <a:off x="3875040" y="2563920"/>
                      <a:ext cx="495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8" name=""/>
                  <p:cNvGrpSpPr/>
                  <p:nvPr/>
                </p:nvGrpSpPr>
                <p:grpSpPr>
                  <a:xfrm>
                    <a:off x="3924360" y="2944800"/>
                    <a:ext cx="412560" cy="393840"/>
                    <a:chOff x="3924360" y="2944800"/>
                    <a:chExt cx="412560" cy="393840"/>
                  </a:xfrm>
                </p:grpSpPr>
                <p:sp>
                  <p:nvSpPr>
                    <p:cNvPr id="1629" name=""/>
                    <p:cNvSpPr/>
                    <p:nvPr/>
                  </p:nvSpPr>
                  <p:spPr>
                    <a:xfrm>
                      <a:off x="4128840" y="2944800"/>
                      <a:ext cx="0" cy="1177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"/>
                    <p:cNvSpPr/>
                    <p:nvPr/>
                  </p:nvSpPr>
                  <p:spPr>
                    <a:xfrm flipH="1">
                      <a:off x="3927240" y="3052800"/>
                      <a:ext cx="204480" cy="954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"/>
                    <p:cNvSpPr/>
                    <p:nvPr/>
                  </p:nvSpPr>
                  <p:spPr>
                    <a:xfrm>
                      <a:off x="3924360" y="3148200"/>
                      <a:ext cx="4125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2" name=""/>
                    <p:cNvSpPr/>
                    <p:nvPr/>
                  </p:nvSpPr>
                  <p:spPr>
                    <a:xfrm flipH="1">
                      <a:off x="4122720" y="3148200"/>
                      <a:ext cx="207360" cy="936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3" name=""/>
                    <p:cNvSpPr/>
                    <p:nvPr/>
                  </p:nvSpPr>
                  <p:spPr>
                    <a:xfrm>
                      <a:off x="4132080" y="3232080"/>
                      <a:ext cx="0" cy="1065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4" name=""/>
                  <p:cNvGrpSpPr/>
                  <p:nvPr/>
                </p:nvGrpSpPr>
                <p:grpSpPr>
                  <a:xfrm>
                    <a:off x="3584520" y="2351160"/>
                    <a:ext cx="264960" cy="360360"/>
                    <a:chOff x="3584520" y="2351160"/>
                    <a:chExt cx="264960" cy="360360"/>
                  </a:xfrm>
                </p:grpSpPr>
                <p:sp>
                  <p:nvSpPr>
                    <p:cNvPr id="1635" name=""/>
                    <p:cNvSpPr/>
                    <p:nvPr/>
                  </p:nvSpPr>
                  <p:spPr>
                    <a:xfrm>
                      <a:off x="3590640" y="2351160"/>
                      <a:ext cx="0" cy="3603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"/>
                    <p:cNvSpPr/>
                    <p:nvPr/>
                  </p:nvSpPr>
                  <p:spPr>
                    <a:xfrm flipH="1">
                      <a:off x="3584520" y="2711520"/>
                      <a:ext cx="2649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"/>
                <p:cNvSpPr/>
                <p:nvPr/>
              </p:nvSpPr>
              <p:spPr>
                <a:xfrm>
                  <a:off x="698400" y="2009880"/>
                  <a:ext cx="505080" cy="1872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V="1">
                  <a:off x="695160" y="2009880"/>
                  <a:ext cx="505080" cy="187200"/>
                </a:xfrm>
                <a:prstGeom prst="line">
                  <a:avLst/>
                </a:prstGeom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V="1">
                  <a:off x="2932200" y="3906720"/>
                  <a:ext cx="0" cy="27000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0" name=""/>
                <p:cNvGrpSpPr/>
                <p:nvPr/>
              </p:nvGrpSpPr>
              <p:grpSpPr>
                <a:xfrm>
                  <a:off x="2678040" y="3278160"/>
                  <a:ext cx="891720" cy="685440"/>
                  <a:chOff x="2678040" y="3278160"/>
                  <a:chExt cx="891720" cy="685440"/>
                </a:xfrm>
              </p:grpSpPr>
              <p:sp>
                <p:nvSpPr>
                  <p:cNvPr id="1641" name=""/>
                  <p:cNvSpPr/>
                  <p:nvPr/>
                </p:nvSpPr>
                <p:spPr>
                  <a:xfrm>
                    <a:off x="324756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336348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43" name=""/>
                  <p:cNvGrpSpPr/>
                  <p:nvPr/>
                </p:nvGrpSpPr>
                <p:grpSpPr>
                  <a:xfrm>
                    <a:off x="2678040" y="3278160"/>
                    <a:ext cx="579600" cy="685440"/>
                    <a:chOff x="2678040" y="3278160"/>
                    <a:chExt cx="579600" cy="685440"/>
                  </a:xfrm>
                </p:grpSpPr>
                <p:grpSp>
                  <p:nvGrpSpPr>
                    <p:cNvPr id="1644" name=""/>
                    <p:cNvGrpSpPr/>
                    <p:nvPr/>
                  </p:nvGrpSpPr>
                  <p:grpSpPr>
                    <a:xfrm>
                      <a:off x="2682360" y="3531960"/>
                      <a:ext cx="575280" cy="431640"/>
                      <a:chOff x="2682360" y="3531960"/>
                      <a:chExt cx="575280" cy="431640"/>
                    </a:xfrm>
                  </p:grpSpPr>
                  <p:sp>
                    <p:nvSpPr>
                      <p:cNvPr id="1645" name=""/>
                      <p:cNvSpPr/>
                      <p:nvPr/>
                    </p:nvSpPr>
                    <p:spPr>
                      <a:xfrm flipV="1">
                        <a:off x="268236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"/>
                      <p:cNvSpPr/>
                      <p:nvPr/>
                    </p:nvSpPr>
                    <p:spPr>
                      <a:xfrm flipV="1">
                        <a:off x="268236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"/>
                      <p:cNvSpPr/>
                      <p:nvPr/>
                    </p:nvSpPr>
                    <p:spPr>
                      <a:xfrm>
                        <a:off x="268236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8" name=""/>
                      <p:cNvSpPr/>
                      <p:nvPr/>
                    </p:nvSpPr>
                    <p:spPr>
                      <a:xfrm>
                        <a:off x="325764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49" name=""/>
                    <p:cNvSpPr/>
                    <p:nvPr/>
                  </p:nvSpPr>
                  <p:spPr>
                    <a:xfrm>
                      <a:off x="267804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0" name=""/>
                <p:cNvSpPr/>
                <p:nvPr/>
              </p:nvSpPr>
              <p:spPr>
                <a:xfrm>
                  <a:off x="293220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1" name=""/>
                <p:cNvGrpSpPr/>
                <p:nvPr/>
              </p:nvGrpSpPr>
              <p:grpSpPr>
                <a:xfrm>
                  <a:off x="3376440" y="3962520"/>
                  <a:ext cx="496440" cy="187200"/>
                  <a:chOff x="3376440" y="3962520"/>
                  <a:chExt cx="496440" cy="187200"/>
                </a:xfrm>
              </p:grpSpPr>
              <p:sp>
                <p:nvSpPr>
                  <p:cNvPr id="1652" name=""/>
                  <p:cNvSpPr/>
                  <p:nvPr/>
                </p:nvSpPr>
                <p:spPr>
                  <a:xfrm>
                    <a:off x="3376440" y="3962520"/>
                    <a:ext cx="208080" cy="18720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53" name=""/>
                  <p:cNvGrpSpPr/>
                  <p:nvPr/>
                </p:nvGrpSpPr>
                <p:grpSpPr>
                  <a:xfrm>
                    <a:off x="3455640" y="3998880"/>
                    <a:ext cx="417240" cy="117360"/>
                    <a:chOff x="3455640" y="3998880"/>
                    <a:chExt cx="417240" cy="117360"/>
                  </a:xfrm>
                </p:grpSpPr>
                <p:sp>
                  <p:nvSpPr>
                    <p:cNvPr id="1654" name=""/>
                    <p:cNvSpPr/>
                    <p:nvPr/>
                  </p:nvSpPr>
                  <p:spPr>
                    <a:xfrm>
                      <a:off x="3455640" y="3998880"/>
                      <a:ext cx="412920" cy="0"/>
                    </a:xfrm>
                    <a:prstGeom prst="line">
                      <a:avLst/>
                    </a:prstGeom>
                    <a:ln w="93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>
                      <a:off x="3459960" y="4002120"/>
                      <a:ext cx="59760" cy="55080"/>
                    </a:xfrm>
                    <a:prstGeom prst="line">
                      <a:avLst/>
                    </a:prstGeom>
                    <a:ln w="93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"/>
                    <p:cNvSpPr/>
                    <p:nvPr/>
                  </p:nvSpPr>
                  <p:spPr>
                    <a:xfrm flipH="1">
                      <a:off x="3459960" y="4061520"/>
                      <a:ext cx="59760" cy="54720"/>
                    </a:xfrm>
                    <a:prstGeom prst="line">
                      <a:avLst/>
                    </a:prstGeom>
                    <a:ln w="93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"/>
                    <p:cNvSpPr/>
                    <p:nvPr/>
                  </p:nvSpPr>
                  <p:spPr>
                    <a:xfrm>
                      <a:off x="3459960" y="4116240"/>
                      <a:ext cx="412920" cy="0"/>
                    </a:xfrm>
                    <a:prstGeom prst="line">
                      <a:avLst/>
                    </a:prstGeom>
                    <a:ln w="1260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"/>
                <p:cNvSpPr/>
                <p:nvPr/>
              </p:nvSpPr>
              <p:spPr>
                <a:xfrm flipV="1">
                  <a:off x="3260880" y="3951000"/>
                  <a:ext cx="0" cy="1191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3255840" y="4070520"/>
                  <a:ext cx="11916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2735280" y="3610080"/>
                  <a:ext cx="50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993300"/>
                      </a:solidFill>
                      <a:latin typeface="Times New Roman"/>
                    </a:rPr>
                    <a:t>TA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1" name=""/>
                <p:cNvGrpSpPr/>
                <p:nvPr/>
              </p:nvGrpSpPr>
              <p:grpSpPr>
                <a:xfrm>
                  <a:off x="7448040" y="543960"/>
                  <a:ext cx="3187800" cy="1388160"/>
                  <a:chOff x="7448040" y="543960"/>
                  <a:chExt cx="3187800" cy="1388160"/>
                </a:xfrm>
              </p:grpSpPr>
              <p:sp>
                <p:nvSpPr>
                  <p:cNvPr id="1662" name=""/>
                  <p:cNvSpPr/>
                  <p:nvPr/>
                </p:nvSpPr>
                <p:spPr>
                  <a:xfrm flipV="1">
                    <a:off x="7448040" y="543600"/>
                    <a:ext cx="1461240" cy="1388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389" y="3116"/>
                        </a:moveTo>
                        <a:arcTo wR="10800" hR="10800" stAng="-2721549" swAng="3650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389" y="3116"/>
                        </a:moveTo>
                        <a:arcTo wR="10800" hR="10800" stAng="-2721549" swAng="3650365"/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flipH="1" flipV="1">
                    <a:off x="9174240" y="543960"/>
                    <a:ext cx="1461240" cy="1388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389" y="3116"/>
                        </a:moveTo>
                        <a:arcTo wR="10800" hR="10800" stAng="-2721549" swAng="3650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389" y="3116"/>
                        </a:moveTo>
                        <a:arcTo wR="10800" hR="10800" stAng="-2721549" swAng="3650365"/>
                      </a:path>
                    </a:pathLst>
                  </a:custGeom>
                  <a:noFill/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8868960" y="1052640"/>
                    <a:ext cx="34524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8696520" y="1729440"/>
                    <a:ext cx="690120" cy="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6" name=""/>
                <p:cNvGrpSpPr/>
                <p:nvPr/>
              </p:nvGrpSpPr>
              <p:grpSpPr>
                <a:xfrm>
                  <a:off x="5294160" y="2351160"/>
                  <a:ext cx="806400" cy="987480"/>
                  <a:chOff x="5294160" y="2351160"/>
                  <a:chExt cx="806400" cy="987480"/>
                </a:xfrm>
              </p:grpSpPr>
              <p:grpSp>
                <p:nvGrpSpPr>
                  <p:cNvPr id="1667" name=""/>
                  <p:cNvGrpSpPr/>
                  <p:nvPr/>
                </p:nvGrpSpPr>
                <p:grpSpPr>
                  <a:xfrm>
                    <a:off x="5568840" y="2532240"/>
                    <a:ext cx="531720" cy="414000"/>
                    <a:chOff x="5568840" y="2532240"/>
                    <a:chExt cx="531720" cy="414000"/>
                  </a:xfrm>
                </p:grpSpPr>
                <p:sp>
                  <p:nvSpPr>
                    <p:cNvPr id="1668" name=""/>
                    <p:cNvSpPr/>
                    <p:nvPr/>
                  </p:nvSpPr>
                  <p:spPr>
                    <a:xfrm>
                      <a:off x="5568840" y="2532240"/>
                      <a:ext cx="531720" cy="414000"/>
                    </a:xfrm>
                    <a:prstGeom prst="rect">
                      <a:avLst/>
                    </a:prstGeom>
                    <a:solidFill>
                      <a:srgbClr val="ff7c80"/>
                    </a:solidFill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"/>
                    <p:cNvSpPr/>
                    <p:nvPr/>
                  </p:nvSpPr>
                  <p:spPr>
                    <a:xfrm>
                      <a:off x="5584680" y="2563920"/>
                      <a:ext cx="49536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0" name=""/>
                  <p:cNvGrpSpPr/>
                  <p:nvPr/>
                </p:nvGrpSpPr>
                <p:grpSpPr>
                  <a:xfrm>
                    <a:off x="5634000" y="2944800"/>
                    <a:ext cx="412560" cy="393840"/>
                    <a:chOff x="5634000" y="2944800"/>
                    <a:chExt cx="412560" cy="393840"/>
                  </a:xfrm>
                </p:grpSpPr>
                <p:sp>
                  <p:nvSpPr>
                    <p:cNvPr id="1671" name=""/>
                    <p:cNvSpPr/>
                    <p:nvPr/>
                  </p:nvSpPr>
                  <p:spPr>
                    <a:xfrm>
                      <a:off x="5838480" y="2944800"/>
                      <a:ext cx="0" cy="1177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"/>
                    <p:cNvSpPr/>
                    <p:nvPr/>
                  </p:nvSpPr>
                  <p:spPr>
                    <a:xfrm flipH="1">
                      <a:off x="5636880" y="3052800"/>
                      <a:ext cx="204480" cy="954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"/>
                    <p:cNvSpPr/>
                    <p:nvPr/>
                  </p:nvSpPr>
                  <p:spPr>
                    <a:xfrm>
                      <a:off x="5634000" y="3148200"/>
                      <a:ext cx="4125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"/>
                    <p:cNvSpPr/>
                    <p:nvPr/>
                  </p:nvSpPr>
                  <p:spPr>
                    <a:xfrm flipH="1">
                      <a:off x="5832360" y="3148200"/>
                      <a:ext cx="207360" cy="9360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"/>
                    <p:cNvSpPr/>
                    <p:nvPr/>
                  </p:nvSpPr>
                  <p:spPr>
                    <a:xfrm>
                      <a:off x="5841720" y="3232080"/>
                      <a:ext cx="0" cy="1065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6" name=""/>
                  <p:cNvGrpSpPr/>
                  <p:nvPr/>
                </p:nvGrpSpPr>
                <p:grpSpPr>
                  <a:xfrm>
                    <a:off x="5294160" y="2351160"/>
                    <a:ext cx="264960" cy="360360"/>
                    <a:chOff x="5294160" y="2351160"/>
                    <a:chExt cx="264960" cy="360360"/>
                  </a:xfrm>
                </p:grpSpPr>
                <p:sp>
                  <p:nvSpPr>
                    <p:cNvPr id="1677" name=""/>
                    <p:cNvSpPr/>
                    <p:nvPr/>
                  </p:nvSpPr>
                  <p:spPr>
                    <a:xfrm>
                      <a:off x="5300280" y="2351160"/>
                      <a:ext cx="0" cy="36036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"/>
                    <p:cNvSpPr/>
                    <p:nvPr/>
                  </p:nvSpPr>
                  <p:spPr>
                    <a:xfrm flipH="1">
                      <a:off x="5294160" y="2711520"/>
                      <a:ext cx="264960" cy="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79" name=""/>
                <p:cNvGrpSpPr/>
                <p:nvPr/>
              </p:nvGrpSpPr>
              <p:grpSpPr>
                <a:xfrm>
                  <a:off x="5557680" y="1320840"/>
                  <a:ext cx="560520" cy="1217520"/>
                  <a:chOff x="5557680" y="1320840"/>
                  <a:chExt cx="560520" cy="1217520"/>
                </a:xfrm>
              </p:grpSpPr>
              <p:sp>
                <p:nvSpPr>
                  <p:cNvPr id="1680" name=""/>
                  <p:cNvSpPr/>
                  <p:nvPr/>
                </p:nvSpPr>
                <p:spPr>
                  <a:xfrm>
                    <a:off x="555768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566892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5902200" y="1866960"/>
                    <a:ext cx="216000" cy="271440"/>
                  </a:xfrm>
                  <a:prstGeom prst="rect">
                    <a:avLst/>
                  </a:prstGeom>
                  <a:solidFill>
                    <a:srgbClr val="ccffcc"/>
                  </a:solidFill>
                  <a:ln w="19080">
                    <a:solidFill>
                      <a:srgbClr val="00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6013440" y="21351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566892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6013440" y="170352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86" name=""/>
                  <p:cNvGrpSpPr/>
                  <p:nvPr/>
                </p:nvGrpSpPr>
                <p:grpSpPr>
                  <a:xfrm>
                    <a:off x="5557680" y="1482840"/>
                    <a:ext cx="216000" cy="215640"/>
                    <a:chOff x="5557680" y="1482840"/>
                    <a:chExt cx="216000" cy="215640"/>
                  </a:xfrm>
                </p:grpSpPr>
                <p:sp>
                  <p:nvSpPr>
                    <p:cNvPr id="1687" name=""/>
                    <p:cNvSpPr/>
                    <p:nvPr/>
                  </p:nvSpPr>
                  <p:spPr>
                    <a:xfrm>
                      <a:off x="555768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"/>
                    <p:cNvSpPr/>
                    <p:nvPr/>
                  </p:nvSpPr>
                  <p:spPr>
                    <a:xfrm flipH="1">
                      <a:off x="560340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"/>
                    <p:cNvSpPr/>
                    <p:nvPr/>
                  </p:nvSpPr>
                  <p:spPr>
                    <a:xfrm>
                      <a:off x="570204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"/>
                  <p:cNvGrpSpPr/>
                  <p:nvPr/>
                </p:nvGrpSpPr>
                <p:grpSpPr>
                  <a:xfrm>
                    <a:off x="5902200" y="1482840"/>
                    <a:ext cx="216000" cy="215640"/>
                    <a:chOff x="5902200" y="1482840"/>
                    <a:chExt cx="216000" cy="215640"/>
                  </a:xfrm>
                </p:grpSpPr>
                <p:sp>
                  <p:nvSpPr>
                    <p:cNvPr id="1691" name=""/>
                    <p:cNvSpPr/>
                    <p:nvPr/>
                  </p:nvSpPr>
                  <p:spPr>
                    <a:xfrm>
                      <a:off x="5902200" y="1482840"/>
                      <a:ext cx="216000" cy="215640"/>
                    </a:xfrm>
                    <a:prstGeom prst="ellipse">
                      <a:avLst/>
                    </a:prstGeom>
                    <a:solidFill>
                      <a:srgbClr val="ffcc99"/>
                    </a:solidFill>
                    <a:ln w="1584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"/>
                    <p:cNvSpPr/>
                    <p:nvPr/>
                  </p:nvSpPr>
                  <p:spPr>
                    <a:xfrm flipH="1">
                      <a:off x="5947920" y="1539720"/>
                      <a:ext cx="2196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6046560" y="1539720"/>
                      <a:ext cx="22320" cy="8568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94" name=""/>
                  <p:cNvSpPr/>
                  <p:nvPr/>
                </p:nvSpPr>
                <p:spPr>
                  <a:xfrm>
                    <a:off x="566892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6013440" y="1320840"/>
                    <a:ext cx="0" cy="158760"/>
                  </a:xfrm>
                  <a:prstGeom prst="line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6" name=""/>
                <p:cNvSpPr/>
                <p:nvPr/>
              </p:nvSpPr>
              <p:spPr>
                <a:xfrm>
                  <a:off x="1596960" y="1100160"/>
                  <a:ext cx="504720" cy="393840"/>
                </a:xfrm>
                <a:prstGeom prst="rect">
                  <a:avLst/>
                </a:prstGeom>
                <a:solidFill>
                  <a:srgbClr val="ccffcc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1492200" y="817560"/>
                  <a:ext cx="1655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00"/>
                      </a:solidFill>
                      <a:latin typeface="Times New Roman"/>
                    </a:rPr>
                    <a:t>Instalatie desulfur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98" name=""/>
          <p:cNvSpPr/>
          <p:nvPr/>
        </p:nvSpPr>
        <p:spPr>
          <a:xfrm flipH="1" flipV="1">
            <a:off x="272880" y="1196640"/>
            <a:ext cx="432000" cy="144360"/>
          </a:xfrm>
          <a:prstGeom prst="line">
            <a:avLst/>
          </a:prstGeom>
          <a:ln w="3168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31800" y="846000"/>
            <a:ext cx="1800360" cy="792360"/>
          </a:xfrm>
          <a:prstGeom prst="ellipse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"/>
          <p:cNvSpPr/>
          <p:nvPr/>
        </p:nvSpPr>
        <p:spPr>
          <a:xfrm>
            <a:off x="272880" y="166680"/>
            <a:ext cx="95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SCHEMA TEHNOLOGICA LA SFARSITUL ANULUI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220680" y="543960"/>
            <a:ext cx="10415160" cy="6034320"/>
            <a:chOff x="220680" y="543960"/>
            <a:chExt cx="10415160" cy="6034320"/>
          </a:xfrm>
        </p:grpSpPr>
        <p:sp>
          <p:nvSpPr>
            <p:cNvPr id="1702" name=""/>
            <p:cNvSpPr/>
            <p:nvPr/>
          </p:nvSpPr>
          <p:spPr>
            <a:xfrm>
              <a:off x="1204920" y="3359160"/>
              <a:ext cx="706104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498760" y="2135160"/>
              <a:ext cx="0" cy="4032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843280" y="2135160"/>
              <a:ext cx="0" cy="4032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498760" y="170352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843280" y="170352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2387520" y="1482840"/>
              <a:ext cx="216000" cy="215640"/>
              <a:chOff x="2387520" y="1482840"/>
              <a:chExt cx="216000" cy="215640"/>
            </a:xfrm>
          </p:grpSpPr>
          <p:sp>
            <p:nvSpPr>
              <p:cNvPr id="1708" name=""/>
              <p:cNvSpPr/>
              <p:nvPr/>
            </p:nvSpPr>
            <p:spPr>
              <a:xfrm>
                <a:off x="2387520" y="1482840"/>
                <a:ext cx="216000" cy="215640"/>
              </a:xfrm>
              <a:prstGeom prst="ellipse">
                <a:avLst/>
              </a:prstGeom>
              <a:solidFill>
                <a:srgbClr val="ffcc99"/>
              </a:solidFill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2433240" y="1539720"/>
                <a:ext cx="2196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31880" y="1539720"/>
                <a:ext cx="2232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2732040" y="1482840"/>
              <a:ext cx="216000" cy="215640"/>
              <a:chOff x="2732040" y="1482840"/>
              <a:chExt cx="216000" cy="215640"/>
            </a:xfrm>
          </p:grpSpPr>
          <p:sp>
            <p:nvSpPr>
              <p:cNvPr id="1712" name=""/>
              <p:cNvSpPr/>
              <p:nvPr/>
            </p:nvSpPr>
            <p:spPr>
              <a:xfrm>
                <a:off x="2732040" y="1482840"/>
                <a:ext cx="216000" cy="215640"/>
              </a:xfrm>
              <a:prstGeom prst="ellipse">
                <a:avLst/>
              </a:prstGeom>
              <a:solidFill>
                <a:srgbClr val="ffcc99"/>
              </a:solidFill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2777760" y="1539720"/>
                <a:ext cx="2196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876400" y="1539720"/>
                <a:ext cx="22320" cy="8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>
              <a:off x="2498760" y="132084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843280" y="1320840"/>
              <a:ext cx="0" cy="1587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7" name=""/>
            <p:cNvGrpSpPr/>
            <p:nvPr/>
          </p:nvGrpSpPr>
          <p:grpSpPr>
            <a:xfrm>
              <a:off x="3840120" y="1320840"/>
              <a:ext cx="560520" cy="1217520"/>
              <a:chOff x="3840120" y="1320840"/>
              <a:chExt cx="560520" cy="1217520"/>
            </a:xfrm>
          </p:grpSpPr>
          <p:sp>
            <p:nvSpPr>
              <p:cNvPr id="1718" name=""/>
              <p:cNvSpPr/>
              <p:nvPr/>
            </p:nvSpPr>
            <p:spPr>
              <a:xfrm>
                <a:off x="384012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95136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18464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29588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95136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29588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4" name=""/>
              <p:cNvGrpSpPr/>
              <p:nvPr/>
            </p:nvGrpSpPr>
            <p:grpSpPr>
              <a:xfrm>
                <a:off x="3840120" y="1482840"/>
                <a:ext cx="216000" cy="215640"/>
                <a:chOff x="3840120" y="1482840"/>
                <a:chExt cx="216000" cy="215640"/>
              </a:xfrm>
            </p:grpSpPr>
            <p:sp>
              <p:nvSpPr>
                <p:cNvPr id="1725" name=""/>
                <p:cNvSpPr/>
                <p:nvPr/>
              </p:nvSpPr>
              <p:spPr>
                <a:xfrm>
                  <a:off x="384012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H="1">
                  <a:off x="388584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98448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"/>
              <p:cNvGrpSpPr/>
              <p:nvPr/>
            </p:nvGrpSpPr>
            <p:grpSpPr>
              <a:xfrm>
                <a:off x="4184640" y="1482840"/>
                <a:ext cx="216000" cy="215640"/>
                <a:chOff x="4184640" y="1482840"/>
                <a:chExt cx="216000" cy="215640"/>
              </a:xfrm>
            </p:grpSpPr>
            <p:sp>
              <p:nvSpPr>
                <p:cNvPr id="1729" name=""/>
                <p:cNvSpPr/>
                <p:nvPr/>
              </p:nvSpPr>
              <p:spPr>
                <a:xfrm>
                  <a:off x="418464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 flipH="1">
                  <a:off x="423036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432900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2" name=""/>
              <p:cNvSpPr/>
              <p:nvPr/>
            </p:nvSpPr>
            <p:spPr>
              <a:xfrm>
                <a:off x="395136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29588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5292720" y="2351160"/>
              <a:ext cx="264960" cy="360360"/>
              <a:chOff x="5292720" y="2351160"/>
              <a:chExt cx="264960" cy="360360"/>
            </a:xfrm>
          </p:grpSpPr>
          <p:sp>
            <p:nvSpPr>
              <p:cNvPr id="1735" name=""/>
              <p:cNvSpPr/>
              <p:nvPr/>
            </p:nvSpPr>
            <p:spPr>
              <a:xfrm>
                <a:off x="5298840" y="2351160"/>
                <a:ext cx="0" cy="360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5292720" y="2711520"/>
                <a:ext cx="2649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7196040" y="2532240"/>
              <a:ext cx="531360" cy="805680"/>
              <a:chOff x="7196040" y="2532240"/>
              <a:chExt cx="531360" cy="805680"/>
            </a:xfrm>
          </p:grpSpPr>
          <p:grpSp>
            <p:nvGrpSpPr>
              <p:cNvPr id="1738" name=""/>
              <p:cNvGrpSpPr/>
              <p:nvPr/>
            </p:nvGrpSpPr>
            <p:grpSpPr>
              <a:xfrm>
                <a:off x="7196040" y="2532240"/>
                <a:ext cx="531360" cy="414000"/>
                <a:chOff x="7196040" y="2532240"/>
                <a:chExt cx="531360" cy="41400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7196040" y="2532240"/>
                  <a:ext cx="531360" cy="414000"/>
                </a:xfrm>
                <a:prstGeom prst="rect">
                  <a:avLst/>
                </a:prstGeom>
                <a:solidFill>
                  <a:srgbClr val="ffcc99"/>
                </a:solidFill>
                <a:ln w="190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7215120" y="256356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993300"/>
                      </a:solidFill>
                      <a:latin typeface="Times New Roman"/>
                    </a:rPr>
                    <a:t>C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7261200" y="2944800"/>
                <a:ext cx="412560" cy="393120"/>
                <a:chOff x="7261200" y="2944800"/>
                <a:chExt cx="412560" cy="39312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7465680" y="2944800"/>
                  <a:ext cx="0" cy="117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flipH="1">
                  <a:off x="7264080" y="3052440"/>
                  <a:ext cx="204480" cy="950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7261200" y="314784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H="1">
                  <a:off x="7459560" y="3147840"/>
                  <a:ext cx="207360" cy="932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7468920" y="3231720"/>
                  <a:ext cx="0" cy="1062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7" name=""/>
            <p:cNvGrpSpPr/>
            <p:nvPr/>
          </p:nvGrpSpPr>
          <p:grpSpPr>
            <a:xfrm>
              <a:off x="8007480" y="1789200"/>
              <a:ext cx="360360" cy="360360"/>
              <a:chOff x="8007480" y="1789200"/>
              <a:chExt cx="360360" cy="360360"/>
            </a:xfrm>
          </p:grpSpPr>
          <p:sp>
            <p:nvSpPr>
              <p:cNvPr id="1748" name=""/>
              <p:cNvSpPr/>
              <p:nvPr/>
            </p:nvSpPr>
            <p:spPr>
              <a:xfrm>
                <a:off x="8080560" y="1862280"/>
                <a:ext cx="215640" cy="216000"/>
              </a:xfrm>
              <a:prstGeom prst="ellipse">
                <a:avLst/>
              </a:prstGeom>
              <a:noFill/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8007480" y="1789200"/>
                <a:ext cx="360360" cy="360360"/>
              </a:xfrm>
              <a:prstGeom prst="ellipse">
                <a:avLst/>
              </a:prstGeom>
              <a:noFill/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0" name=""/>
            <p:cNvSpPr/>
            <p:nvPr/>
          </p:nvSpPr>
          <p:spPr>
            <a:xfrm>
              <a:off x="7454880" y="1971720"/>
              <a:ext cx="46044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445520" y="1943280"/>
              <a:ext cx="0" cy="5760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988920" y="4254480"/>
              <a:ext cx="727704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917640" y="4791240"/>
              <a:ext cx="734832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133640" y="309564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140 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147680" y="399888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35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147680" y="454032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13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988920" y="5797440"/>
              <a:ext cx="734868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147680" y="55389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6b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02000" y="6446880"/>
              <a:ext cx="403560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988920" y="6446880"/>
              <a:ext cx="295272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1" name=""/>
            <p:cNvGrpSpPr/>
            <p:nvPr/>
          </p:nvGrpSpPr>
          <p:grpSpPr>
            <a:xfrm>
              <a:off x="3944520" y="6308640"/>
              <a:ext cx="359280" cy="269640"/>
              <a:chOff x="3944520" y="6308640"/>
              <a:chExt cx="359280" cy="269640"/>
            </a:xfrm>
          </p:grpSpPr>
          <p:sp>
            <p:nvSpPr>
              <p:cNvPr id="1762" name=""/>
              <p:cNvSpPr/>
              <p:nvPr/>
            </p:nvSpPr>
            <p:spPr>
              <a:xfrm>
                <a:off x="3944880" y="6308640"/>
                <a:ext cx="358920" cy="269640"/>
              </a:xfrm>
              <a:prstGeom prst="rect">
                <a:avLst/>
              </a:prstGeom>
              <a:solidFill>
                <a:srgbClr val="ff7c8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>
                <a:off x="3944520" y="6308640"/>
                <a:ext cx="358920" cy="2649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4" name=""/>
            <p:cNvSpPr/>
            <p:nvPr/>
          </p:nvSpPr>
          <p:spPr>
            <a:xfrm>
              <a:off x="1147680" y="6159600"/>
              <a:ext cx="151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Termoficare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85640" y="1957320"/>
              <a:ext cx="935280" cy="3222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6" name=""/>
            <p:cNvGrpSpPr/>
            <p:nvPr/>
          </p:nvGrpSpPr>
          <p:grpSpPr>
            <a:xfrm>
              <a:off x="4129200" y="3278160"/>
              <a:ext cx="891720" cy="3133800"/>
              <a:chOff x="4129200" y="3278160"/>
              <a:chExt cx="891720" cy="3133800"/>
            </a:xfrm>
          </p:grpSpPr>
          <p:grpSp>
            <p:nvGrpSpPr>
              <p:cNvPr id="1767" name=""/>
              <p:cNvGrpSpPr/>
              <p:nvPr/>
            </p:nvGrpSpPr>
            <p:grpSpPr>
              <a:xfrm>
                <a:off x="4129200" y="3278160"/>
                <a:ext cx="891720" cy="3133800"/>
                <a:chOff x="4129200" y="3278160"/>
                <a:chExt cx="891720" cy="3133800"/>
              </a:xfrm>
            </p:grpSpPr>
            <p:sp>
              <p:nvSpPr>
                <p:cNvPr id="1768" name=""/>
                <p:cNvSpPr/>
                <p:nvPr/>
              </p:nvSpPr>
              <p:spPr>
                <a:xfrm flipV="1">
                  <a:off x="4402080" y="3906720"/>
                  <a:ext cx="0" cy="269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4129200" y="3278160"/>
                  <a:ext cx="891720" cy="685440"/>
                  <a:chOff x="4129200" y="3278160"/>
                  <a:chExt cx="891720" cy="68544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469872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481464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72" name=""/>
                  <p:cNvGrpSpPr/>
                  <p:nvPr/>
                </p:nvGrpSpPr>
                <p:grpSpPr>
                  <a:xfrm>
                    <a:off x="4129200" y="3278160"/>
                    <a:ext cx="579600" cy="685440"/>
                    <a:chOff x="4129200" y="3278160"/>
                    <a:chExt cx="579600" cy="685440"/>
                  </a:xfrm>
                </p:grpSpPr>
                <p:grpSp>
                  <p:nvGrpSpPr>
                    <p:cNvPr id="1773" name=""/>
                    <p:cNvGrpSpPr/>
                    <p:nvPr/>
                  </p:nvGrpSpPr>
                  <p:grpSpPr>
                    <a:xfrm>
                      <a:off x="4133520" y="3531960"/>
                      <a:ext cx="575280" cy="431640"/>
                      <a:chOff x="4133520" y="3531960"/>
                      <a:chExt cx="575280" cy="431640"/>
                    </a:xfrm>
                  </p:grpSpPr>
                  <p:sp>
                    <p:nvSpPr>
                      <p:cNvPr id="1774" name=""/>
                      <p:cNvSpPr/>
                      <p:nvPr/>
                    </p:nvSpPr>
                    <p:spPr>
                      <a:xfrm flipV="1">
                        <a:off x="413352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5" name=""/>
                      <p:cNvSpPr/>
                      <p:nvPr/>
                    </p:nvSpPr>
                    <p:spPr>
                      <a:xfrm flipV="1">
                        <a:off x="413352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6" name=""/>
                      <p:cNvSpPr/>
                      <p:nvPr/>
                    </p:nvSpPr>
                    <p:spPr>
                      <a:xfrm>
                        <a:off x="413352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7" name=""/>
                      <p:cNvSpPr/>
                      <p:nvPr/>
                    </p:nvSpPr>
                    <p:spPr>
                      <a:xfrm>
                        <a:off x="470880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78" name=""/>
                    <p:cNvSpPr/>
                    <p:nvPr/>
                  </p:nvSpPr>
                  <p:spPr>
                    <a:xfrm>
                      <a:off x="412920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79" name=""/>
                <p:cNvSpPr/>
                <p:nvPr/>
              </p:nvSpPr>
              <p:spPr>
                <a:xfrm>
                  <a:off x="421956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440208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 flipV="1">
                  <a:off x="4711680" y="392544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471168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711680" y="587052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4711680" y="486252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5" name=""/>
              <p:cNvSpPr/>
              <p:nvPr/>
            </p:nvSpPr>
            <p:spPr>
              <a:xfrm>
                <a:off x="41673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5842080" y="3278160"/>
              <a:ext cx="891720" cy="3133800"/>
              <a:chOff x="5842080" y="3278160"/>
              <a:chExt cx="891720" cy="3133800"/>
            </a:xfrm>
          </p:grpSpPr>
          <p:grpSp>
            <p:nvGrpSpPr>
              <p:cNvPr id="1787" name=""/>
              <p:cNvGrpSpPr/>
              <p:nvPr/>
            </p:nvGrpSpPr>
            <p:grpSpPr>
              <a:xfrm>
                <a:off x="5842080" y="3278160"/>
                <a:ext cx="891720" cy="3133800"/>
                <a:chOff x="5842080" y="3278160"/>
                <a:chExt cx="891720" cy="3133800"/>
              </a:xfrm>
            </p:grpSpPr>
            <p:sp>
              <p:nvSpPr>
                <p:cNvPr id="1788" name=""/>
                <p:cNvSpPr/>
                <p:nvPr/>
              </p:nvSpPr>
              <p:spPr>
                <a:xfrm flipV="1">
                  <a:off x="6114960" y="3906720"/>
                  <a:ext cx="0" cy="269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9" name=""/>
                <p:cNvGrpSpPr/>
                <p:nvPr/>
              </p:nvGrpSpPr>
              <p:grpSpPr>
                <a:xfrm>
                  <a:off x="5842080" y="3278160"/>
                  <a:ext cx="891720" cy="685440"/>
                  <a:chOff x="5842080" y="3278160"/>
                  <a:chExt cx="891720" cy="685440"/>
                </a:xfrm>
              </p:grpSpPr>
              <p:sp>
                <p:nvSpPr>
                  <p:cNvPr id="1790" name=""/>
                  <p:cNvSpPr/>
                  <p:nvPr/>
                </p:nvSpPr>
                <p:spPr>
                  <a:xfrm>
                    <a:off x="6411600" y="3745080"/>
                    <a:ext cx="10296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6527520" y="3652920"/>
                    <a:ext cx="206280" cy="190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1908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92" name=""/>
                  <p:cNvGrpSpPr/>
                  <p:nvPr/>
                </p:nvGrpSpPr>
                <p:grpSpPr>
                  <a:xfrm>
                    <a:off x="5842080" y="3278160"/>
                    <a:ext cx="579600" cy="685440"/>
                    <a:chOff x="5842080" y="3278160"/>
                    <a:chExt cx="579600" cy="685440"/>
                  </a:xfrm>
                </p:grpSpPr>
                <p:grpSp>
                  <p:nvGrpSpPr>
                    <p:cNvPr id="1793" name=""/>
                    <p:cNvGrpSpPr/>
                    <p:nvPr/>
                  </p:nvGrpSpPr>
                  <p:grpSpPr>
                    <a:xfrm>
                      <a:off x="5846400" y="3531960"/>
                      <a:ext cx="575280" cy="431640"/>
                      <a:chOff x="5846400" y="3531960"/>
                      <a:chExt cx="575280" cy="431640"/>
                    </a:xfrm>
                  </p:grpSpPr>
                  <p:sp>
                    <p:nvSpPr>
                      <p:cNvPr id="1794" name=""/>
                      <p:cNvSpPr/>
                      <p:nvPr/>
                    </p:nvSpPr>
                    <p:spPr>
                      <a:xfrm flipV="1">
                        <a:off x="5846400" y="3640320"/>
                        <a:ext cx="0" cy="21420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"/>
                      <p:cNvSpPr/>
                      <p:nvPr/>
                    </p:nvSpPr>
                    <p:spPr>
                      <a:xfrm flipV="1">
                        <a:off x="5846400" y="353196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"/>
                      <p:cNvSpPr/>
                      <p:nvPr/>
                    </p:nvSpPr>
                    <p:spPr>
                      <a:xfrm>
                        <a:off x="5846400" y="3855240"/>
                        <a:ext cx="575280" cy="10836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7" name=""/>
                      <p:cNvSpPr/>
                      <p:nvPr/>
                    </p:nvSpPr>
                    <p:spPr>
                      <a:xfrm>
                        <a:off x="6421680" y="3532320"/>
                        <a:ext cx="0" cy="431280"/>
                      </a:xfrm>
                      <a:prstGeom prst="line">
                        <a:avLst/>
                      </a:prstGeom>
                      <a:ln w="19080">
                        <a:solidFill>
                          <a:srgbClr val="8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98" name=""/>
                    <p:cNvSpPr/>
                    <p:nvPr/>
                  </p:nvSpPr>
                  <p:spPr>
                    <a:xfrm>
                      <a:off x="5842080" y="3278160"/>
                      <a:ext cx="0" cy="384120"/>
                    </a:xfrm>
                    <a:prstGeom prst="line">
                      <a:avLst/>
                    </a:prstGeom>
                    <a:ln w="1908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99" name=""/>
                <p:cNvSpPr/>
                <p:nvPr/>
              </p:nvSpPr>
              <p:spPr>
                <a:xfrm>
                  <a:off x="5932440" y="3863880"/>
                  <a:ext cx="0" cy="3510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611496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V="1">
                  <a:off x="6424560" y="3925440"/>
                  <a:ext cx="0" cy="2509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6424560" y="4321080"/>
                  <a:ext cx="0" cy="39708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6424560" y="5870520"/>
                  <a:ext cx="0" cy="5414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6424560" y="4862520"/>
                  <a:ext cx="0" cy="863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5886360" y="36100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6" name=""/>
            <p:cNvSpPr/>
            <p:nvPr/>
          </p:nvSpPr>
          <p:spPr>
            <a:xfrm>
              <a:off x="220680" y="1652760"/>
              <a:ext cx="203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Monitorizare depozit 20 a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920000" y="15573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Cos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8" name=""/>
            <p:cNvGrpSpPr/>
            <p:nvPr/>
          </p:nvGrpSpPr>
          <p:grpSpPr>
            <a:xfrm>
              <a:off x="1494000" y="3332160"/>
              <a:ext cx="671040" cy="882720"/>
              <a:chOff x="1494000" y="3332160"/>
              <a:chExt cx="671040" cy="882720"/>
            </a:xfrm>
          </p:grpSpPr>
          <p:sp>
            <p:nvSpPr>
              <p:cNvPr id="1809" name=""/>
              <p:cNvSpPr/>
              <p:nvPr/>
            </p:nvSpPr>
            <p:spPr>
              <a:xfrm>
                <a:off x="1852560" y="3744720"/>
                <a:ext cx="1029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958760" y="3652560"/>
                <a:ext cx="206280" cy="190800"/>
              </a:xfrm>
              <a:prstGeom prst="ellipse">
                <a:avLst/>
              </a:prstGeom>
              <a:solidFill>
                <a:srgbClr val="ff7c8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1" name=""/>
              <p:cNvGrpSpPr/>
              <p:nvPr/>
            </p:nvGrpSpPr>
            <p:grpSpPr>
              <a:xfrm>
                <a:off x="1494000" y="3531600"/>
                <a:ext cx="364680" cy="432000"/>
                <a:chOff x="1494000" y="3531600"/>
                <a:chExt cx="364680" cy="432000"/>
              </a:xfrm>
            </p:grpSpPr>
            <p:sp>
              <p:nvSpPr>
                <p:cNvPr id="1812" name=""/>
                <p:cNvSpPr/>
                <p:nvPr/>
              </p:nvSpPr>
              <p:spPr>
                <a:xfrm flipV="1">
                  <a:off x="1494000" y="3639960"/>
                  <a:ext cx="0" cy="2142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V="1">
                  <a:off x="1494000" y="3531600"/>
                  <a:ext cx="364680" cy="108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494000" y="3854880"/>
                  <a:ext cx="364680" cy="108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858680" y="3531960"/>
                  <a:ext cx="0" cy="431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6" name=""/>
              <p:cNvSpPr/>
              <p:nvPr/>
            </p:nvSpPr>
            <p:spPr>
              <a:xfrm>
                <a:off x="1494000" y="3332160"/>
                <a:ext cx="0" cy="330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860480" y="3863880"/>
                <a:ext cx="0" cy="351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8" name=""/>
            <p:cNvSpPr/>
            <p:nvPr/>
          </p:nvSpPr>
          <p:spPr>
            <a:xfrm>
              <a:off x="1434960" y="3610080"/>
              <a:ext cx="50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TA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9" name=""/>
            <p:cNvGrpSpPr/>
            <p:nvPr/>
          </p:nvGrpSpPr>
          <p:grpSpPr>
            <a:xfrm>
              <a:off x="6789600" y="4805280"/>
              <a:ext cx="752760" cy="975240"/>
              <a:chOff x="6789600" y="4805280"/>
              <a:chExt cx="752760" cy="975240"/>
            </a:xfrm>
          </p:grpSpPr>
          <p:grpSp>
            <p:nvGrpSpPr>
              <p:cNvPr id="1820" name=""/>
              <p:cNvGrpSpPr/>
              <p:nvPr/>
            </p:nvGrpSpPr>
            <p:grpSpPr>
              <a:xfrm>
                <a:off x="6870600" y="4805280"/>
                <a:ext cx="671760" cy="975240"/>
                <a:chOff x="6870600" y="4805280"/>
                <a:chExt cx="671760" cy="97524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7229520" y="5261400"/>
                  <a:ext cx="1033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335720" y="5159160"/>
                  <a:ext cx="206640" cy="210600"/>
                </a:xfrm>
                <a:prstGeom prst="ellipse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3" name=""/>
                <p:cNvGrpSpPr/>
                <p:nvPr/>
              </p:nvGrpSpPr>
              <p:grpSpPr>
                <a:xfrm>
                  <a:off x="6870600" y="5025600"/>
                  <a:ext cx="365040" cy="477360"/>
                  <a:chOff x="6870600" y="5025600"/>
                  <a:chExt cx="365040" cy="477360"/>
                </a:xfrm>
              </p:grpSpPr>
              <p:sp>
                <p:nvSpPr>
                  <p:cNvPr id="1824" name=""/>
                  <p:cNvSpPr/>
                  <p:nvPr/>
                </p:nvSpPr>
                <p:spPr>
                  <a:xfrm flipV="1">
                    <a:off x="6870600" y="5145840"/>
                    <a:ext cx="0" cy="2368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 flipV="1">
                    <a:off x="6870600" y="5025600"/>
                    <a:ext cx="365040" cy="1198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6870600" y="5383080"/>
                    <a:ext cx="365040" cy="1198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7235640" y="5025960"/>
                    <a:ext cx="0" cy="4770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8" name=""/>
                <p:cNvSpPr/>
                <p:nvPr/>
              </p:nvSpPr>
              <p:spPr>
                <a:xfrm>
                  <a:off x="6870600" y="4805280"/>
                  <a:ext cx="0" cy="3646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7237440" y="5392800"/>
                  <a:ext cx="0" cy="3877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0" name=""/>
              <p:cNvSpPr/>
              <p:nvPr/>
            </p:nvSpPr>
            <p:spPr>
              <a:xfrm>
                <a:off x="6789600" y="511236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00"/>
                    </a:solidFill>
                    <a:latin typeface="Times New Roman"/>
                  </a:rPr>
                  <a:t>TA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1" name=""/>
            <p:cNvSpPr/>
            <p:nvPr/>
          </p:nvSpPr>
          <p:spPr>
            <a:xfrm flipH="1">
              <a:off x="1193400" y="1301760"/>
              <a:ext cx="483876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2" name=""/>
            <p:cNvGrpSpPr/>
            <p:nvPr/>
          </p:nvGrpSpPr>
          <p:grpSpPr>
            <a:xfrm>
              <a:off x="825480" y="1114560"/>
              <a:ext cx="360360" cy="360360"/>
              <a:chOff x="825480" y="1114560"/>
              <a:chExt cx="360360" cy="360360"/>
            </a:xfrm>
          </p:grpSpPr>
          <p:sp>
            <p:nvSpPr>
              <p:cNvPr id="1833" name=""/>
              <p:cNvSpPr/>
              <p:nvPr/>
            </p:nvSpPr>
            <p:spPr>
              <a:xfrm>
                <a:off x="898560" y="1187640"/>
                <a:ext cx="215640" cy="216000"/>
              </a:xfrm>
              <a:prstGeom prst="ellipse">
                <a:avLst/>
              </a:prstGeom>
              <a:noFill/>
              <a:ln w="158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25480" y="1114560"/>
                <a:ext cx="360360" cy="360360"/>
              </a:xfrm>
              <a:prstGeom prst="ellipse">
                <a:avLst/>
              </a:prstGeom>
              <a:noFill/>
              <a:ln w="158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5" name=""/>
            <p:cNvSpPr/>
            <p:nvPr/>
          </p:nvSpPr>
          <p:spPr>
            <a:xfrm>
              <a:off x="415800" y="836640"/>
              <a:ext cx="10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Cos repar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85640" y="2413080"/>
              <a:ext cx="935280" cy="3222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90600" y="2695680"/>
              <a:ext cx="168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Depozite noi de cenu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 rot="16200000">
              <a:off x="-357120" y="4645080"/>
              <a:ext cx="216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00"/>
                  </a:solidFill>
                  <a:latin typeface="Times New Roman"/>
                </a:rPr>
                <a:t>Consumatorii industrial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395440" y="1866960"/>
              <a:ext cx="216000" cy="2714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739960" y="1866960"/>
              <a:ext cx="216000" cy="2714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1496880" y="2373480"/>
              <a:ext cx="91296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2" name=""/>
            <p:cNvGrpSpPr/>
            <p:nvPr/>
          </p:nvGrpSpPr>
          <p:grpSpPr>
            <a:xfrm>
              <a:off x="2398680" y="2532240"/>
              <a:ext cx="531720" cy="414000"/>
              <a:chOff x="2398680" y="2532240"/>
              <a:chExt cx="531720" cy="414000"/>
            </a:xfrm>
          </p:grpSpPr>
          <p:sp>
            <p:nvSpPr>
              <p:cNvPr id="1843" name=""/>
              <p:cNvSpPr/>
              <p:nvPr/>
            </p:nvSpPr>
            <p:spPr>
              <a:xfrm>
                <a:off x="2398680" y="2532240"/>
                <a:ext cx="531720" cy="414000"/>
              </a:xfrm>
              <a:prstGeom prst="rect">
                <a:avLst/>
              </a:prstGeom>
              <a:solidFill>
                <a:srgbClr val="ff7c8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414520" y="2563920"/>
                <a:ext cx="49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Times New Roman"/>
                  </a:rPr>
                  <a:t>C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2463840" y="2944800"/>
              <a:ext cx="412560" cy="393840"/>
              <a:chOff x="2463840" y="2944800"/>
              <a:chExt cx="412560" cy="393840"/>
            </a:xfrm>
          </p:grpSpPr>
          <p:sp>
            <p:nvSpPr>
              <p:cNvPr id="1846" name=""/>
              <p:cNvSpPr/>
              <p:nvPr/>
            </p:nvSpPr>
            <p:spPr>
              <a:xfrm>
                <a:off x="2668320" y="2944800"/>
                <a:ext cx="0" cy="117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2466720" y="3052800"/>
                <a:ext cx="204480" cy="954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2463840" y="3148200"/>
                <a:ext cx="4125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2662200" y="3148200"/>
                <a:ext cx="207360" cy="936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671560" y="3232080"/>
                <a:ext cx="0" cy="1065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2124000" y="2351160"/>
              <a:ext cx="264960" cy="360360"/>
              <a:chOff x="2124000" y="2351160"/>
              <a:chExt cx="264960" cy="360360"/>
            </a:xfrm>
          </p:grpSpPr>
          <p:sp>
            <p:nvSpPr>
              <p:cNvPr id="1852" name=""/>
              <p:cNvSpPr/>
              <p:nvPr/>
            </p:nvSpPr>
            <p:spPr>
              <a:xfrm>
                <a:off x="2130120" y="2351160"/>
                <a:ext cx="0" cy="360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>
                <a:off x="2124000" y="2711520"/>
                <a:ext cx="2649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4" name=""/>
            <p:cNvSpPr/>
            <p:nvPr/>
          </p:nvSpPr>
          <p:spPr>
            <a:xfrm flipH="1">
              <a:off x="2558880" y="2363760"/>
              <a:ext cx="21600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2919240" y="2373480"/>
              <a:ext cx="93528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3998880" y="2373480"/>
              <a:ext cx="21600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4359240" y="2373480"/>
              <a:ext cx="944640" cy="0"/>
            </a:xfrm>
            <a:prstGeom prst="line">
              <a:avLst/>
            </a:prstGeom>
            <a:ln w="507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8" name=""/>
            <p:cNvGrpSpPr/>
            <p:nvPr/>
          </p:nvGrpSpPr>
          <p:grpSpPr>
            <a:xfrm>
              <a:off x="3325680" y="6308640"/>
              <a:ext cx="258840" cy="258840"/>
              <a:chOff x="3325680" y="6308640"/>
              <a:chExt cx="258840" cy="258840"/>
            </a:xfrm>
          </p:grpSpPr>
          <p:sp>
            <p:nvSpPr>
              <p:cNvPr id="1859" name=""/>
              <p:cNvSpPr/>
              <p:nvPr/>
            </p:nvSpPr>
            <p:spPr>
              <a:xfrm>
                <a:off x="3325680" y="6308640"/>
                <a:ext cx="258840" cy="258840"/>
              </a:xfrm>
              <a:prstGeom prst="ellipse">
                <a:avLst/>
              </a:prstGeom>
              <a:solidFill>
                <a:srgbClr val="ff7c8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3373560" y="6439680"/>
                <a:ext cx="15624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3584520" y="2351160"/>
              <a:ext cx="806400" cy="987480"/>
              <a:chOff x="3584520" y="2351160"/>
              <a:chExt cx="806400" cy="987480"/>
            </a:xfrm>
          </p:grpSpPr>
          <p:grpSp>
            <p:nvGrpSpPr>
              <p:cNvPr id="1862" name=""/>
              <p:cNvGrpSpPr/>
              <p:nvPr/>
            </p:nvGrpSpPr>
            <p:grpSpPr>
              <a:xfrm>
                <a:off x="3859200" y="2532240"/>
                <a:ext cx="531720" cy="414000"/>
                <a:chOff x="3859200" y="2532240"/>
                <a:chExt cx="531720" cy="41400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385920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387504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5" name=""/>
              <p:cNvGrpSpPr/>
              <p:nvPr/>
            </p:nvGrpSpPr>
            <p:grpSpPr>
              <a:xfrm>
                <a:off x="3924360" y="2944800"/>
                <a:ext cx="412560" cy="393840"/>
                <a:chOff x="3924360" y="2944800"/>
                <a:chExt cx="412560" cy="393840"/>
              </a:xfrm>
            </p:grpSpPr>
            <p:sp>
              <p:nvSpPr>
                <p:cNvPr id="1866" name=""/>
                <p:cNvSpPr/>
                <p:nvPr/>
              </p:nvSpPr>
              <p:spPr>
                <a:xfrm>
                  <a:off x="412884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H="1">
                  <a:off x="392724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392436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flipH="1">
                  <a:off x="412272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413208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1" name=""/>
              <p:cNvGrpSpPr/>
              <p:nvPr/>
            </p:nvGrpSpPr>
            <p:grpSpPr>
              <a:xfrm>
                <a:off x="3584520" y="2351160"/>
                <a:ext cx="264960" cy="360360"/>
                <a:chOff x="3584520" y="2351160"/>
                <a:chExt cx="264960" cy="360360"/>
              </a:xfrm>
            </p:grpSpPr>
            <p:sp>
              <p:nvSpPr>
                <p:cNvPr id="1872" name=""/>
                <p:cNvSpPr/>
                <p:nvPr/>
              </p:nvSpPr>
              <p:spPr>
                <a:xfrm>
                  <a:off x="359064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flipH="1">
                  <a:off x="358452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74" name=""/>
            <p:cNvSpPr/>
            <p:nvPr/>
          </p:nvSpPr>
          <p:spPr>
            <a:xfrm>
              <a:off x="698400" y="2009880"/>
              <a:ext cx="505080" cy="1872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695160" y="2009880"/>
              <a:ext cx="505080" cy="1872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2932200" y="3906720"/>
              <a:ext cx="0" cy="270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7" name=""/>
            <p:cNvGrpSpPr/>
            <p:nvPr/>
          </p:nvGrpSpPr>
          <p:grpSpPr>
            <a:xfrm>
              <a:off x="2678040" y="3278160"/>
              <a:ext cx="891720" cy="685440"/>
              <a:chOff x="2678040" y="3278160"/>
              <a:chExt cx="891720" cy="685440"/>
            </a:xfrm>
          </p:grpSpPr>
          <p:sp>
            <p:nvSpPr>
              <p:cNvPr id="1878" name=""/>
              <p:cNvSpPr/>
              <p:nvPr/>
            </p:nvSpPr>
            <p:spPr>
              <a:xfrm>
                <a:off x="3247560" y="3745080"/>
                <a:ext cx="1029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363480" y="3652920"/>
                <a:ext cx="206280" cy="190440"/>
              </a:xfrm>
              <a:prstGeom prst="ellipse">
                <a:avLst/>
              </a:prstGeom>
              <a:solidFill>
                <a:srgbClr val="ffcc99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0" name=""/>
              <p:cNvGrpSpPr/>
              <p:nvPr/>
            </p:nvGrpSpPr>
            <p:grpSpPr>
              <a:xfrm>
                <a:off x="2678040" y="3278160"/>
                <a:ext cx="579600" cy="685440"/>
                <a:chOff x="2678040" y="3278160"/>
                <a:chExt cx="579600" cy="685440"/>
              </a:xfrm>
            </p:grpSpPr>
            <p:grpSp>
              <p:nvGrpSpPr>
                <p:cNvPr id="1881" name=""/>
                <p:cNvGrpSpPr/>
                <p:nvPr/>
              </p:nvGrpSpPr>
              <p:grpSpPr>
                <a:xfrm>
                  <a:off x="2682360" y="3531960"/>
                  <a:ext cx="575280" cy="431640"/>
                  <a:chOff x="2682360" y="3531960"/>
                  <a:chExt cx="575280" cy="431640"/>
                </a:xfrm>
              </p:grpSpPr>
              <p:sp>
                <p:nvSpPr>
                  <p:cNvPr id="1882" name=""/>
                  <p:cNvSpPr/>
                  <p:nvPr/>
                </p:nvSpPr>
                <p:spPr>
                  <a:xfrm flipV="1">
                    <a:off x="2682360" y="3640320"/>
                    <a:ext cx="0" cy="21420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 flipV="1">
                    <a:off x="2682360" y="3531960"/>
                    <a:ext cx="575280" cy="10836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2682360" y="3855240"/>
                    <a:ext cx="575280" cy="10836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3257640" y="3532320"/>
                    <a:ext cx="0" cy="43128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6" name=""/>
                <p:cNvSpPr/>
                <p:nvPr/>
              </p:nvSpPr>
              <p:spPr>
                <a:xfrm>
                  <a:off x="2678040" y="3278160"/>
                  <a:ext cx="0" cy="38412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>
              <a:off x="2932200" y="4321080"/>
              <a:ext cx="0" cy="397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8" name=""/>
            <p:cNvGrpSpPr/>
            <p:nvPr/>
          </p:nvGrpSpPr>
          <p:grpSpPr>
            <a:xfrm>
              <a:off x="3376440" y="3962520"/>
              <a:ext cx="496440" cy="187200"/>
              <a:chOff x="3376440" y="3962520"/>
              <a:chExt cx="496440" cy="187200"/>
            </a:xfrm>
          </p:grpSpPr>
          <p:sp>
            <p:nvSpPr>
              <p:cNvPr id="1889" name=""/>
              <p:cNvSpPr/>
              <p:nvPr/>
            </p:nvSpPr>
            <p:spPr>
              <a:xfrm>
                <a:off x="3376440" y="3962520"/>
                <a:ext cx="208080" cy="18720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0" name=""/>
              <p:cNvGrpSpPr/>
              <p:nvPr/>
            </p:nvGrpSpPr>
            <p:grpSpPr>
              <a:xfrm>
                <a:off x="3455640" y="3998880"/>
                <a:ext cx="417240" cy="117360"/>
                <a:chOff x="3455640" y="3998880"/>
                <a:chExt cx="417240" cy="1173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455640" y="3998880"/>
                  <a:ext cx="412920" cy="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459960" y="4002120"/>
                  <a:ext cx="59760" cy="5508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 flipH="1">
                  <a:off x="3459960" y="4061520"/>
                  <a:ext cx="59760" cy="54720"/>
                </a:xfrm>
                <a:prstGeom prst="line">
                  <a:avLst/>
                </a:prstGeom>
                <a:ln w="93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3459960" y="4116240"/>
                  <a:ext cx="412920" cy="0"/>
                </a:xfrm>
                <a:prstGeom prst="line">
                  <a:avLst/>
                </a:prstGeom>
                <a:ln w="126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5" name=""/>
            <p:cNvSpPr/>
            <p:nvPr/>
          </p:nvSpPr>
          <p:spPr>
            <a:xfrm flipV="1">
              <a:off x="3260880" y="3951000"/>
              <a:ext cx="0" cy="119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55840" y="4070520"/>
              <a:ext cx="1191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735280" y="3610080"/>
              <a:ext cx="50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00"/>
                  </a:solidFill>
                  <a:latin typeface="Times New Roman"/>
                </a:rPr>
                <a:t>TA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8" name=""/>
            <p:cNvGrpSpPr/>
            <p:nvPr/>
          </p:nvGrpSpPr>
          <p:grpSpPr>
            <a:xfrm>
              <a:off x="7448040" y="543960"/>
              <a:ext cx="3187800" cy="1388160"/>
              <a:chOff x="7448040" y="543960"/>
              <a:chExt cx="3187800" cy="1388160"/>
            </a:xfrm>
          </p:grpSpPr>
          <p:sp>
            <p:nvSpPr>
              <p:cNvPr id="1899" name=""/>
              <p:cNvSpPr/>
              <p:nvPr/>
            </p:nvSpPr>
            <p:spPr>
              <a:xfrm flipV="1">
                <a:off x="7448040" y="543600"/>
                <a:ext cx="1461240" cy="138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389" y="3116"/>
                    </a:moveTo>
                    <a:arcTo wR="10800" hR="10800" stAng="-2721549" swAng="36503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389" y="3116"/>
                    </a:moveTo>
                    <a:arcTo wR="10800" hR="10800" stAng="-2721549" swAng="3650365"/>
                  </a:path>
                </a:pathLst>
              </a:cu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 flipV="1">
                <a:off x="9174240" y="543960"/>
                <a:ext cx="1461240" cy="138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389" y="3116"/>
                    </a:moveTo>
                    <a:arcTo wR="10800" hR="10800" stAng="-2721549" swAng="36503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389" y="3116"/>
                    </a:moveTo>
                    <a:arcTo wR="10800" hR="10800" stAng="-2721549" swAng="3650365"/>
                  </a:path>
                </a:pathLst>
              </a:cu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8868960" y="1052640"/>
                <a:ext cx="34524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8696520" y="1729440"/>
                <a:ext cx="6901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3" name=""/>
            <p:cNvSpPr/>
            <p:nvPr/>
          </p:nvSpPr>
          <p:spPr>
            <a:xfrm>
              <a:off x="8193240" y="750960"/>
              <a:ext cx="158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Instalatie de raci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5294160" y="2351160"/>
              <a:ext cx="806400" cy="987480"/>
              <a:chOff x="5294160" y="2351160"/>
              <a:chExt cx="806400" cy="987480"/>
            </a:xfrm>
          </p:grpSpPr>
          <p:grpSp>
            <p:nvGrpSpPr>
              <p:cNvPr id="1905" name=""/>
              <p:cNvGrpSpPr/>
              <p:nvPr/>
            </p:nvGrpSpPr>
            <p:grpSpPr>
              <a:xfrm>
                <a:off x="5568840" y="2532240"/>
                <a:ext cx="531720" cy="414000"/>
                <a:chOff x="5568840" y="2532240"/>
                <a:chExt cx="531720" cy="41400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5568840" y="2532240"/>
                  <a:ext cx="531720" cy="414000"/>
                </a:xfrm>
                <a:prstGeom prst="rect">
                  <a:avLst/>
                </a:prstGeom>
                <a:solidFill>
                  <a:srgbClr val="ff7c8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5584680" y="2563920"/>
                  <a:ext cx="49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3300"/>
                      </a:solidFill>
                      <a:latin typeface="Times New Roman"/>
                    </a:rPr>
                    <a:t>C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8" name=""/>
              <p:cNvGrpSpPr/>
              <p:nvPr/>
            </p:nvGrpSpPr>
            <p:grpSpPr>
              <a:xfrm>
                <a:off x="5634000" y="2944800"/>
                <a:ext cx="412560" cy="393840"/>
                <a:chOff x="5634000" y="2944800"/>
                <a:chExt cx="412560" cy="393840"/>
              </a:xfrm>
            </p:grpSpPr>
            <p:sp>
              <p:nvSpPr>
                <p:cNvPr id="1909" name=""/>
                <p:cNvSpPr/>
                <p:nvPr/>
              </p:nvSpPr>
              <p:spPr>
                <a:xfrm>
                  <a:off x="5838480" y="2944800"/>
                  <a:ext cx="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 flipH="1">
                  <a:off x="5636880" y="3052800"/>
                  <a:ext cx="204480" cy="954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5634000" y="3148200"/>
                  <a:ext cx="412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flipH="1">
                  <a:off x="5832360" y="3148200"/>
                  <a:ext cx="207360" cy="9360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841720" y="3232080"/>
                  <a:ext cx="0" cy="1065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4" name=""/>
              <p:cNvGrpSpPr/>
              <p:nvPr/>
            </p:nvGrpSpPr>
            <p:grpSpPr>
              <a:xfrm>
                <a:off x="5294160" y="2351160"/>
                <a:ext cx="264960" cy="360360"/>
                <a:chOff x="5294160" y="2351160"/>
                <a:chExt cx="264960" cy="360360"/>
              </a:xfrm>
            </p:grpSpPr>
            <p:sp>
              <p:nvSpPr>
                <p:cNvPr id="1915" name=""/>
                <p:cNvSpPr/>
                <p:nvPr/>
              </p:nvSpPr>
              <p:spPr>
                <a:xfrm>
                  <a:off x="5300280" y="2351160"/>
                  <a:ext cx="0" cy="36036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 flipH="1">
                  <a:off x="5294160" y="2711520"/>
                  <a:ext cx="2649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7" name=""/>
            <p:cNvGrpSpPr/>
            <p:nvPr/>
          </p:nvGrpSpPr>
          <p:grpSpPr>
            <a:xfrm>
              <a:off x="5557680" y="1320840"/>
              <a:ext cx="560520" cy="1217520"/>
              <a:chOff x="5557680" y="1320840"/>
              <a:chExt cx="560520" cy="1217520"/>
            </a:xfrm>
          </p:grpSpPr>
          <p:sp>
            <p:nvSpPr>
              <p:cNvPr id="1918" name=""/>
              <p:cNvSpPr/>
              <p:nvPr/>
            </p:nvSpPr>
            <p:spPr>
              <a:xfrm>
                <a:off x="555768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66892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902200" y="1866960"/>
                <a:ext cx="216000" cy="2714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6013440" y="2135160"/>
                <a:ext cx="0" cy="403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66892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013440" y="170352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4" name=""/>
              <p:cNvGrpSpPr/>
              <p:nvPr/>
            </p:nvGrpSpPr>
            <p:grpSpPr>
              <a:xfrm>
                <a:off x="5557680" y="1482840"/>
                <a:ext cx="216000" cy="215640"/>
                <a:chOff x="5557680" y="1482840"/>
                <a:chExt cx="216000" cy="215640"/>
              </a:xfrm>
            </p:grpSpPr>
            <p:sp>
              <p:nvSpPr>
                <p:cNvPr id="1925" name=""/>
                <p:cNvSpPr/>
                <p:nvPr/>
              </p:nvSpPr>
              <p:spPr>
                <a:xfrm>
                  <a:off x="555768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H="1">
                  <a:off x="560340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570204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5902200" y="1482840"/>
                <a:ext cx="216000" cy="215640"/>
                <a:chOff x="5902200" y="1482840"/>
                <a:chExt cx="216000" cy="21564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5902200" y="1482840"/>
                  <a:ext cx="216000" cy="215640"/>
                </a:xfrm>
                <a:prstGeom prst="ellipse">
                  <a:avLst/>
                </a:prstGeom>
                <a:solidFill>
                  <a:srgbClr val="ffcc99"/>
                </a:solidFill>
                <a:ln w="158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 flipH="1">
                  <a:off x="5947920" y="1539720"/>
                  <a:ext cx="2196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6046560" y="1539720"/>
                  <a:ext cx="22320" cy="856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2" name=""/>
              <p:cNvSpPr/>
              <p:nvPr/>
            </p:nvSpPr>
            <p:spPr>
              <a:xfrm>
                <a:off x="566892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013440" y="1320840"/>
                <a:ext cx="0" cy="158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4" name=""/>
            <p:cNvSpPr/>
            <p:nvPr/>
          </p:nvSpPr>
          <p:spPr>
            <a:xfrm>
              <a:off x="1596960" y="1100160"/>
              <a:ext cx="504720" cy="3938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492200" y="817560"/>
              <a:ext cx="16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Times New Roman"/>
                </a:rPr>
                <a:t>Instalatie desulfur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6" name=""/>
            <p:cNvGrpSpPr/>
            <p:nvPr/>
          </p:nvGrpSpPr>
          <p:grpSpPr>
            <a:xfrm>
              <a:off x="8569440" y="2532240"/>
              <a:ext cx="909000" cy="752400"/>
              <a:chOff x="8569440" y="2532240"/>
              <a:chExt cx="909000" cy="752400"/>
            </a:xfrm>
          </p:grpSpPr>
          <p:sp>
            <p:nvSpPr>
              <p:cNvPr id="1937" name=""/>
              <p:cNvSpPr/>
              <p:nvPr/>
            </p:nvSpPr>
            <p:spPr>
              <a:xfrm>
                <a:off x="8613720" y="2532240"/>
                <a:ext cx="864720" cy="752400"/>
              </a:xfrm>
              <a:prstGeom prst="rect">
                <a:avLst/>
              </a:prstGeom>
              <a:solidFill>
                <a:srgbClr val="ff7c8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8569440" y="2631960"/>
                <a:ext cx="9028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Tratare chimica ap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9" name=""/>
            <p:cNvSpPr/>
            <p:nvPr/>
          </p:nvSpPr>
          <p:spPr>
            <a:xfrm>
              <a:off x="8255160" y="2425680"/>
              <a:ext cx="1511280" cy="9349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905600" y="2641680"/>
              <a:ext cx="432000" cy="1429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2:34:03Z</dcterms:created>
  <dc:creator>Cet_Tehnica</dc:creator>
  <dc:description/>
  <dc:language>en-US</dc:language>
  <cp:lastModifiedBy>Cet_Tehnica</cp:lastModifiedBy>
  <dcterms:modified xsi:type="dcterms:W3CDTF">2006-11-14T13:29:25Z</dcterms:modified>
  <cp:revision>18</cp:revision>
  <dc:subject/>
  <dc:title>Slide 1</dc:title>
</cp:coreProperties>
</file>