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C74B-885A-4280-84F5-764125C34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1F5-9F15-4AD2-A0FC-87556B40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12A-37D6-4D8C-B145-576F5FF8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4B7-C0CF-46EC-9AC9-4056AB225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B62E-8044-47E7-90EA-8188D210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001-506C-4DA7-86CB-5EB668B7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5FDC-9550-4842-9F4F-08E92D8A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2BAC-2494-44B1-B4C3-91BA0295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BC69-09C0-4CB9-8B56-8DBD0009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57E-0816-4DB4-8D13-C63E408C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33A-65A7-47A4-945D-96B40578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558F-9BA0-4326-88F6-A593F913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95D2D2DA-83E1-46B4-82DC-1744D3BABA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0240" y="3113280"/>
            <a:ext cx="1523880" cy="68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strategii, programe, proiecte în domeniul asistenţei sociale şi protecţ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00240" y="396792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0240" y="45014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rou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 / 1 /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0240" y="49586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00240" y="54158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94900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Secretariat Comisie pentru Protecti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46004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i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isitenţă şi sprijin pentru protecţia şi promovarea drepturilor copilului - Birouri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3" idx="2"/>
            <a:endCxn id="65" idx="3"/>
          </p:cNvCxnSpPr>
          <p:nvPr/>
        </p:nvCxnSpPr>
        <p:spPr>
          <a:xfrm rot="5400000">
            <a:off x="5364720" y="3155040"/>
            <a:ext cx="633600" cy="2192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200400" y="5563080"/>
            <a:ext cx="18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5  / 2005 - 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5" idx="2"/>
            <a:endCxn id="74" idx="3"/>
          </p:cNvCxnSpPr>
          <p:nvPr/>
        </p:nvCxnSpPr>
        <p:spPr>
          <a:xfrm flipH="1">
            <a:off x="5715000" y="4552920"/>
            <a:ext cx="124200" cy="1893240"/>
          </a:xfrm>
          <a:prstGeom prst="bentConnector3">
            <a:avLst>
              <a:gd name="adj1" fmla="val -1886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2"/>
            <a:endCxn id="76" idx="3"/>
          </p:cNvCxnSpPr>
          <p:nvPr/>
        </p:nvCxnSpPr>
        <p:spPr>
          <a:xfrm flipH="1">
            <a:off x="5715000" y="4552920"/>
            <a:ext cx="124200" cy="2098080"/>
          </a:xfrm>
          <a:prstGeom prst="bentConnector3">
            <a:avLst>
              <a:gd name="adj1" fmla="val -18866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8 / 1 / 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6" idx="1"/>
            <a:endCxn id="79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6" idx="1"/>
            <a:endCxn id="81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2920" y="662976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66" idx="1"/>
            <a:endCxn id="83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66" idx="1"/>
            <a:endCxn id="84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66" idx="1"/>
            <a:endCxn id="85" idx="1"/>
          </p:cNvCxnSpPr>
          <p:nvPr/>
        </p:nvCxnSpPr>
        <p:spPr>
          <a:xfrm flipH="1" rot="16200000">
            <a:off x="6466680" y="6030000"/>
            <a:ext cx="1202400" cy="191160"/>
          </a:xfrm>
          <a:prstGeom prst="bentConnector4">
            <a:avLst>
              <a:gd name="adj1" fmla="val 46241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01840" y="418068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 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20920" y="5263200"/>
            <a:ext cx="12189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formati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55" idx="3"/>
            <a:endCxn id="89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55" idx="3"/>
            <a:endCxn id="90" idx="3"/>
          </p:cNvCxnSpPr>
          <p:nvPr/>
        </p:nvCxnSpPr>
        <p:spPr>
          <a:xfrm>
            <a:off x="14935320" y="2757240"/>
            <a:ext cx="285840" cy="15814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55" idx="3"/>
            <a:endCxn id="91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4935320" y="2743200"/>
            <a:ext cx="295560" cy="2664720"/>
          </a:xfrm>
          <a:prstGeom prst="bentConnector3">
            <a:avLst>
              <a:gd name="adj1" fmla="val 17756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45 / 1 /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0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37908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2 / 1 / 7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390920" y="7495920"/>
            <a:ext cx="1371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50101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8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5 / 1 /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56768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9 / 1 /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  pentrun copilul cu dizabilit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70675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 11 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 Bistriţ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56 / 1 / 5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77533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Adăpost temporar pentru copilul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0 / 1 /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4046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3276360" y="914400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si violenta im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cc"/>
                </a:solidFill>
                <a:latin typeface="Arial Narrow"/>
              </a:rPr>
              <a:t>( 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familial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8  / 1 37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6172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30 / 1 / 2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81984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23/ 1 / 22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13" name=""/>
          <p:cNvCxnSpPr>
            <a:stCxn id="54" idx="2"/>
            <a:endCxn id="114" idx="3"/>
          </p:cNvCxnSpPr>
          <p:nvPr/>
        </p:nvCxnSpPr>
        <p:spPr>
          <a:xfrm flipH="1" rot="16200000">
            <a:off x="9866160" y="3183840"/>
            <a:ext cx="551520" cy="24336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54" idx="2"/>
            <a:endCxn id="116" idx="3"/>
          </p:cNvCxnSpPr>
          <p:nvPr/>
        </p:nvCxnSpPr>
        <p:spPr>
          <a:xfrm flipH="1" rot="16200000">
            <a:off x="10217160" y="2833200"/>
            <a:ext cx="551520" cy="94500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14" name=""/>
          <p:cNvSpPr/>
          <p:nvPr/>
        </p:nvSpPr>
        <p:spPr>
          <a:xfrm rot="16200000">
            <a:off x="92916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999324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20967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interventie in regim de urgenta in domeniul asistentei sociale a persoanelor adulte -Telefonul Adult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54" idx="2"/>
            <a:endCxn id="120" idx="3"/>
          </p:cNvCxnSpPr>
          <p:nvPr/>
        </p:nvCxnSpPr>
        <p:spPr>
          <a:xfrm flipH="1" rot="16200000">
            <a:off x="11268720" y="1781280"/>
            <a:ext cx="551520" cy="30484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101347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68 / 1 / 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083960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9 / 1 / 1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238256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atrica-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13163400" y="7486560"/>
            <a:ext cx="13716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6 / 1 / 9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25280" y="891576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entrul judeţean de asistenţă sanitară şi famil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725280" y="9075600"/>
            <a:ext cx="25146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Monitorizare, evaluare şi protecţie a persoanelor şi familiilor aflate în dificulta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ineri proveni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 din sistemul rezidenţial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şi familiilor aflate în situaţie de risc soc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rot="16200000">
            <a:off x="10990800" y="5467680"/>
            <a:ext cx="3174120" cy="3210480"/>
          </a:xfrm>
          <a:prstGeom prst="bentConnector3">
            <a:avLst>
              <a:gd name="adj1" fmla="val 38112"/>
            </a:avLst>
          </a:prstGeom>
          <a:ln w="19080">
            <a:solidFill>
              <a:srgbClr val="cc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12725280" y="9598680"/>
            <a:ext cx="228600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rotec</a:t>
            </a:r>
            <a:r>
              <a:rPr b="0" i="1" lang="ro-RO" sz="800" spc="-1" strike="noStrike">
                <a:solidFill>
                  <a:srgbClr val="000000"/>
                </a:solidFill>
                <a:latin typeface="Arial Narrow"/>
              </a:rPr>
              <a:t>ţia persoanelor victime ale violenţei domestice şi a celor aflate în situaţie de Abuz,Neglijenta,Trafic  si Migra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725280" y="9878760"/>
            <a:ext cx="243864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şi centre de z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54" idx="2"/>
            <a:endCxn id="119" idx="3"/>
          </p:cNvCxnSpPr>
          <p:nvPr/>
        </p:nvCxnSpPr>
        <p:spPr>
          <a:xfrm flipH="1" rot="16200000">
            <a:off x="10582920" y="2467080"/>
            <a:ext cx="551520" cy="16768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54" idx="2"/>
            <a:endCxn id="118" idx="3"/>
          </p:cNvCxnSpPr>
          <p:nvPr/>
        </p:nvCxnSpPr>
        <p:spPr>
          <a:xfrm flipH="1" rot="16200000">
            <a:off x="10926000" y="2124360"/>
            <a:ext cx="551520" cy="2362680"/>
          </a:xfrm>
          <a:prstGeom prst="bentConnector3">
            <a:avLst>
              <a:gd name="adj1" fmla="val 51404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19" idx="1"/>
            <a:endCxn id="135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9" idx="1"/>
            <a:endCxn id="136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2573000" y="5825160"/>
            <a:ext cx="1523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8" idx="1"/>
            <a:endCxn id="139" idx="1"/>
          </p:cNvCxnSpPr>
          <p:nvPr/>
        </p:nvCxnSpPr>
        <p:spPr>
          <a:xfrm flipH="1" rot="16200000">
            <a:off x="12278880" y="5627880"/>
            <a:ext cx="397800" cy="19080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 rot="16200000">
            <a:off x="74674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- Telefonul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53" idx="2"/>
            <a:endCxn id="141" idx="3"/>
          </p:cNvCxnSpPr>
          <p:nvPr/>
        </p:nvCxnSpPr>
        <p:spPr>
          <a:xfrm flipH="1" rot="16200000">
            <a:off x="6798600" y="1940400"/>
            <a:ext cx="633600" cy="2648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53" idx="2"/>
            <a:endCxn id="67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53" idx="2"/>
            <a:endCxn id="66" idx="3"/>
          </p:cNvCxnSpPr>
          <p:nvPr/>
        </p:nvCxnSpPr>
        <p:spPr>
          <a:xfrm flipH="1" rot="16200000">
            <a:off x="6064920" y="2673720"/>
            <a:ext cx="633600" cy="11815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1629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243036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47" idx="1"/>
            <a:endCxn id="147" idx="1"/>
          </p:cNvCxnSpPr>
          <p:nvPr/>
        </p:nvCxnSpPr>
        <p:spPr>
          <a:xfrm flipV="1" rot="10800000">
            <a:off x="1218960" y="1939320"/>
            <a:ext cx="6515280" cy="77040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9677520" y="9907920"/>
            <a:ext cx="20574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640728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60958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342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Times New Roman"/>
              </a:rPr>
              <a:t>PIN 1/2005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89535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13 / 1 / 1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124080" y="74674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2  / 2005 -VL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58 / 1 / 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063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22478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rntru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usesti Magla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8 / 1 / 7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820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344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10680" y="6858000"/>
            <a:ext cx="3657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68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028840" y="58672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66688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352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65530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21068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182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827240" y="646560"/>
            <a:ext cx="11516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…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9520" y="10713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parat = 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249520" y="12999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psturi Copii = 6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49520" y="17571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osturi Adulti = 45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249520" y="213192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65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6858000"/>
            <a:ext cx="213336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485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960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1880" y="685800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6200000">
            <a:off x="95248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combatrerea violentei domest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8610480"/>
            <a:ext cx="990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8610480"/>
            <a:ext cx="0" cy="15264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677520" y="10058400"/>
            <a:ext cx="220968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,</a:t>
            </a: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umitru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B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106520" y="55627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106520" y="579132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859000" y="5791320"/>
            <a:ext cx="0" cy="838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4478120" y="662940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8120" y="662940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6200000">
            <a:off x="13830120" y="7505640"/>
            <a:ext cx="13716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terventie in regim de urgenta pt.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1142640" y="6858000"/>
            <a:ext cx="38862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344400" y="1600200"/>
            <a:ext cx="1371600" cy="571680"/>
          </a:xfrm>
          <a:prstGeom prst="rect">
            <a:avLst/>
          </a:prstGeom>
          <a:solidFill>
            <a:srgbClr val="ccccff">
              <a:alpha val="50000"/>
            </a:srgbClr>
          </a:solidFill>
          <a:ln w="1908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Asistenta Medico-sociala Ladesti -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00000"/>
                </a:solidFill>
                <a:latin typeface="Arial Narrow"/>
              </a:rPr>
              <a:t>48 / 1 /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8458200"/>
            <a:ext cx="0" cy="21337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03633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591920"/>
            <a:ext cx="15228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9677160" y="6858000"/>
            <a:ext cx="5331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6775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746748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( 3</a:t>
            </a: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845820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296280" y="1905120"/>
            <a:ext cx="304812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277720" y="1543680"/>
            <a:ext cx="10666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Unitate cu personalitate jurid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277720" y="1951920"/>
            <a:ext cx="9903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Coordonare metodolog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2420720" y="868680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420720" y="8686800"/>
            <a:ext cx="0" cy="1295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420720" y="8991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420720" y="91440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420720" y="96775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20720" y="9982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801600" y="9067680"/>
            <a:ext cx="18288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877920" y="922032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801600" y="9753480"/>
            <a:ext cx="20574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801600" y="10058400"/>
            <a:ext cx="228600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249520" y="152856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MP =               415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10136160"/>
            <a:ext cx="274320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PIN 3 / 2005-VL *-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  =</a:t>
            </a:r>
            <a:r>
              <a:rPr b="1" lang="en-US" sz="800" spc="-1" strike="noStrike">
                <a:solidFill>
                  <a:srgbClr val="3333cc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2705040" y="925848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udor Vladimiresc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imes New Roman"/>
              </a:rPr>
              <a:t>( 12 / 1 / 11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6200000">
            <a:off x="38862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zi de recuperare neuromotorie Rm. Valce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ff"/>
                </a:solidFill>
                <a:latin typeface="Arial Narrow"/>
              </a:rPr>
              <a:t>(13 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62520" y="8534520"/>
            <a:ext cx="6858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85345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6252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Angela</cp:lastModifiedBy>
  <cp:lastPrinted>2006-05-22T11:10:51Z</cp:lastPrinted>
  <dcterms:modified xsi:type="dcterms:W3CDTF">2006-05-24T10:12:27Z</dcterms:modified>
  <cp:revision>94</cp:revision>
  <dc:subject/>
  <dc:title>No Slide Title</dc:title>
</cp:coreProperties>
</file>