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101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F27-6404-424E-81FD-99520FD9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AB1-5231-4A46-9C68-C458F78F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074-176B-4A5B-BAB9-79CE4E7C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462-F88E-412E-B306-3D4F0CF5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D9D-74DC-45BC-9651-B18F7E78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014-15ED-4280-8914-7DA58FBB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0280-6EB8-45C1-B8B1-C8E99DF6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C42-370F-43D0-BA8F-EA030197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CA1-EAF7-4FB4-A1F3-027E53E3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323-F99F-4858-AC94-ED9F43E4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E3A-8F2D-40DC-A81E-13993071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A01-15D0-4625-B4DD-FDC0A23A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F7F76BBC-CB2D-41C9-BE7F-B213F67812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/ 1 / 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4764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12408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0192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01360" y="63216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44600" y="8164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Aparat propriu = 158 (din car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44600" y="11926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DPC (centre plasament copii) = 6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44600" y="159912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AMP = 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20920" y="1852560"/>
            <a:ext cx="1447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861048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1016784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8839080"/>
            <a:ext cx="0" cy="16765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1560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320" y="8839080"/>
            <a:ext cx="381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853452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848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8458200"/>
            <a:ext cx="0" cy="3808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44600" y="140076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DAS (centre ingrijire adulti) = 45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44600" y="1019880"/>
            <a:ext cx="1600200" cy="1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 conducere =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25480" y="628560"/>
            <a:ext cx="838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umar postu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1-17T10:50:46Z</cp:lastPrinted>
  <dcterms:modified xsi:type="dcterms:W3CDTF">2006-01-25T11:48:38Z</dcterms:modified>
  <cp:revision>94</cp:revision>
  <dc:subject/>
  <dc:title>No Slide Title</dc:title>
</cp:coreProperties>
</file>