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101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51E-86C4-4AEC-9B53-7F185190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7ED-C19D-465C-BFE4-0A88CE64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ECA-4C9A-4B54-A100-F14FFB2B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2B8-7C9C-4CF7-A19C-05B028EF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C98-73D7-498C-91F7-86223218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479-A658-4661-B378-3C7AB8D6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8F2-F6AB-466D-A870-377BBCE3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03D-CFAE-42D6-B030-1507E9C7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AD6-530E-4FEF-B189-3B701B5C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09C-F4EF-478C-9682-B0FDB40F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5BC-15D1-4A38-AE29-C015CC76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DE5-4B05-4989-8478-3F452871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F4D0AD50-5661-47BC-ADE7-1564AF15A8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/ 1 / 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4764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12408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0192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01360" y="63216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44600" y="8164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Aparat propriu = 158 (din car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44600" y="11926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DPC (centre plasament copii) = 6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44600" y="159912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AMP = 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20920" y="1852560"/>
            <a:ext cx="1447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861048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1016784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8839080"/>
            <a:ext cx="0" cy="16765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1560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320" y="8839080"/>
            <a:ext cx="381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853452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848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8458200"/>
            <a:ext cx="0" cy="3808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44600" y="140076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DAS (centre ingrijire adulti) = 45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44600" y="1019880"/>
            <a:ext cx="1600200" cy="1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 conducere =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25480" y="628560"/>
            <a:ext cx="838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umar postu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1-17T10:50:46Z</cp:lastPrinted>
  <dcterms:modified xsi:type="dcterms:W3CDTF">2006-01-25T11:48:38Z</dcterms:modified>
  <cp:revision>94</cp:revision>
  <dc:subject/>
  <dc:title>No Slide Title</dc:title>
</cp:coreProperties>
</file>