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69840" y="44280"/>
            <a:ext cx="9739080" cy="6262560"/>
            <a:chOff x="69840" y="44280"/>
            <a:chExt cx="9739080" cy="6262560"/>
          </a:xfrm>
        </p:grpSpPr>
        <p:sp>
          <p:nvSpPr>
            <p:cNvPr id="39" name=""/>
            <p:cNvSpPr/>
            <p:nvPr/>
          </p:nvSpPr>
          <p:spPr>
            <a:xfrm flipV="1">
              <a:off x="500040" y="840600"/>
              <a:ext cx="9299160" cy="3276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01800" y="44280"/>
              <a:ext cx="800280" cy="50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003560" y="122400"/>
              <a:ext cx="597600" cy="4233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" name=""/>
            <p:cNvGrpSpPr/>
            <p:nvPr/>
          </p:nvGrpSpPr>
          <p:grpSpPr>
            <a:xfrm>
              <a:off x="1194840" y="558360"/>
              <a:ext cx="1818000" cy="275760"/>
              <a:chOff x="1194840" y="558360"/>
              <a:chExt cx="1818000" cy="2757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1194840" y="558360"/>
                <a:ext cx="315000" cy="275760"/>
                <a:chOff x="1194840" y="558360"/>
                <a:chExt cx="315000" cy="275760"/>
              </a:xfrm>
            </p:grpSpPr>
            <p:sp>
              <p:nvSpPr>
                <p:cNvPr id="44" name=""/>
                <p:cNvSpPr/>
                <p:nvPr/>
              </p:nvSpPr>
              <p:spPr>
                <a:xfrm flipH="1">
                  <a:off x="1194840" y="558360"/>
                  <a:ext cx="215280" cy="13068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1207800" y="695520"/>
                  <a:ext cx="289440" cy="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flipH="1">
                  <a:off x="1296720" y="702000"/>
                  <a:ext cx="213120" cy="13212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" name=""/>
              <p:cNvSpPr/>
              <p:nvPr/>
            </p:nvSpPr>
            <p:spPr>
              <a:xfrm flipH="1">
                <a:off x="2697480" y="558360"/>
                <a:ext cx="214920" cy="13068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710440" y="695520"/>
                <a:ext cx="2901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>
                <a:off x="2799360" y="702000"/>
                <a:ext cx="213480" cy="13212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4105080" y="558360"/>
              <a:ext cx="3418920" cy="275760"/>
              <a:chOff x="4105080" y="558360"/>
              <a:chExt cx="3418920" cy="275760"/>
            </a:xfrm>
          </p:grpSpPr>
          <p:sp>
            <p:nvSpPr>
              <p:cNvPr id="51" name=""/>
              <p:cNvSpPr/>
              <p:nvPr/>
            </p:nvSpPr>
            <p:spPr>
              <a:xfrm flipH="1">
                <a:off x="4105080" y="558360"/>
                <a:ext cx="212040" cy="13068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118400" y="695520"/>
                <a:ext cx="2865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4202640" y="702000"/>
                <a:ext cx="215280" cy="13212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5609880" y="558360"/>
                <a:ext cx="210240" cy="13068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622840" y="695520"/>
                <a:ext cx="28512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5705280" y="702000"/>
                <a:ext cx="214920" cy="13212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7208640" y="558360"/>
                <a:ext cx="215280" cy="13068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221240" y="695520"/>
                <a:ext cx="2901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7312320" y="702000"/>
                <a:ext cx="211680" cy="13212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3321720" y="1276920"/>
              <a:ext cx="74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15680" y="1209960"/>
              <a:ext cx="214920" cy="182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9280" y="2000520"/>
              <a:ext cx="9170280" cy="0"/>
            </a:xfrm>
            <a:prstGeom prst="line">
              <a:avLst/>
            </a:prstGeom>
            <a:ln w="381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07440" y="1433160"/>
              <a:ext cx="0" cy="55476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09480" y="853560"/>
              <a:ext cx="0" cy="3376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222080" y="1119240"/>
              <a:ext cx="177120" cy="964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09480" y="1216080"/>
              <a:ext cx="0" cy="1202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1800" y="1144440"/>
              <a:ext cx="0" cy="2638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22080" y="1361520"/>
              <a:ext cx="177120" cy="464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424400" y="1119240"/>
              <a:ext cx="272520" cy="964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24400" y="1361520"/>
              <a:ext cx="272520" cy="464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09880" y="1144440"/>
              <a:ext cx="0" cy="2638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2840" y="1276920"/>
              <a:ext cx="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18600" y="1209960"/>
              <a:ext cx="189360" cy="182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02440" y="1398600"/>
              <a:ext cx="9360" cy="58896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51400" y="1248840"/>
              <a:ext cx="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3040" y="1209960"/>
              <a:ext cx="215280" cy="182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14800" y="1433160"/>
              <a:ext cx="0" cy="55476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13240" y="142704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3600" y="1644120"/>
              <a:ext cx="185040" cy="19836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18600" y="1433160"/>
              <a:ext cx="0" cy="55476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32520" y="1276920"/>
              <a:ext cx="74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6840" y="1209960"/>
              <a:ext cx="218160" cy="182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819920" y="142704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24520" y="1644120"/>
              <a:ext cx="191160" cy="19836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35720" y="1203480"/>
              <a:ext cx="556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37960" y="181440"/>
              <a:ext cx="471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37960" y="115920"/>
              <a:ext cx="4716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20 t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40960" y="115920"/>
              <a:ext cx="4716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20 t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75440" y="115920"/>
              <a:ext cx="471600" cy="7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20 t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08800" y="898920"/>
              <a:ext cx="43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A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15040" y="903240"/>
              <a:ext cx="377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A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920880"/>
              <a:ext cx="318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A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23280" y="911520"/>
              <a:ext cx="30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A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7040" y="424080"/>
              <a:ext cx="6631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14ffb"/>
                  </a:solidFill>
                  <a:latin typeface="Times New Roman"/>
                </a:rPr>
                <a:t>Ab Viu 140 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040" y="1999080"/>
              <a:ext cx="1683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2 Colectoare13 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40800" y="1058040"/>
              <a:ext cx="721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ae00"/>
                  </a:solidFill>
                  <a:latin typeface="Times New Roman"/>
                </a:rPr>
                <a:t>DKUL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41920" y="1058040"/>
              <a:ext cx="726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ae00"/>
                  </a:solidFill>
                  <a:latin typeface="Times New Roman"/>
                </a:rPr>
                <a:t>DKUL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48600" y="1058040"/>
              <a:ext cx="642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ae00"/>
                  </a:solidFill>
                  <a:latin typeface="Times New Roman"/>
                </a:rPr>
                <a:t>DSL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2040" y="1058040"/>
              <a:ext cx="5594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ae00"/>
                  </a:solidFill>
                  <a:latin typeface="Times New Roman"/>
                </a:rPr>
                <a:t>DSL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10480" y="2224080"/>
              <a:ext cx="8096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2bar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OLTCH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0120" y="2148840"/>
              <a:ext cx="1145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2bare U.S.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03120" y="2449080"/>
              <a:ext cx="997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UZINA G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36160" y="847440"/>
              <a:ext cx="0" cy="1328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941040" y="992520"/>
              <a:ext cx="293400" cy="1328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54360" y="1131480"/>
              <a:ext cx="3603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046880" y="986400"/>
              <a:ext cx="267480" cy="1007280"/>
              <a:chOff x="1046880" y="986400"/>
              <a:chExt cx="267480" cy="1007280"/>
            </a:xfrm>
          </p:grpSpPr>
          <p:sp>
            <p:nvSpPr>
              <p:cNvPr id="107" name=""/>
              <p:cNvSpPr/>
              <p:nvPr/>
            </p:nvSpPr>
            <p:spPr>
              <a:xfrm>
                <a:off x="1046880" y="986400"/>
                <a:ext cx="1749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046880" y="992520"/>
                <a:ext cx="267480" cy="1328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135800" y="1137960"/>
                <a:ext cx="0" cy="85572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797200" y="2006640"/>
              <a:ext cx="0" cy="132840"/>
            </a:xfrm>
            <a:prstGeom prst="line">
              <a:avLst/>
            </a:prstGeom>
            <a:ln w="1260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11160" y="2145600"/>
              <a:ext cx="17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11160" y="2152080"/>
              <a:ext cx="26928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607120" y="2152080"/>
              <a:ext cx="29016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20440" y="2291040"/>
              <a:ext cx="36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795760" y="2297520"/>
              <a:ext cx="7920" cy="526320"/>
            </a:xfrm>
            <a:prstGeom prst="line">
              <a:avLst/>
            </a:prstGeom>
            <a:ln w="12600">
              <a:solidFill>
                <a:srgbClr val="9234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12040" y="1099080"/>
              <a:ext cx="1683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4ffb"/>
                  </a:solidFill>
                  <a:latin typeface="Times New Roman"/>
                </a:rPr>
                <a:t>2xSRRP-43;108Gcal/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4400" y="2056680"/>
              <a:ext cx="4334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9234db"/>
                  </a:solidFill>
                  <a:latin typeface="Times New Roman"/>
                </a:rPr>
                <a:t>2xS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9234db"/>
                  </a:solidFill>
                  <a:latin typeface="Times New Roman"/>
                </a:rPr>
                <a:t>14/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9234db"/>
                  </a:solidFill>
                  <a:latin typeface="Times New Roman"/>
                </a:rPr>
                <a:t>10Gcal/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26800" y="122400"/>
              <a:ext cx="597240" cy="4233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54560" y="122400"/>
              <a:ext cx="596160" cy="4233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08920" y="122400"/>
              <a:ext cx="595800" cy="4233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9280" y="2839320"/>
              <a:ext cx="9068400" cy="0"/>
            </a:xfrm>
            <a:prstGeom prst="line">
              <a:avLst/>
            </a:prstGeom>
            <a:ln w="38160">
              <a:solidFill>
                <a:srgbClr val="9234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" y="2598840"/>
              <a:ext cx="1833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234db"/>
                  </a:solidFill>
                  <a:latin typeface="Times New Roman"/>
                </a:rPr>
                <a:t>2 Colectoare 6 bar De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881280" y="2925720"/>
              <a:ext cx="581040" cy="383400"/>
              <a:chOff x="881280" y="2925720"/>
              <a:chExt cx="581040" cy="383400"/>
            </a:xfrm>
          </p:grpSpPr>
          <p:sp>
            <p:nvSpPr>
              <p:cNvPr id="124" name=""/>
              <p:cNvSpPr/>
              <p:nvPr/>
            </p:nvSpPr>
            <p:spPr>
              <a:xfrm>
                <a:off x="1326960" y="3156480"/>
                <a:ext cx="7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1280" y="3003480"/>
                <a:ext cx="29952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234db"/>
                    </a:solidFill>
                    <a:latin typeface="Times New Roman"/>
                  </a:rPr>
                  <a:t>6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1129680" y="2925720"/>
                <a:ext cx="158040" cy="148320"/>
                <a:chOff x="1129680" y="2925720"/>
                <a:chExt cx="158040" cy="1483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130040" y="2925720"/>
                  <a:ext cx="157680" cy="14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88" y="2"/>
                      </a:moveTo>
                      <a:arcTo wR="10800" hR="10800" stAng="-5467356" swAng="53942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88" y="2"/>
                      </a:moveTo>
                      <a:arcTo wR="10800" hR="10800" stAng="-5467356" swAng="5394270"/>
                    </a:path>
                  </a:pathLst>
                </a:custGeom>
                <a:solidFill>
                  <a:srgbClr val="00ae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129680" y="2926800"/>
                  <a:ext cx="15804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" y="10575"/>
                      </a:moveTo>
                      <a:arcTo wR="10800" hR="10800" stAng="-10728346" swAng="52609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" y="10575"/>
                      </a:moveTo>
                      <a:arcTo wR="10800" hR="10800" stAng="-10728346" swAng="5260990"/>
                    </a:path>
                  </a:pathLst>
                </a:custGeom>
                <a:solidFill>
                  <a:srgbClr val="00ae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1119960" y="3005280"/>
                <a:ext cx="0" cy="14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52560" y="3162600"/>
                <a:ext cx="509760" cy="146520"/>
              </a:xfrm>
              <a:prstGeom prst="octagon">
                <a:avLst>
                  <a:gd name="adj" fmla="val 29282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293840" y="3005280"/>
                <a:ext cx="0" cy="14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299960" y="3078360"/>
                <a:ext cx="16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1469160" y="2845800"/>
              <a:ext cx="0" cy="22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079200" y="5252040"/>
              <a:ext cx="6436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35b1b"/>
                  </a:solidFill>
                  <a:latin typeface="Times New Roman"/>
                </a:rPr>
                <a:t>2bar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35b1b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f35b1b"/>
                  </a:solidFill>
                  <a:latin typeface="Times New Roman"/>
                </a:rPr>
                <a:t>OLTCHIM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39480" y="853560"/>
              <a:ext cx="0" cy="3376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752440" y="1119240"/>
              <a:ext cx="176760" cy="964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39480" y="1216080"/>
              <a:ext cx="0" cy="1202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41800" y="1144440"/>
              <a:ext cx="0" cy="2638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52440" y="1361520"/>
              <a:ext cx="176760" cy="464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955120" y="1119240"/>
              <a:ext cx="272520" cy="964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55120" y="1361520"/>
              <a:ext cx="272520" cy="464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40240" y="1144440"/>
              <a:ext cx="0" cy="2638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46160" y="853560"/>
              <a:ext cx="0" cy="3376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359480" y="1119240"/>
              <a:ext cx="176760" cy="964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6160" y="1216080"/>
              <a:ext cx="0" cy="1202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8840" y="1144440"/>
              <a:ext cx="0" cy="2638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9480" y="1361520"/>
              <a:ext cx="176760" cy="464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561800" y="1119240"/>
              <a:ext cx="272520" cy="964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61800" y="1361520"/>
              <a:ext cx="272520" cy="464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46920" y="1144440"/>
              <a:ext cx="0" cy="2638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75400" y="170640"/>
              <a:ext cx="359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04320" y="170640"/>
              <a:ext cx="359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18720" y="170640"/>
              <a:ext cx="359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57600" y="122400"/>
              <a:ext cx="597600" cy="4233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81320" y="170640"/>
              <a:ext cx="359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35360" y="170640"/>
              <a:ext cx="359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62520" y="948600"/>
              <a:ext cx="4694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14ffb"/>
                  </a:solidFill>
                  <a:latin typeface="Times New Roman"/>
                </a:rPr>
                <a:t>140/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32120" y="853560"/>
              <a:ext cx="0" cy="3376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844720" y="1119240"/>
              <a:ext cx="177120" cy="964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32120" y="1216080"/>
              <a:ext cx="0" cy="1202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34440" y="1144440"/>
              <a:ext cx="0" cy="2638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44720" y="1361520"/>
              <a:ext cx="177120" cy="464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047040" y="1119240"/>
              <a:ext cx="272520" cy="964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7040" y="1361520"/>
              <a:ext cx="272520" cy="464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2880" y="1144440"/>
              <a:ext cx="0" cy="2638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31080" y="1411560"/>
              <a:ext cx="0" cy="222480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08080" y="1411560"/>
              <a:ext cx="0" cy="222480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85440" y="1411560"/>
              <a:ext cx="0" cy="222480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92120" y="1411560"/>
              <a:ext cx="0" cy="222480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25760" y="2004840"/>
              <a:ext cx="0" cy="3512520"/>
            </a:xfrm>
            <a:prstGeom prst="line">
              <a:avLst/>
            </a:prstGeom>
            <a:ln w="1260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72760" y="2004840"/>
              <a:ext cx="0" cy="3212640"/>
            </a:xfrm>
            <a:prstGeom prst="line">
              <a:avLst/>
            </a:prstGeom>
            <a:ln w="1260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06760" y="20664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CR 124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420 t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3640" y="199080"/>
              <a:ext cx="6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C4 Vulc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420 t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91040" y="199080"/>
              <a:ext cx="6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C4 Vulc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420 t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53320" y="19908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CR 124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420 t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31040" y="19908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CR 124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420 t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653040" y="874080"/>
              <a:ext cx="321120" cy="748800"/>
              <a:chOff x="653040" y="874080"/>
              <a:chExt cx="321120" cy="74880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653040" y="1154880"/>
                <a:ext cx="321120" cy="206280"/>
                <a:chOff x="653040" y="1154880"/>
                <a:chExt cx="321120" cy="2062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4120" y="1154880"/>
                  <a:ext cx="230040" cy="206280"/>
                </a:xfrm>
                <a:prstGeom prst="line">
                  <a:avLst/>
                </a:prstGeom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653040" y="1154880"/>
                  <a:ext cx="254160" cy="206280"/>
                </a:xfrm>
                <a:prstGeom prst="line">
                  <a:avLst/>
                </a:prstGeom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653040" y="1342080"/>
                <a:ext cx="30564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29360" y="1154880"/>
                <a:ext cx="15264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806040" y="1342080"/>
                <a:ext cx="0" cy="28080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806040" y="874080"/>
                <a:ext cx="0" cy="28080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188720" y="1248840"/>
              <a:ext cx="1683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4ffb"/>
                  </a:solidFill>
                  <a:latin typeface="Times New Roman"/>
                </a:rPr>
                <a:t>3xSRRR-180Gcal/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8920" y="874080"/>
              <a:ext cx="456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14ffb"/>
                  </a:solidFill>
                  <a:latin typeface="Times New Roman"/>
                </a:rPr>
                <a:t>1xSR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14ffb"/>
                  </a:solidFill>
                  <a:latin typeface="Times New Roman"/>
                </a:rPr>
                <a:t>140/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14ffb"/>
                  </a:solidFill>
                  <a:latin typeface="Times New Roman"/>
                </a:rPr>
                <a:t>36.5Gcal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0040" y="1623600"/>
              <a:ext cx="7421400" cy="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1800" y="1623600"/>
              <a:ext cx="1224000" cy="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4040" y="1473840"/>
              <a:ext cx="306000" cy="2998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94040" y="1473840"/>
              <a:ext cx="38232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840" y="1811520"/>
              <a:ext cx="65664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4ffb"/>
                  </a:solidFill>
                  <a:latin typeface="Times New Roman"/>
                </a:rPr>
                <a:t>2bare 35 b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4ffb"/>
                  </a:solidFill>
                  <a:latin typeface="Times New Roman"/>
                </a:rPr>
                <a:t>US Govo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146160" y="1473840"/>
              <a:ext cx="306000" cy="2998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9146160" y="1473840"/>
              <a:ext cx="30600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998560" y="1139400"/>
              <a:ext cx="75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4ffb"/>
                  </a:solidFill>
                  <a:latin typeface="Times New Roman"/>
                </a:rPr>
                <a:t>35 b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4ffb"/>
                  </a:solidFill>
                  <a:latin typeface="Times New Roman"/>
                </a:rPr>
                <a:t>OLTCH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747640" y="3131640"/>
              <a:ext cx="183240" cy="2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9375480" y="1999080"/>
              <a:ext cx="305640" cy="674640"/>
              <a:chOff x="9375480" y="1999080"/>
              <a:chExt cx="305640" cy="674640"/>
            </a:xfrm>
          </p:grpSpPr>
          <p:sp>
            <p:nvSpPr>
              <p:cNvPr id="197" name=""/>
              <p:cNvSpPr/>
              <p:nvPr/>
            </p:nvSpPr>
            <p:spPr>
              <a:xfrm>
                <a:off x="9375840" y="2373840"/>
                <a:ext cx="299520" cy="293400"/>
              </a:xfrm>
              <a:prstGeom prst="ellipse">
                <a:avLst/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9528480" y="1999080"/>
                <a:ext cx="0" cy="37476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9375480" y="2373840"/>
                <a:ext cx="305640" cy="29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8458920" y="1324080"/>
              <a:ext cx="50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4ffb"/>
                  </a:solidFill>
                  <a:latin typeface="Times New Roman"/>
                </a:rPr>
                <a:t>35 b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99560" y="162360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4ffb"/>
                  </a:solidFill>
                  <a:latin typeface="Times New Roman"/>
                </a:rPr>
                <a:t>Colector 35 b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66480" y="1623600"/>
              <a:ext cx="50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4ffb"/>
                  </a:solidFill>
                  <a:latin typeface="Times New Roman"/>
                </a:rPr>
                <a:t>35 b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8380800" y="874080"/>
              <a:ext cx="321120" cy="748800"/>
              <a:chOff x="8380800" y="874080"/>
              <a:chExt cx="321120" cy="74880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8380800" y="1154880"/>
                <a:ext cx="321120" cy="206280"/>
                <a:chOff x="8380800" y="1154880"/>
                <a:chExt cx="321120" cy="2062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471880" y="1154880"/>
                  <a:ext cx="230040" cy="206280"/>
                </a:xfrm>
                <a:prstGeom prst="line">
                  <a:avLst/>
                </a:prstGeom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8380800" y="1154880"/>
                  <a:ext cx="254160" cy="206280"/>
                </a:xfrm>
                <a:prstGeom prst="line">
                  <a:avLst/>
                </a:prstGeom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8380800" y="1342080"/>
                <a:ext cx="30564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457120" y="1154880"/>
                <a:ext cx="15264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8533800" y="1342080"/>
                <a:ext cx="0" cy="28080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8533800" y="874080"/>
                <a:ext cx="0" cy="28080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5396400" y="1999080"/>
              <a:ext cx="305640" cy="674640"/>
              <a:chOff x="5396400" y="1999080"/>
              <a:chExt cx="305640" cy="674640"/>
            </a:xfrm>
          </p:grpSpPr>
          <p:sp>
            <p:nvSpPr>
              <p:cNvPr id="212" name=""/>
              <p:cNvSpPr/>
              <p:nvPr/>
            </p:nvSpPr>
            <p:spPr>
              <a:xfrm>
                <a:off x="5396760" y="2373840"/>
                <a:ext cx="299520" cy="293400"/>
              </a:xfrm>
              <a:prstGeom prst="ellipse">
                <a:avLst/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49400" y="1999080"/>
                <a:ext cx="0" cy="37476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5396400" y="2373840"/>
                <a:ext cx="305640" cy="29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8516160" y="881640"/>
              <a:ext cx="79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SRR140/64/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17.5 Gcal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10200" y="1623600"/>
              <a:ext cx="63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160Gcal 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94760" y="1623600"/>
              <a:ext cx="63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160Gcal 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17920" y="1623600"/>
              <a:ext cx="63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160Gcal 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48280" y="1652040"/>
              <a:ext cx="63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160Gcal 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1800" y="1999080"/>
              <a:ext cx="0" cy="2174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43760" y="1999080"/>
              <a:ext cx="0" cy="2174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84760" y="1999080"/>
              <a:ext cx="0" cy="2174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27720" y="2006640"/>
              <a:ext cx="104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2* Colectoare 13 b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8640" y="3634920"/>
              <a:ext cx="9170280" cy="0"/>
            </a:xfrm>
            <a:prstGeom prst="line">
              <a:avLst/>
            </a:prstGeom>
            <a:ln w="507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760" y="3423960"/>
              <a:ext cx="1271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4ffb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1 Colector 1,2 b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13800" y="3641040"/>
              <a:ext cx="0" cy="37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50120" y="4122360"/>
              <a:ext cx="508320" cy="182520"/>
            </a:xfrm>
            <a:prstGeom prst="octagon">
              <a:avLst>
                <a:gd name="adj" fmla="val 29282"/>
              </a:avLst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52920" y="3842640"/>
              <a:ext cx="454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ae00"/>
                  </a:solidFill>
                  <a:latin typeface="Times New Roman"/>
                </a:rPr>
                <a:t>6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216080" y="3900240"/>
              <a:ext cx="158760" cy="149400"/>
              <a:chOff x="1216080" y="3900240"/>
              <a:chExt cx="158760" cy="149400"/>
            </a:xfrm>
          </p:grpSpPr>
          <p:sp>
            <p:nvSpPr>
              <p:cNvPr id="230" name=""/>
              <p:cNvSpPr/>
              <p:nvPr/>
            </p:nvSpPr>
            <p:spPr>
              <a:xfrm>
                <a:off x="1216080" y="3900240"/>
                <a:ext cx="158400" cy="14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88" y="2"/>
                    </a:moveTo>
                    <a:arcTo wR="10800" hR="10800" stAng="-5467356" swAng="53942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88" y="2"/>
                    </a:moveTo>
                    <a:arcTo wR="10800" hR="10800" stAng="-5467356" swAng="5394270"/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16080" y="3901680"/>
                <a:ext cx="158760" cy="14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575"/>
                    </a:moveTo>
                    <a:arcTo wR="10800" hR="10800" stAng="-10728346" swAng="52609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575"/>
                    </a:moveTo>
                    <a:arcTo wR="10800" hR="10800" stAng="-10728346" swAng="5260990"/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206000" y="3980160"/>
              <a:ext cx="0" cy="14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79880" y="3980160"/>
              <a:ext cx="0" cy="14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57560" y="4024080"/>
              <a:ext cx="14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3520" y="3655080"/>
              <a:ext cx="0" cy="15685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54160" y="3655080"/>
              <a:ext cx="0" cy="15685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23120" y="3655080"/>
              <a:ext cx="0" cy="163728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6080" y="4567680"/>
              <a:ext cx="9170280" cy="0"/>
            </a:xfrm>
            <a:prstGeom prst="line">
              <a:avLst/>
            </a:prstGeom>
            <a:ln w="3816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760" y="4323960"/>
              <a:ext cx="1579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35b1b"/>
                  </a:solidFill>
                  <a:latin typeface="Times New Roman"/>
                </a:rPr>
                <a:t>1 Colector 6 bar Ded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06640" y="4186440"/>
              <a:ext cx="171720" cy="182520"/>
            </a:xfrm>
            <a:prstGeom prst="rect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69240" y="4186440"/>
              <a:ext cx="171720" cy="182520"/>
            </a:xfrm>
            <a:prstGeom prst="rect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53480" y="4381560"/>
              <a:ext cx="0" cy="180000"/>
            </a:xfrm>
            <a:prstGeom prst="line">
              <a:avLst/>
            </a:prstGeom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53400" y="4186440"/>
              <a:ext cx="168480" cy="182520"/>
            </a:xfrm>
            <a:prstGeom prst="rect">
              <a:avLst/>
            </a:prstGeom>
            <a:solidFill>
              <a:srgbClr val="f35b1b"/>
            </a:solidFill>
            <a:ln w="1260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52760" y="4098960"/>
              <a:ext cx="452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35b1b"/>
                  </a:solidFill>
                  <a:latin typeface="Times New Roman"/>
                </a:rPr>
                <a:t>BV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12120" y="4098960"/>
              <a:ext cx="380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35b1b"/>
                  </a:solidFill>
                  <a:latin typeface="Times New Roman"/>
                </a:rPr>
                <a:t>BV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96280" y="4098960"/>
              <a:ext cx="380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35b1b"/>
                  </a:solidFill>
                  <a:latin typeface="Times New Roman"/>
                </a:rPr>
                <a:t>BV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50960" y="4180320"/>
              <a:ext cx="361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28440" y="4548960"/>
              <a:ext cx="0" cy="375120"/>
            </a:xfrm>
            <a:prstGeom prst="line">
              <a:avLst/>
            </a:prstGeom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9231840" y="4548960"/>
              <a:ext cx="305640" cy="674640"/>
              <a:chOff x="9231840" y="4548960"/>
              <a:chExt cx="305640" cy="674640"/>
            </a:xfrm>
          </p:grpSpPr>
          <p:sp>
            <p:nvSpPr>
              <p:cNvPr id="250" name=""/>
              <p:cNvSpPr/>
              <p:nvPr/>
            </p:nvSpPr>
            <p:spPr>
              <a:xfrm>
                <a:off x="9232200" y="4923720"/>
                <a:ext cx="299520" cy="293400"/>
              </a:xfrm>
              <a:prstGeom prst="ellipse">
                <a:avLst/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9384840" y="4548960"/>
                <a:ext cx="0" cy="37476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9231840" y="4923720"/>
                <a:ext cx="305640" cy="29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8237160" y="4548960"/>
              <a:ext cx="305640" cy="674640"/>
              <a:chOff x="8237160" y="4548960"/>
              <a:chExt cx="305640" cy="674640"/>
            </a:xfrm>
          </p:grpSpPr>
          <p:sp>
            <p:nvSpPr>
              <p:cNvPr id="254" name=""/>
              <p:cNvSpPr/>
              <p:nvPr/>
            </p:nvSpPr>
            <p:spPr>
              <a:xfrm>
                <a:off x="8237520" y="4923720"/>
                <a:ext cx="299520" cy="293400"/>
              </a:xfrm>
              <a:prstGeom prst="ellipse">
                <a:avLst/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390160" y="4548960"/>
                <a:ext cx="0" cy="37476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8237160" y="4923720"/>
                <a:ext cx="305640" cy="29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5789160" y="4924080"/>
              <a:ext cx="224640" cy="2592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65840" y="505368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641840" y="4924080"/>
              <a:ext cx="248040" cy="258840"/>
              <a:chOff x="4641840" y="4924080"/>
              <a:chExt cx="248040" cy="258840"/>
            </a:xfrm>
          </p:grpSpPr>
          <p:sp>
            <p:nvSpPr>
              <p:cNvPr id="260" name=""/>
              <p:cNvSpPr/>
              <p:nvPr/>
            </p:nvSpPr>
            <p:spPr>
              <a:xfrm flipH="1">
                <a:off x="4665240" y="4924080"/>
                <a:ext cx="224280" cy="25884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4641840" y="505332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4035600" y="5222520"/>
              <a:ext cx="202320" cy="180720"/>
            </a:xfrm>
            <a:prstGeom prst="rect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82600" y="5338080"/>
              <a:ext cx="14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51040" y="5320800"/>
              <a:ext cx="184680" cy="1796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88600" y="5513040"/>
              <a:ext cx="248400" cy="193680"/>
            </a:xfrm>
            <a:prstGeom prst="rect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07640" y="5222520"/>
              <a:ext cx="234000" cy="1807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7280" y="5222520"/>
              <a:ext cx="226080" cy="1807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76120" y="5344200"/>
              <a:ext cx="0" cy="5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48680" y="5409720"/>
              <a:ext cx="120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76120" y="5599080"/>
              <a:ext cx="29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50880" y="5314680"/>
              <a:ext cx="28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7520" y="532080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48720" y="5409720"/>
              <a:ext cx="1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47520" y="5416200"/>
              <a:ext cx="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40800" y="503820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40800" y="5038200"/>
              <a:ext cx="38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47480" y="5038200"/>
              <a:ext cx="0" cy="119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74360" y="5310000"/>
              <a:ext cx="34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52800" y="5211360"/>
              <a:ext cx="35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37840" y="5500440"/>
              <a:ext cx="35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57960" y="5211360"/>
              <a:ext cx="351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05800" y="5211360"/>
              <a:ext cx="349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292600" y="5420880"/>
              <a:ext cx="181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42840" y="5862960"/>
              <a:ext cx="3027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u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19160" y="6087960"/>
              <a:ext cx="531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5520" y="5936400"/>
              <a:ext cx="1144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ea termofic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41880" y="5322240"/>
              <a:ext cx="161640" cy="1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40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40219"/>
                </a:path>
              </a:pathLst>
            </a:custGeom>
            <a:solidFill>
              <a:srgbClr val="f35b1b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43320" y="5324040"/>
              <a:ext cx="16164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" y="10612"/>
                  </a:moveTo>
                  <a:arcTo wR="10800" hR="10800" stAng="-10740219" swAng="52734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" y="10612"/>
                  </a:moveTo>
                  <a:arcTo wR="10800" hR="10800" stAng="-10740219" swAng="5273402"/>
                </a:path>
              </a:pathLst>
            </a:custGeom>
            <a:solidFill>
              <a:srgbClr val="f35b1b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5640" y="5506560"/>
              <a:ext cx="79560" cy="0"/>
            </a:xfrm>
            <a:prstGeom prst="line">
              <a:avLst/>
            </a:prstGeom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68000" y="5610240"/>
              <a:ext cx="509760" cy="180720"/>
            </a:xfrm>
            <a:prstGeom prst="octagon">
              <a:avLst>
                <a:gd name="adj" fmla="val 29282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10360" y="5416200"/>
              <a:ext cx="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35040" y="5416200"/>
              <a:ext cx="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45640" y="4926960"/>
              <a:ext cx="171720" cy="0"/>
            </a:xfrm>
            <a:prstGeom prst="line">
              <a:avLst/>
            </a:prstGeom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53120" y="5122440"/>
              <a:ext cx="358920" cy="0"/>
            </a:xfrm>
            <a:prstGeom prst="line">
              <a:avLst/>
            </a:prstGeom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45640" y="4933440"/>
              <a:ext cx="266400" cy="182520"/>
            </a:xfrm>
            <a:prstGeom prst="line">
              <a:avLst/>
            </a:prstGeom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540520" y="4933440"/>
              <a:ext cx="290160" cy="182520"/>
            </a:xfrm>
            <a:prstGeom prst="line">
              <a:avLst/>
            </a:prstGeom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31680" y="5128560"/>
              <a:ext cx="0" cy="371880"/>
            </a:xfrm>
            <a:prstGeom prst="line">
              <a:avLst/>
            </a:prstGeom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33000" y="5897520"/>
              <a:ext cx="224280" cy="183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09320" y="5989680"/>
              <a:ext cx="1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05280" y="4932000"/>
              <a:ext cx="4557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xS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41680" y="5412960"/>
              <a:ext cx="109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14ffb"/>
                  </a:solidFill>
                  <a:latin typeface="Times New Roman"/>
                </a:rPr>
                <a:t>60Gcal/h      50Gcal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62320" y="5488200"/>
              <a:ext cx="558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14ffb"/>
                  </a:solidFill>
                  <a:latin typeface="Times New Roman"/>
                </a:rPr>
                <a:t>80Gcal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73440" y="5046120"/>
              <a:ext cx="558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14ffb"/>
                  </a:solidFill>
                  <a:latin typeface="Times New Roman"/>
                </a:rPr>
                <a:t>40Gcal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27320" y="5673960"/>
              <a:ext cx="558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14ffb"/>
                  </a:solidFill>
                  <a:latin typeface="Times New Roman"/>
                </a:rPr>
                <a:t>40Gcal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86320" y="5223960"/>
              <a:ext cx="75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35b1b"/>
                  </a:solidFill>
                  <a:latin typeface="Times New Roman"/>
                </a:rPr>
                <a:t>US Govo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30480" y="5824080"/>
              <a:ext cx="224640" cy="2592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24840" y="5973840"/>
              <a:ext cx="9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947120" y="6238080"/>
              <a:ext cx="221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98760" y="6013080"/>
              <a:ext cx="24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98760" y="5788080"/>
              <a:ext cx="0" cy="22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66160" y="5038200"/>
              <a:ext cx="0" cy="29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324480" y="5338080"/>
              <a:ext cx="841320" cy="3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324840" y="537408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166160" y="6238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64800" y="5599080"/>
              <a:ext cx="176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00360" y="5645880"/>
              <a:ext cx="1520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 pompe treapta a IIa 1500 mc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45640" y="571320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 pompe adaos 60mc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93800" y="6087960"/>
              <a:ext cx="224640" cy="183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70120" y="618012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16440" y="6163200"/>
              <a:ext cx="283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33760" y="5898960"/>
              <a:ext cx="382320" cy="338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2120" y="5973840"/>
              <a:ext cx="1011960" cy="1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zervor 500 mc avari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32280" y="6184800"/>
              <a:ext cx="1355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 pompe adaos de avarie 60mc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16920" y="4694040"/>
              <a:ext cx="1187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 pompe tr I iarna 1500 mc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 pompe tr I vara 900 mc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39560" y="5149080"/>
              <a:ext cx="138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 pompe tr I iarna 1500 mc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 pompe tr I vara 900 mc/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1800" y="5599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94120" y="4398840"/>
              <a:ext cx="0" cy="179640"/>
            </a:xfrm>
            <a:prstGeom prst="line">
              <a:avLst/>
            </a:prstGeom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31520" y="4398840"/>
              <a:ext cx="0" cy="179640"/>
            </a:xfrm>
            <a:prstGeom prst="line">
              <a:avLst/>
            </a:prstGeom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66160" y="4050720"/>
              <a:ext cx="1296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35b1b"/>
                  </a:solidFill>
                  <a:latin typeface="Times New Roman"/>
                </a:rPr>
                <a:t>Baterii de vaporizatori 13/6 b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17800" y="4173840"/>
              <a:ext cx="15264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77160" y="4173840"/>
              <a:ext cx="15264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54840" y="4173840"/>
              <a:ext cx="15264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30480" y="5973840"/>
              <a:ext cx="22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76120" y="5898960"/>
              <a:ext cx="24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31560" y="4323960"/>
              <a:ext cx="0" cy="7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78120" y="3873960"/>
              <a:ext cx="985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daos din colecto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Vaporizatori 2 si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8 pompe Sadu 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40320" y="4750560"/>
              <a:ext cx="7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04520" y="4603680"/>
              <a:ext cx="36180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BB I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24000" y="4580280"/>
              <a:ext cx="27576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BV 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16400" y="4584960"/>
              <a:ext cx="27540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BV 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65520" y="4825440"/>
              <a:ext cx="114840" cy="7488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0" y="51"/>
                  </a:moveTo>
                  <a:cubicBezTo>
                    <a:pt x="13" y="0"/>
                    <a:pt x="34" y="24"/>
                    <a:pt x="66" y="45"/>
                  </a:cubicBezTo>
                  <a:cubicBezTo>
                    <a:pt x="72" y="43"/>
                    <a:pt x="80" y="43"/>
                    <a:pt x="84" y="39"/>
                  </a:cubicBezTo>
                  <a:cubicBezTo>
                    <a:pt x="104" y="19"/>
                    <a:pt x="92" y="21"/>
                    <a:pt x="84" y="2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77880" y="4816080"/>
              <a:ext cx="114480" cy="7488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0" y="51"/>
                  </a:moveTo>
                  <a:cubicBezTo>
                    <a:pt x="13" y="0"/>
                    <a:pt x="34" y="24"/>
                    <a:pt x="66" y="45"/>
                  </a:cubicBezTo>
                  <a:cubicBezTo>
                    <a:pt x="72" y="43"/>
                    <a:pt x="80" y="43"/>
                    <a:pt x="84" y="39"/>
                  </a:cubicBezTo>
                  <a:cubicBezTo>
                    <a:pt x="104" y="19"/>
                    <a:pt x="92" y="21"/>
                    <a:pt x="84" y="2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28120" y="4816080"/>
              <a:ext cx="114840" cy="7488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0" y="51"/>
                  </a:moveTo>
                  <a:cubicBezTo>
                    <a:pt x="13" y="0"/>
                    <a:pt x="34" y="24"/>
                    <a:pt x="66" y="45"/>
                  </a:cubicBezTo>
                  <a:cubicBezTo>
                    <a:pt x="72" y="43"/>
                    <a:pt x="80" y="43"/>
                    <a:pt x="84" y="39"/>
                  </a:cubicBezTo>
                  <a:cubicBezTo>
                    <a:pt x="104" y="19"/>
                    <a:pt x="92" y="21"/>
                    <a:pt x="84" y="2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80240" y="4717800"/>
              <a:ext cx="7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52320" y="4731480"/>
              <a:ext cx="71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79560" y="4697280"/>
              <a:ext cx="7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7320" y="4797360"/>
              <a:ext cx="114840" cy="7488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0" y="51"/>
                  </a:moveTo>
                  <a:cubicBezTo>
                    <a:pt x="13" y="0"/>
                    <a:pt x="34" y="24"/>
                    <a:pt x="66" y="45"/>
                  </a:cubicBezTo>
                  <a:cubicBezTo>
                    <a:pt x="72" y="43"/>
                    <a:pt x="80" y="43"/>
                    <a:pt x="84" y="39"/>
                  </a:cubicBezTo>
                  <a:cubicBezTo>
                    <a:pt x="104" y="19"/>
                    <a:pt x="92" y="21"/>
                    <a:pt x="84" y="2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20160" y="4580280"/>
              <a:ext cx="28512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BB 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95480" y="4750560"/>
              <a:ext cx="114480" cy="7488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0" y="51"/>
                  </a:moveTo>
                  <a:cubicBezTo>
                    <a:pt x="13" y="0"/>
                    <a:pt x="34" y="24"/>
                    <a:pt x="66" y="45"/>
                  </a:cubicBezTo>
                  <a:cubicBezTo>
                    <a:pt x="72" y="43"/>
                    <a:pt x="80" y="43"/>
                    <a:pt x="84" y="39"/>
                  </a:cubicBezTo>
                  <a:cubicBezTo>
                    <a:pt x="104" y="19"/>
                    <a:pt x="92" y="21"/>
                    <a:pt x="84" y="2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62400" y="4750560"/>
              <a:ext cx="114480" cy="7488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0" y="51"/>
                  </a:moveTo>
                  <a:cubicBezTo>
                    <a:pt x="13" y="0"/>
                    <a:pt x="34" y="24"/>
                    <a:pt x="66" y="45"/>
                  </a:cubicBezTo>
                  <a:cubicBezTo>
                    <a:pt x="72" y="43"/>
                    <a:pt x="80" y="43"/>
                    <a:pt x="84" y="39"/>
                  </a:cubicBezTo>
                  <a:cubicBezTo>
                    <a:pt x="104" y="19"/>
                    <a:pt x="92" y="21"/>
                    <a:pt x="84" y="2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29040" y="4678560"/>
              <a:ext cx="7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09480" y="4659840"/>
              <a:ext cx="71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24680" y="4589640"/>
              <a:ext cx="28512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BB 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76560" y="4323960"/>
              <a:ext cx="7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c0128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3344760" y="6438960"/>
            <a:ext cx="38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2.2. Schema term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 principiu a CET Go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08:04:38Z</dcterms:created>
  <dc:creator>OFICIU</dc:creator>
  <dc:description/>
  <cp:keywords/>
  <dc:language>en-US</dc:language>
  <cp:lastModifiedBy>Carmen</cp:lastModifiedBy>
  <cp:lastPrinted>2003-04-15T07:37:24Z</cp:lastPrinted>
  <dcterms:modified xsi:type="dcterms:W3CDTF">2007-08-17T06:50:31Z</dcterms:modified>
  <cp:revision>30</cp:revision>
  <dc:subject>schema termica simplificata</dc:subject>
  <dc:title>SCHEMA PRINCIPIU</dc:title>
</cp:coreProperties>
</file>