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723-C6F7-4616-BDA9-52CF411F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1E1-7CD3-4EB9-BD82-FA368987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215-00D0-493D-9B84-A2416B12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682-9F51-43A2-80B0-1508B0F4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12A-8959-44DE-93D1-47C76675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209-4832-42BD-969C-41F96A9B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41C-980C-46BB-98D0-5E910AA2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12B-C141-4CD5-BEA6-A32CDDC4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E72-3DA0-4552-A13D-69B59C63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085-A189-4216-8AD6-8B94D92F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EF3-923C-477D-9A8E-E9427B61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14E-8764-4F61-B209-A8CBC3DB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372EB0F-79C2-46F8-AC64-E07D55EBDA2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53880" y="141120"/>
            <a:ext cx="9185400" cy="6233760"/>
            <a:chOff x="353880" y="141120"/>
            <a:chExt cx="9185400" cy="6233760"/>
          </a:xfrm>
        </p:grpSpPr>
        <p:sp>
          <p:nvSpPr>
            <p:cNvPr id="42" name=""/>
            <p:cNvSpPr/>
            <p:nvPr/>
          </p:nvSpPr>
          <p:spPr>
            <a:xfrm>
              <a:off x="2510280" y="2690640"/>
              <a:ext cx="218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629080" y="2903040"/>
              <a:ext cx="199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10280" y="3115800"/>
              <a:ext cx="218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10280" y="2690640"/>
              <a:ext cx="0" cy="42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1396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16200000">
              <a:off x="25426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54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754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16200000">
              <a:off x="26852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176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176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54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6200000">
              <a:off x="261072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67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467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4672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61396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25426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5754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5754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26852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7176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7176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754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261072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64672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64672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64672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020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20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46720" y="387108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69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 rot="16200000">
              <a:off x="27979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306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306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 rot="16200000">
              <a:off x="294012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732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32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16200000">
              <a:off x="286632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0196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0196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01960" y="1911600"/>
              <a:ext cx="0" cy="2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869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27979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8306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8306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294012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9732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9732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3068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286632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90196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0196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90196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45440" y="36910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45440" y="37530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01960" y="3871080"/>
              <a:ext cx="0" cy="80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244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16200000">
              <a:off x="33411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7392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739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16200000">
              <a:off x="348336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164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64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7392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 rot="16200000">
              <a:off x="340956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452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52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5200" y="190260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33411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37392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373920" y="3241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348336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5164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516480" y="324072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480840" y="3326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516480" y="349308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73920" y="358488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732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6200000">
              <a:off x="30560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8916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91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16200000">
              <a:off x="3198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313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1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916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16200000">
              <a:off x="312444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600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600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0080" y="17697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12732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0560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8916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0891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3198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2313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313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8916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312444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600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1600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1600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39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039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60080" y="3871080"/>
              <a:ext cx="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127320" y="41767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3920" y="439776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160080" y="43444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62960" y="3944880"/>
              <a:ext cx="36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640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640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37680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376800" y="4139640"/>
              <a:ext cx="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8372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8372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53448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534480" y="4139280"/>
              <a:ext cx="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33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6200000">
              <a:off x="36619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946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946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6200000">
              <a:off x="38041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368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36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9468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6200000">
              <a:off x="372996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596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596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596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733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36619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6946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6946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38041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368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836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9468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372996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6596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76596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6596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0944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0944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65960" y="3871080"/>
              <a:ext cx="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733200" y="41738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9440" y="439488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765960" y="43412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6848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3192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3192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98232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982320" y="4139640"/>
              <a:ext cx="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3133440" y="4377240"/>
            <a:ext cx="82800" cy="14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33440" y="437724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3738960" y="4374000"/>
            <a:ext cx="82800" cy="1418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8960" y="437400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412488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6200000">
              <a:off x="4053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8636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86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16200000">
              <a:off x="41961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85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85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8636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 rot="16200000">
              <a:off x="412200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5764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57640" y="1911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2488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4053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08636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0863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41961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2285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2285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8636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412200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15764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15764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15764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011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011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57640" y="38710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24880" y="40158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01120" y="42368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57640" y="41835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6052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23960" y="3998160"/>
              <a:ext cx="10044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23960" y="4036320"/>
              <a:ext cx="10044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37436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74360" y="4139280"/>
              <a:ext cx="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54760" y="3726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73560" y="3788640"/>
              <a:ext cx="6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 rot="5400000">
              <a:off x="4393440" y="370368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80920" y="355824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4852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 rot="16200000">
              <a:off x="43772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096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096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 rot="16200000">
              <a:off x="45194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525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25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0964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16200000">
              <a:off x="444528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809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809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80920" y="1557360"/>
              <a:ext cx="0" cy="6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43772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4096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4096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45194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5525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5525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0964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899960" y="2690640"/>
              <a:ext cx="221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979880" y="2903040"/>
              <a:ext cx="20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899960" y="3115800"/>
              <a:ext cx="221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17200" y="2690640"/>
              <a:ext cx="0" cy="42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840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16200000">
              <a:off x="494676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798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79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16200000">
              <a:off x="50896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24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224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7988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6200000">
              <a:off x="501516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508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508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5080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494676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9798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979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50896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1224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1224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7988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1552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0482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0482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480920" y="328644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1828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6200000">
              <a:off x="52466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794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79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6200000">
              <a:off x="538920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2232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223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7940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6200000">
              <a:off x="531504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506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506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0680" y="197352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31828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52466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2794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79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538920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42232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42232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7940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531504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3506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3506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3506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945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45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50680" y="3871080"/>
              <a:ext cx="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4156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16200000">
              <a:off x="557028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034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03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 rot="16200000">
              <a:off x="57128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4560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456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0340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 rot="16200000">
              <a:off x="563868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43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743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11160" y="1840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64156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557028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6034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603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57128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4560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456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0340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563868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7432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7432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67432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1816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816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74320" y="38710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641560" y="415368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18160" y="43758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674320" y="43221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7720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4064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4064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89104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891040" y="4139280"/>
              <a:ext cx="0" cy="88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5332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16200000">
              <a:off x="58820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148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148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6200000">
              <a:off x="6024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573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57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1480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16200000">
              <a:off x="595008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860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860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19680" y="1699200"/>
              <a:ext cx="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58820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9148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914800" y="3241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24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573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057360" y="324072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021720" y="3326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57360" y="349308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14800" y="358488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80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16200000">
              <a:off x="62085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132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13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16200000">
              <a:off x="63511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838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83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132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16200000">
              <a:off x="627660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126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26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80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62085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24132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4132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63511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838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383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4132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627660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31260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31260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31260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5608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5608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12600" y="38710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280200" y="414936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56080" y="43714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312600" y="431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1548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856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856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52932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529320" y="4139640"/>
              <a:ext cx="0" cy="3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8872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16200000">
              <a:off x="65174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98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498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6200000">
              <a:off x="66596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9240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92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498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 rot="16200000">
              <a:off x="658584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14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14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58872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5400000">
              <a:off x="65174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498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5498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66596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69240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692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98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5400000">
              <a:off x="658584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6214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6214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14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64960" y="36910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64960" y="37530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21480" y="3871080"/>
              <a:ext cx="0" cy="9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1760" y="5203440"/>
              <a:ext cx="156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1760" y="5486760"/>
              <a:ext cx="78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23240" y="4937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600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268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440" y="57538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954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780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948240" y="50259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4780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06740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23920" y="51091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6568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98080" y="5753880"/>
              <a:ext cx="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19808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440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47160" y="575388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94716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1331280" y="540072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4468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8896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21720" y="5753880"/>
              <a:ext cx="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52172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956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32320" y="575388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173232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4824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80640" y="575388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8806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9332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26080" y="57538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02608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2252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400000">
              <a:off x="1722960" y="50259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2252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842120" y="5109120"/>
              <a:ext cx="5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98640" y="51091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44476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3112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4476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4775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775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42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3752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752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244240" y="5841000"/>
              <a:ext cx="26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932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5768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6110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110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678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713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133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208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5193360" y="54867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1216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344920" y="488628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49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712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2498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6000" y="467388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6000" y="41839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6320" y="4288680"/>
              <a:ext cx="44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18560" y="3925800"/>
              <a:ext cx="66960" cy="250200"/>
              <a:chOff x="718560" y="3925800"/>
              <a:chExt cx="66960" cy="250200"/>
            </a:xfrm>
          </p:grpSpPr>
          <p:sp>
            <p:nvSpPr>
              <p:cNvPr id="491" name=""/>
              <p:cNvSpPr/>
              <p:nvPr/>
            </p:nvSpPr>
            <p:spPr>
              <a:xfrm flipV="1">
                <a:off x="718560" y="4008960"/>
                <a:ext cx="66960" cy="1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55640" y="3925800"/>
                <a:ext cx="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05240" y="3784320"/>
              <a:ext cx="100800" cy="99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5240" y="382248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8560" y="352728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56000" y="369396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56000" y="33278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2680" y="3434400"/>
              <a:ext cx="62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2680" y="3323880"/>
              <a:ext cx="62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979560" y="31460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97280" y="32263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77320" y="322956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77320" y="323388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47680" y="323388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7200" y="3186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2640" y="301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7200" y="28767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2640" y="27082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37200" y="25664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2680" y="2569680"/>
              <a:ext cx="92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2680" y="2463480"/>
              <a:ext cx="92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834480" y="2281320"/>
              <a:ext cx="6624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51840" y="236160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880" y="236448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880" y="236916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02240" y="236916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7800" y="27082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881640" y="2463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1098360" y="2463480"/>
              <a:ext cx="66960" cy="411120"/>
              <a:chOff x="1098360" y="2463480"/>
              <a:chExt cx="66960" cy="411120"/>
            </a:xfrm>
          </p:grpSpPr>
          <p:sp>
            <p:nvSpPr>
              <p:cNvPr id="520" name=""/>
              <p:cNvSpPr/>
              <p:nvPr/>
            </p:nvSpPr>
            <p:spPr>
              <a:xfrm>
                <a:off x="1098360" y="2708280"/>
                <a:ext cx="66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1132200" y="246348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flipV="1">
              <a:off x="1417680" y="20710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51880" y="223920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51880" y="636840"/>
              <a:ext cx="0" cy="14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147680" y="1480680"/>
              <a:ext cx="142200" cy="1085760"/>
              <a:chOff x="1147680" y="1480680"/>
              <a:chExt cx="142200" cy="10857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1203840" y="2070720"/>
                <a:ext cx="6624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237680" y="2239200"/>
                <a:ext cx="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236240" y="198216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189080" y="1843560"/>
                <a:ext cx="100800" cy="100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1147680" y="18410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286" y="290"/>
                    </a:moveTo>
                    <a:arcTo wR="10800" hR="10800" stAng="-4601561" swAng="46015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286" y="290"/>
                    </a:moveTo>
                    <a:arcTo wR="10800" hR="10800" stAng="-4601561" swAng="460156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1203840" y="1569240"/>
                <a:ext cx="6624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1236240" y="148068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236240" y="1746360"/>
                <a:ext cx="0" cy="8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33960" y="1486800"/>
              <a:ext cx="71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3960" y="1377360"/>
              <a:ext cx="71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16200000">
              <a:off x="813240" y="14961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30960" y="158400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1000" y="1581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1000" y="137700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981360" y="148176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81360" y="127440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948600" y="10990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82800" y="545040"/>
              <a:ext cx="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8512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8512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0600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0600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4164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4164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0600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0600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9860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9860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1948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948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5512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5512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1948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1948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0380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0380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2432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2432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5996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5996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2432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24320" y="12744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05400" y="99072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05400" y="1052640"/>
              <a:ext cx="11736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2628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2628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6192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6192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2628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2628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7368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7368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9456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9456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2984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2984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9456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9456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7564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7564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9616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9616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3180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3180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9616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96160" y="12744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16200000">
              <a:off x="5826960" y="8690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43240" y="9554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6840" y="9554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 rot="10800000">
              <a:off x="5637960" y="11311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672880" y="957960"/>
              <a:ext cx="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 rot="10800000">
              <a:off x="5989680" y="11311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024600" y="957960"/>
              <a:ext cx="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72880" y="1297800"/>
              <a:ext cx="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3160" y="1297800"/>
              <a:ext cx="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613840" y="142452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13840" y="14868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63760" y="1424520"/>
              <a:ext cx="11736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63760" y="14868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58360" y="2150640"/>
              <a:ext cx="121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58360" y="2041560"/>
              <a:ext cx="121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8271720" y="1911600"/>
              <a:ext cx="270000" cy="235800"/>
              <a:chOff x="8271720" y="1911600"/>
              <a:chExt cx="270000" cy="235800"/>
            </a:xfrm>
          </p:grpSpPr>
          <p:sp>
            <p:nvSpPr>
              <p:cNvPr id="608" name=""/>
              <p:cNvSpPr/>
              <p:nvPr/>
            </p:nvSpPr>
            <p:spPr>
              <a:xfrm flipH="1" rot="16200000">
                <a:off x="8372880" y="1860840"/>
                <a:ext cx="66240" cy="1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8272080" y="194076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8491320" y="194364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541720" y="194832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271720" y="1948320"/>
                <a:ext cx="0" cy="9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7829280" y="193824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7796520" y="17640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29280" y="636840"/>
              <a:ext cx="0" cy="11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959960" y="20412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27200" y="22791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959960" y="244872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8114400" y="20412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81640" y="22791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8114400" y="2448720"/>
              <a:ext cx="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8699040" y="16783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733240" y="184680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31800" y="158976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4280" y="1451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8643240" y="1449000"/>
              <a:ext cx="14148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86" y="290"/>
                  </a:moveTo>
                  <a:arcTo wR="10800" hR="10800" stAng="-4601561" swAng="460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86" y="290"/>
                  </a:moveTo>
                  <a:arcTo wR="10800" hR="10800" stAng="-4601561" swAng="46015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8699040" y="11768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731800" y="108828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731800" y="135396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70440" y="108828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8699040" y="7959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8731800" y="54468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731800" y="97308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73240" y="3115800"/>
              <a:ext cx="99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73240" y="3006720"/>
              <a:ext cx="99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986600" y="2876760"/>
              <a:ext cx="269640" cy="235800"/>
              <a:chOff x="7986600" y="2876760"/>
              <a:chExt cx="269640" cy="235800"/>
            </a:xfrm>
          </p:grpSpPr>
          <p:sp>
            <p:nvSpPr>
              <p:cNvPr id="637" name=""/>
              <p:cNvSpPr/>
              <p:nvPr/>
            </p:nvSpPr>
            <p:spPr>
              <a:xfrm flipH="1" rot="16200000">
                <a:off x="8087760" y="2826000"/>
                <a:ext cx="66240" cy="1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7986960" y="290592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8205840" y="290880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256240" y="291348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986600" y="2913480"/>
                <a:ext cx="0" cy="9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 flipV="1">
              <a:off x="7773120" y="300168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40360" y="32392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73120" y="3409200"/>
              <a:ext cx="0" cy="11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577280" y="311544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44520" y="32392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577280" y="340956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 rot="16200000">
              <a:off x="8283240" y="34898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99520" y="35762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3120" y="35762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42840" y="3836880"/>
              <a:ext cx="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8110080" y="366660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14284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503200" y="3841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470440" y="366660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50320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 rot="16200000">
              <a:off x="8924400" y="34898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40680" y="35762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684280" y="35762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84000" y="3841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8751240" y="366660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878400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144360" y="38419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9111600" y="366660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914436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8812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2248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2594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5940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37676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4109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1096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366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5711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57116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76863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7209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72200" y="5486760"/>
              <a:ext cx="66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9459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9808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803880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80730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84052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84394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394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84967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85312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531280" y="574488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82684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88632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8981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98120" y="574488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9014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9049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04932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91749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92095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2095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932544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93596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35964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81880" y="474444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849672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531280" y="511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531280" y="53805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8865360" y="52138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899560" y="511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899560" y="53805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99520" y="511344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79120" y="287676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28240" y="287676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78400" y="2991960"/>
              <a:ext cx="9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45000" y="2124360"/>
              <a:ext cx="0" cy="86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45000" y="2122560"/>
              <a:ext cx="79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32200" y="2947320"/>
              <a:ext cx="64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74080" y="1911600"/>
              <a:ext cx="0" cy="10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74080" y="1911600"/>
              <a:ext cx="11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60080" y="17697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61920" y="144216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55840" y="1898280"/>
              <a:ext cx="18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52240" y="144216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38400" y="144216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39840" y="1697400"/>
              <a:ext cx="357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57080" y="14421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56360" y="1837800"/>
              <a:ext cx="286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26760" y="15501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27480" y="144216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32000" y="1768320"/>
              <a:ext cx="28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26960" y="144216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74320" y="160632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17040" y="16063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016680" y="1641600"/>
              <a:ext cx="131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1040" y="164160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31040" y="2549160"/>
              <a:ext cx="633600" cy="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85600" y="2687760"/>
              <a:ext cx="9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1964520"/>
              <a:ext cx="0" cy="72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03552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90196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3552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0682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682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3328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965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65680" y="574488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600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3167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20184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0184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269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304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04080" y="57448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61152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776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1152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36439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39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089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541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416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43872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360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743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377784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7784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8451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3880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800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6848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421236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0788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1236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2451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451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101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41428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14288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3692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3444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3786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786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4463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4809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80920" y="57448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781880" y="5123880"/>
              <a:ext cx="20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6486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78224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81500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1500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800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47127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0716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91400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94856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4856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0162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0508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5080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478120" y="54867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97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5629680" y="481500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296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022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55350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88800" y="5474880"/>
              <a:ext cx="54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8258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5860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95332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9875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875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077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112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1208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203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2384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238440" y="5744880"/>
              <a:ext cx="0" cy="6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6196680" y="5115240"/>
              <a:ext cx="66600" cy="361080"/>
              <a:chOff x="6196680" y="5115240"/>
              <a:chExt cx="66600" cy="361080"/>
            </a:xfrm>
          </p:grpSpPr>
          <p:sp>
            <p:nvSpPr>
              <p:cNvPr id="817" name=""/>
              <p:cNvSpPr/>
              <p:nvPr/>
            </p:nvSpPr>
            <p:spPr>
              <a:xfrm flipH="1" flipV="1">
                <a:off x="6196320" y="5211360"/>
                <a:ext cx="6660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230880" y="538056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6230880" y="511524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476040" y="5474880"/>
              <a:ext cx="54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5124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65469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46960" y="574488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64056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66747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74760" y="574488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764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799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993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8914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6925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2568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6517440" y="5115240"/>
              <a:ext cx="66960" cy="361080"/>
              <a:chOff x="6517440" y="5115240"/>
              <a:chExt cx="66960" cy="361080"/>
            </a:xfrm>
          </p:grpSpPr>
          <p:sp>
            <p:nvSpPr>
              <p:cNvPr id="834" name=""/>
              <p:cNvSpPr/>
              <p:nvPr/>
            </p:nvSpPr>
            <p:spPr>
              <a:xfrm flipH="1" flipV="1">
                <a:off x="6517440" y="5211360"/>
                <a:ext cx="66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551280" y="538056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6551280" y="511524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6119640" y="5116680"/>
              <a:ext cx="54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87480" y="540720"/>
              <a:ext cx="774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52600" y="636840"/>
              <a:ext cx="63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6360" y="1970640"/>
              <a:ext cx="18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9209160" y="5877720"/>
              <a:ext cx="3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539280" y="4178160"/>
              <a:ext cx="0" cy="16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8782200" y="4178160"/>
              <a:ext cx="75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569360" y="5947200"/>
              <a:ext cx="14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13360" y="60195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684280" y="61124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8718480" y="601344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718480" y="627912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719920" y="63738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249400" y="60195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319960" y="61124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8354880" y="601344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354880" y="627912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8354520" y="6373800"/>
              <a:ext cx="1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683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884000" y="5874840"/>
              <a:ext cx="1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87240" y="4178160"/>
              <a:ext cx="0" cy="16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887240" y="4176720"/>
              <a:ext cx="61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97652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1840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727040" y="5806800"/>
              <a:ext cx="2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713840" y="587916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1276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5684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423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052600" y="5950080"/>
              <a:ext cx="18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3176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6110280" y="587772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45920" y="4107240"/>
              <a:ext cx="0" cy="17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051320" y="4102560"/>
              <a:ext cx="108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524240" y="594720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2290320" y="584244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2462760" y="584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460960" y="59428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263772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277992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95080" y="6019560"/>
              <a:ext cx="20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2779560" y="601956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946800" y="6089040"/>
              <a:ext cx="252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3474720" y="58424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3612600" y="584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2240" y="594864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1880640" y="61596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3804120" y="5842080"/>
              <a:ext cx="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394704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48120" y="6018120"/>
              <a:ext cx="52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7" name=""/>
            <p:cNvGraphicFramePr/>
            <p:nvPr/>
          </p:nvGraphicFramePr>
          <p:xfrm>
            <a:off x="5643360" y="4354920"/>
            <a:ext cx="82800" cy="1418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43360" y="435492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9" name=""/>
            <p:cNvGraphicFramePr/>
            <p:nvPr/>
          </p:nvGraphicFramePr>
          <p:xfrm>
            <a:off x="6288840" y="4350600"/>
            <a:ext cx="82800" cy="14148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8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88840" y="4350600"/>
                      <a:ext cx="82800" cy="1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1" name=""/>
            <p:cNvSpPr/>
            <p:nvPr/>
          </p:nvSpPr>
          <p:spPr>
            <a:xfrm flipH="1">
              <a:off x="1734120" y="6231960"/>
              <a:ext cx="40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63600" y="4815360"/>
              <a:ext cx="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763600" y="4816800"/>
              <a:ext cx="85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1203480" y="6363360"/>
              <a:ext cx="503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2027520" y="6298560"/>
              <a:ext cx="452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13680" y="37886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623480" y="3791160"/>
              <a:ext cx="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23480" y="4602960"/>
              <a:ext cx="314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711280" y="4673880"/>
              <a:ext cx="0" cy="44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04840" y="4673880"/>
              <a:ext cx="58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46720" y="4744440"/>
              <a:ext cx="48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71880" y="6010560"/>
              <a:ext cx="44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17200" y="4249080"/>
              <a:ext cx="0" cy="176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119360" y="424584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32680" y="4815360"/>
              <a:ext cx="20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76800" y="4886280"/>
              <a:ext cx="19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82320" y="4956840"/>
              <a:ext cx="89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81960" y="4956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36320" y="4602960"/>
              <a:ext cx="0" cy="5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36320" y="4602960"/>
              <a:ext cx="12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11720" y="50277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16400" y="5027760"/>
              <a:ext cx="15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01880" y="4532040"/>
              <a:ext cx="28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01880" y="4532040"/>
              <a:ext cx="0" cy="59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49600" y="431964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78480" y="4319640"/>
              <a:ext cx="0" cy="63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91080" y="4956840"/>
              <a:ext cx="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78480" y="4956840"/>
              <a:ext cx="91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90336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 rot="16200000">
              <a:off x="68320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648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648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 rot="16200000">
              <a:off x="69742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070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070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648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16200000">
              <a:off x="690048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361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9361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36120" y="17697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5400000">
              <a:off x="68320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8648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8648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5400000">
              <a:off x="69742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0070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70070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648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690048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7597800" y="2902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62680" y="119916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77040" y="119916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upare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7080" y="126972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440" y="137592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8160" y="248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8160" y="2367360"/>
              <a:ext cx="235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53880" y="227916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88280" y="255348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upare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9800" y="340776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 Cazanest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0480" y="33368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4800" y="3227760"/>
              <a:ext cx="237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29800" y="412056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 Cazanest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21840" y="450576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z. Me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22520" y="491724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-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9880" y="491724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-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85680" y="469584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-400MV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1760" y="53114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4840" y="532908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4840" y="5041440"/>
              <a:ext cx="24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16480" y="53114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92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232280" y="5311440"/>
              <a:ext cx="283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386720" y="531144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868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470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162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12840" y="547488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 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212840" y="557676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-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280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8408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37880" y="5027760"/>
              <a:ext cx="283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8528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744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1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1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1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756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2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629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124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508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51600" y="5311440"/>
              <a:ext cx="381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3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7375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3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046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3430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423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4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97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4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7920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172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255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086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40080" y="502776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02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224680" y="5470560"/>
              <a:ext cx="381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96120" y="547056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36320" y="509904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G 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34000" y="50990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36320" y="524052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1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24640" y="52405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1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17200" y="531144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468920" y="5306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11640" y="494820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G 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811640" y="506628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B2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933320" y="4319640"/>
              <a:ext cx="5695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ILM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826840" y="4956840"/>
              <a:ext cx="428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898120" y="52891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B2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755560" y="59619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448120" y="59666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43120" y="59666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933320" y="340776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2824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43120" y="3292560"/>
              <a:ext cx="569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oncasar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58204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96940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759880" y="3292560"/>
              <a:ext cx="423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enz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782200" y="359388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328240" y="29649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5 kV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55840" y="1911600"/>
              <a:ext cx="34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39840" y="272196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39840" y="27838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597800" y="1911240"/>
              <a:ext cx="0" cy="80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900560" y="1700640"/>
              <a:ext cx="9259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 Riuren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043120" y="919800"/>
              <a:ext cx="9259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 kV Riuren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15440" y="192492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615440" y="205308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05800" y="779760"/>
              <a:ext cx="7837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RA 3-AMIN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11400" y="66312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El. I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67440" y="8492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710520" y="8492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17640" y="849240"/>
              <a:ext cx="42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7872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7888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8372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85120" y="636840"/>
              <a:ext cx="7124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Electroliza I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52560" y="226584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atia 11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5520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5520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00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000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5400000">
              <a:off x="3198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848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848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2992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2992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550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5550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5136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5136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26744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85600" y="27482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61200" y="25401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34720" y="25401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6040" y="276156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9086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9086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13576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13576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7848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7848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8556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8556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19640" y="293256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119640" y="267300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4404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404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608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7608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693000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2267640" y="371484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2546640" y="371340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6200000">
              <a:off x="285300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6200000">
              <a:off x="2853000" y="43531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6200000">
              <a:off x="3466440" y="4192920"/>
              <a:ext cx="312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346608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43240" y="3553920"/>
              <a:ext cx="405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3052800" y="4170960"/>
              <a:ext cx="454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6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3227040" y="4165560"/>
              <a:ext cx="450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6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3772440" y="4276440"/>
              <a:ext cx="480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5G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6200000">
              <a:off x="385632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6200000">
              <a:off x="4991040" y="371340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6200000">
              <a:off x="536580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6200000">
              <a:off x="4073760" y="3995280"/>
              <a:ext cx="33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8160" y="3407760"/>
              <a:ext cx="3513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63600" y="35539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601128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6200000">
              <a:off x="6210000" y="3637800"/>
              <a:ext cx="522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”0”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5371560" y="433260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6011280" y="432684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5565240" y="3961080"/>
              <a:ext cx="383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6210720" y="3961080"/>
              <a:ext cx="383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932880" y="35164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876360" y="357624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876360" y="36378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930000" y="36115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48800" y="367344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150040" y="4459680"/>
              <a:ext cx="4629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SG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1960" y="6147720"/>
              <a:ext cx="6411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riza Ol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2343960" y="2062080"/>
              <a:ext cx="117000" cy="116640"/>
              <a:chOff x="2343960" y="2062080"/>
              <a:chExt cx="117000" cy="116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343960" y="20620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2373480" y="20908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3100680" y="3996720"/>
              <a:ext cx="117000" cy="116280"/>
              <a:chOff x="3100680" y="3996720"/>
              <a:chExt cx="117000" cy="116280"/>
            </a:xfrm>
          </p:grpSpPr>
          <p:sp>
            <p:nvSpPr>
              <p:cNvPr id="1098" name=""/>
              <p:cNvSpPr/>
              <p:nvPr/>
            </p:nvSpPr>
            <p:spPr>
              <a:xfrm>
                <a:off x="3100680" y="39967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 flipV="1">
                <a:off x="3130200" y="40255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706200" y="3996720"/>
              <a:ext cx="117000" cy="116280"/>
              <a:chOff x="3706200" y="3996720"/>
              <a:chExt cx="117000" cy="116280"/>
            </a:xfrm>
          </p:grpSpPr>
          <p:sp>
            <p:nvSpPr>
              <p:cNvPr id="1101" name=""/>
              <p:cNvSpPr/>
              <p:nvPr/>
            </p:nvSpPr>
            <p:spPr>
              <a:xfrm>
                <a:off x="3706200" y="39967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 flipV="1">
                <a:off x="3735720" y="40255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4565520" y="3996720"/>
              <a:ext cx="117360" cy="116280"/>
              <a:chOff x="4565520" y="3996720"/>
              <a:chExt cx="117360" cy="116280"/>
            </a:xfrm>
          </p:grpSpPr>
          <p:sp>
            <p:nvSpPr>
              <p:cNvPr id="1104" name=""/>
              <p:cNvSpPr/>
              <p:nvPr/>
            </p:nvSpPr>
            <p:spPr>
              <a:xfrm>
                <a:off x="4565520" y="399672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 flipV="1">
                <a:off x="4595040" y="402552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5612040" y="3979080"/>
              <a:ext cx="117360" cy="116280"/>
              <a:chOff x="5612040" y="3979080"/>
              <a:chExt cx="117360" cy="116280"/>
            </a:xfrm>
          </p:grpSpPr>
          <p:sp>
            <p:nvSpPr>
              <p:cNvPr id="1107" name=""/>
              <p:cNvSpPr/>
              <p:nvPr/>
            </p:nvSpPr>
            <p:spPr>
              <a:xfrm>
                <a:off x="5612040" y="397908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 flipV="1">
                <a:off x="5641560" y="40078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6253200" y="3979080"/>
              <a:ext cx="117360" cy="116280"/>
              <a:chOff x="6253200" y="3979080"/>
              <a:chExt cx="117360" cy="116280"/>
            </a:xfrm>
          </p:grpSpPr>
          <p:sp>
            <p:nvSpPr>
              <p:cNvPr id="1110" name=""/>
              <p:cNvSpPr/>
              <p:nvPr/>
            </p:nvSpPr>
            <p:spPr>
              <a:xfrm>
                <a:off x="6253200" y="397908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 flipV="1">
                <a:off x="6282720" y="40078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2842560" y="1973520"/>
              <a:ext cx="117000" cy="116280"/>
              <a:chOff x="2842560" y="1973520"/>
              <a:chExt cx="117000" cy="116280"/>
            </a:xfrm>
          </p:grpSpPr>
          <p:sp>
            <p:nvSpPr>
              <p:cNvPr id="1113" name=""/>
              <p:cNvSpPr/>
              <p:nvPr/>
            </p:nvSpPr>
            <p:spPr>
              <a:xfrm>
                <a:off x="284256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 flipV="1">
                <a:off x="287208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3100680" y="1973520"/>
              <a:ext cx="117000" cy="116280"/>
              <a:chOff x="3100680" y="1973520"/>
              <a:chExt cx="117000" cy="116280"/>
            </a:xfrm>
          </p:grpSpPr>
          <p:sp>
            <p:nvSpPr>
              <p:cNvPr id="1116" name=""/>
              <p:cNvSpPr/>
              <p:nvPr/>
            </p:nvSpPr>
            <p:spPr>
              <a:xfrm>
                <a:off x="310068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313020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3385800" y="1973520"/>
              <a:ext cx="117000" cy="116280"/>
              <a:chOff x="3385800" y="1973520"/>
              <a:chExt cx="117000" cy="116280"/>
            </a:xfrm>
          </p:grpSpPr>
          <p:sp>
            <p:nvSpPr>
              <p:cNvPr id="1119" name=""/>
              <p:cNvSpPr/>
              <p:nvPr/>
            </p:nvSpPr>
            <p:spPr>
              <a:xfrm>
                <a:off x="338580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 flipV="1">
                <a:off x="341532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4098240" y="1973520"/>
              <a:ext cx="117360" cy="116280"/>
              <a:chOff x="4098240" y="1973520"/>
              <a:chExt cx="117360" cy="116280"/>
            </a:xfrm>
          </p:grpSpPr>
          <p:sp>
            <p:nvSpPr>
              <p:cNvPr id="1122" name=""/>
              <p:cNvSpPr/>
              <p:nvPr/>
            </p:nvSpPr>
            <p:spPr>
              <a:xfrm>
                <a:off x="4098240" y="197352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flipV="1">
                <a:off x="4127760" y="200232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4423320" y="1973520"/>
              <a:ext cx="117000" cy="116280"/>
              <a:chOff x="4423320" y="1973520"/>
              <a:chExt cx="117000" cy="116280"/>
            </a:xfrm>
          </p:grpSpPr>
          <p:sp>
            <p:nvSpPr>
              <p:cNvPr id="1125" name=""/>
              <p:cNvSpPr/>
              <p:nvPr/>
            </p:nvSpPr>
            <p:spPr>
              <a:xfrm>
                <a:off x="442332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 flipV="1">
                <a:off x="445284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5291640" y="2004480"/>
              <a:ext cx="117000" cy="116640"/>
              <a:chOff x="5291640" y="2004480"/>
              <a:chExt cx="117000" cy="116640"/>
            </a:xfrm>
          </p:grpSpPr>
          <p:sp>
            <p:nvSpPr>
              <p:cNvPr id="1128" name=""/>
              <p:cNvSpPr/>
              <p:nvPr/>
            </p:nvSpPr>
            <p:spPr>
              <a:xfrm>
                <a:off x="5291640" y="20044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 flipV="1">
                <a:off x="5321160" y="20332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598608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5616360" y="2004480"/>
              <a:ext cx="117360" cy="116640"/>
              <a:chOff x="5616360" y="2004480"/>
              <a:chExt cx="117360" cy="116640"/>
            </a:xfrm>
          </p:grpSpPr>
          <p:sp>
            <p:nvSpPr>
              <p:cNvPr id="1132" name=""/>
              <p:cNvSpPr/>
              <p:nvPr/>
            </p:nvSpPr>
            <p:spPr>
              <a:xfrm>
                <a:off x="561636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564588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6253200" y="2004480"/>
              <a:ext cx="117360" cy="116640"/>
              <a:chOff x="6253200" y="2004480"/>
              <a:chExt cx="117360" cy="116640"/>
            </a:xfrm>
          </p:grpSpPr>
          <p:sp>
            <p:nvSpPr>
              <p:cNvPr id="1135" name=""/>
              <p:cNvSpPr/>
              <p:nvPr/>
            </p:nvSpPr>
            <p:spPr>
              <a:xfrm>
                <a:off x="625320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 flipV="1">
                <a:off x="628272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6560280" y="2004480"/>
              <a:ext cx="117000" cy="116640"/>
              <a:chOff x="6560280" y="2004480"/>
              <a:chExt cx="117000" cy="116640"/>
            </a:xfrm>
          </p:grpSpPr>
          <p:sp>
            <p:nvSpPr>
              <p:cNvPr id="1138" name=""/>
              <p:cNvSpPr/>
              <p:nvPr/>
            </p:nvSpPr>
            <p:spPr>
              <a:xfrm>
                <a:off x="6560280" y="20044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 flipV="1">
                <a:off x="6589800" y="20332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6876360" y="2004480"/>
              <a:ext cx="117360" cy="116640"/>
              <a:chOff x="6876360" y="2004480"/>
              <a:chExt cx="117360" cy="116640"/>
            </a:xfrm>
          </p:grpSpPr>
          <p:sp>
            <p:nvSpPr>
              <p:cNvPr id="1141" name=""/>
              <p:cNvSpPr/>
              <p:nvPr/>
            </p:nvSpPr>
            <p:spPr>
              <a:xfrm>
                <a:off x="687636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690588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>
              <a:off x="3127320" y="141120"/>
              <a:ext cx="27086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chema electrica monofila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2888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1061640" y="57535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0616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1003680" y="5820120"/>
              <a:ext cx="117000" cy="116280"/>
              <a:chOff x="1003680" y="5820120"/>
              <a:chExt cx="117000" cy="116280"/>
            </a:xfrm>
          </p:grpSpPr>
          <p:sp>
            <p:nvSpPr>
              <p:cNvPr id="1148" name=""/>
              <p:cNvSpPr/>
              <p:nvPr/>
            </p:nvSpPr>
            <p:spPr>
              <a:xfrm>
                <a:off x="1003680" y="58201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1033200" y="58489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 flipH="1">
              <a:off x="758520" y="4673880"/>
              <a:ext cx="65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695160" y="4744440"/>
              <a:ext cx="117000" cy="116640"/>
              <a:chOff x="695160" y="4744440"/>
              <a:chExt cx="117000" cy="116640"/>
            </a:xfrm>
          </p:grpSpPr>
          <p:sp>
            <p:nvSpPr>
              <p:cNvPr id="1152" name=""/>
              <p:cNvSpPr/>
              <p:nvPr/>
            </p:nvSpPr>
            <p:spPr>
              <a:xfrm>
                <a:off x="695160" y="474444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724680" y="477324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 flipV="1">
              <a:off x="833256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830088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817668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814500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176680" y="4461480"/>
              <a:ext cx="0" cy="74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8118720" y="4722480"/>
              <a:ext cx="117360" cy="116640"/>
              <a:chOff x="8118720" y="4722480"/>
              <a:chExt cx="117360" cy="116640"/>
            </a:xfrm>
          </p:grpSpPr>
          <p:sp>
            <p:nvSpPr>
              <p:cNvPr id="1160" name=""/>
              <p:cNvSpPr/>
              <p:nvPr/>
            </p:nvSpPr>
            <p:spPr>
              <a:xfrm>
                <a:off x="8118720" y="4722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 flipV="1">
                <a:off x="8148240" y="4751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8332560" y="460296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8274600" y="4939200"/>
              <a:ext cx="117360" cy="116640"/>
              <a:chOff x="8274600" y="4939200"/>
              <a:chExt cx="117360" cy="116640"/>
            </a:xfrm>
          </p:grpSpPr>
          <p:sp>
            <p:nvSpPr>
              <p:cNvPr id="1164" name=""/>
              <p:cNvSpPr/>
              <p:nvPr/>
            </p:nvSpPr>
            <p:spPr>
              <a:xfrm>
                <a:off x="8274600" y="493920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 flipV="1">
                <a:off x="8304120" y="496800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 flipV="1">
              <a:off x="928548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925380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285480" y="460296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9227520" y="4939200"/>
              <a:ext cx="117360" cy="116640"/>
              <a:chOff x="9227520" y="4939200"/>
              <a:chExt cx="117360" cy="116640"/>
            </a:xfrm>
          </p:grpSpPr>
          <p:sp>
            <p:nvSpPr>
              <p:cNvPr id="1170" name=""/>
              <p:cNvSpPr/>
              <p:nvPr/>
            </p:nvSpPr>
            <p:spPr>
              <a:xfrm>
                <a:off x="9227520" y="493920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 flipV="1">
                <a:off x="9257040" y="496800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9040680" y="4459680"/>
              <a:ext cx="4629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SG 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2363400" y="6448320"/>
            <a:ext cx="29152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t">
            <a:spAutoFit/>
          </a:bodyPr>
          <a:p>
            <a:pPr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. nr. 2.4 Schema electric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ă monifilară a CET Gov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05:05:17Z</dcterms:created>
  <dc:creator>CET</dc:creator>
  <dc:description/>
  <dc:language>en-US</dc:language>
  <cp:lastModifiedBy>Carmen</cp:lastModifiedBy>
  <cp:lastPrinted>2000-08-11T05:07:41Z</cp:lastPrinted>
  <dcterms:modified xsi:type="dcterms:W3CDTF">2007-08-15T15:22:00Z</dcterms:modified>
  <cp:revision>4</cp:revision>
  <dc:subject/>
  <dc:title>No Slide Title</dc:title>
</cp:coreProperties>
</file>